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CA2AB-4176-4F0B-B37B-0ACA6F291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299C3-C5A8-4CE0-9EE6-D994D88C1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EBC57-5A6F-4862-8E13-7BE511210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AE2B3-ADFC-4793-A6A9-BF996154A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DADF8-2D7B-4526-808C-84DFE3490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89C41-582C-47F1-88C7-DB43E618C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C95E5-767A-4BED-B5F8-495D8BAB7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5AC9E-6470-4F93-A293-6D7F8E9E0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0DD09-F458-4B08-86C9-A4C398D6C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7F9EB-443A-4E8F-BEB3-86AB3A933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84D93-B7D9-4433-A0D7-AD7871922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987E1-3126-4F99-81D2-BEC8FD3CE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68A11-320E-4045-931F-65018B3C02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03240" y="684360"/>
          <a:ext cx="5538960" cy="396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03240" y="684360"/>
                    <a:ext cx="5538960" cy="396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1803240" y="684360"/>
          <a:ext cx="5538960" cy="388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03240" y="684360"/>
                    <a:ext cx="5538960" cy="388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0T20:30:40Z</dcterms:created>
  <dc:creator>Kwang Jin Koh</dc:creator>
  <dc:description/>
  <dc:language>en-US</dc:language>
  <cp:lastModifiedBy>Kwang Jin Koh</cp:lastModifiedBy>
  <dcterms:modified xsi:type="dcterms:W3CDTF">2008-08-10T20:32:59Z</dcterms:modified>
  <cp:revision>2</cp:revision>
  <dc:subject/>
  <dc:title>Slide 1</dc:title>
</cp:coreProperties>
</file>