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35E-4C08-4E4D-835D-0EEF133C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B35-5E9E-44C2-A5A5-99105BC4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D82-7046-4EFE-A757-F0E5571A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775-7D4B-4AF7-AB62-CBF39F99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AA2-35CE-458F-BA67-B96725F1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355-CDAF-443E-A74F-08020A69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0E9-2E83-49E6-947A-246AE0CD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BB8-16F1-40F5-8ABF-AEA71A7A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DF5-91B1-4E98-9D7C-A3A2E3DE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2EB-1F45-40B7-A5A6-7D045679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C88-66AF-462A-BEA5-77D0CF8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322-6DD7-4D2D-96BB-A8506CF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4FE6-C2EB-4C8C-B413-C8732B43C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03240" y="684360"/>
          <a:ext cx="553896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684360"/>
                    <a:ext cx="55389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803240" y="684360"/>
          <a:ext cx="55389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684360"/>
                    <a:ext cx="55389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0:30:40Z</dcterms:created>
  <dc:creator>Kwang Jin Koh</dc:creator>
  <dc:description/>
  <dc:language>en-US</dc:language>
  <cp:lastModifiedBy>Kwang Jin Koh</cp:lastModifiedBy>
  <dcterms:modified xsi:type="dcterms:W3CDTF">2008-08-10T20:32:59Z</dcterms:modified>
  <cp:revision>2</cp:revision>
  <dc:subject/>
  <dc:title>Slide 1</dc:title>
</cp:coreProperties>
</file>