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F54-328B-46A7-B803-5CB12211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D7D-2504-4DEE-B859-23A408D9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BC3-066C-45F7-93B3-BDB4178C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60C-63A2-440A-B36B-E5354CF7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2163-3BB2-4206-98AE-B11DECFF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495-F6EF-4E26-A080-ED5EE297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B327-02F0-4409-AEDE-F83D7A97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8744-25BE-47A2-B411-3752CC08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8312-9C79-4888-A3C9-8AB6D88A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9713-F76D-46F3-B6D2-874DEDF8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F023-2C92-4E37-8429-FFF6CE34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688-52D0-46F4-BE66-95CDBD99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EFE6-47D3-4052-BA77-DB858EF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F1A6-E87D-41C6-A618-25CD9725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12C5-6CB5-4838-916F-90865DFA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A945-2002-4552-B5ED-27CCC48A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C9C8-AC60-483F-8895-9FCE826A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971-A76A-4291-9341-0B1F0C42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F01-44D3-427C-8F3A-42FD3E87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B3F-E278-4A28-B138-161BBE3B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B14-A78A-453B-A0CB-E12961D7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CD9-3500-4B13-9140-87E98B3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CCA-9FCB-4797-8C71-37F7202F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733-DEFF-4270-BE72-504577FF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9E4A-0186-4BB4-B70D-A1AD050D11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4A2-BBDC-405D-80F1-933158F7D1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upling Element and Coupled circui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oupled indu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deal transfor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ontrolled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1600200"/>
          <a:ext cx="90324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903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200400" y="1981080"/>
          <a:ext cx="79380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981080"/>
                    <a:ext cx="793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666880" y="2514600"/>
          <a:ext cx="194328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14600"/>
                    <a:ext cx="1943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10120" y="1154160"/>
            <a:ext cx="58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eful to define a reciprocal inductance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080" y="20574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638440" y="2895480"/>
          <a:ext cx="1933560" cy="3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8440" y="2895480"/>
                    <a:ext cx="19335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057400" y="3429000"/>
          <a:ext cx="475776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3429000"/>
                    <a:ext cx="4757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20200" y="33894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5800" y="42274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 the current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905120" y="4495680"/>
          <a:ext cx="4529160" cy="979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4495680"/>
                    <a:ext cx="4529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828800" y="5257800"/>
          <a:ext cx="4635360" cy="979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257800"/>
                    <a:ext cx="4635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usoid stead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30440" y="1905120"/>
          <a:ext cx="221616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0440" y="1905120"/>
                    <a:ext cx="22161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514600" y="2612880"/>
          <a:ext cx="228600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612880"/>
                    <a:ext cx="2286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0480" y="3440160"/>
            <a:ext cx="607104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and parallel connections of coupled i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4114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 of series and parallel connections of coupled inductors can be determined as shown in the exampl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23880" y="2590920"/>
          <a:ext cx="25830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90920"/>
                    <a:ext cx="2583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800600" y="2514600"/>
          <a:ext cx="308628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30862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952880" y="3505320"/>
          <a:ext cx="25909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505320"/>
                    <a:ext cx="2590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4360" y="130644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2120" y="183996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5 shows two coupled inductors connected in series.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 between the input termi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0920" y="3962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3886200"/>
          <a:ext cx="236196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886200"/>
                    <a:ext cx="23619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47847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15200" y="4038480"/>
                <a:ext cx="1066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6" name=""/>
          <p:cNvGraphicFramePr/>
          <p:nvPr/>
        </p:nvGraphicFramePr>
        <p:xfrm>
          <a:off x="4876920" y="4648320"/>
          <a:ext cx="325908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648320"/>
                    <a:ext cx="32590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800600" y="5029200"/>
                <a:ext cx="1523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6326280" y="519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219320" y="2427120"/>
          <a:ext cx="30477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27120"/>
                    <a:ext cx="30477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816440" y="2351160"/>
          <a:ext cx="3086280" cy="88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6440" y="2351160"/>
                    <a:ext cx="30862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875120" y="3341520"/>
          <a:ext cx="27781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5120" y="3341520"/>
                    <a:ext cx="27781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610200" y="114300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7960" y="167652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6 shows two coupled inductors connected in series.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 between the input termi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6760" y="3798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64160" y="3722760"/>
          <a:ext cx="236196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4160" y="3722760"/>
                    <a:ext cx="23619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4800600" y="444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331040" y="3875040"/>
                <a:ext cx="1066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084640" y="4484520"/>
          <a:ext cx="287352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84640" y="4484520"/>
                    <a:ext cx="2873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898880" y="4865760"/>
          <a:ext cx="135756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98880" y="4865760"/>
                    <a:ext cx="13575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342480" y="503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8080" y="5675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828800" y="5715000"/>
          <a:ext cx="242568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715000"/>
                    <a:ext cx="24256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498560" y="57150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ries ind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838080" y="2666880"/>
          <a:ext cx="342900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66880"/>
                    <a:ext cx="342900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029200" y="2514600"/>
                <a:ext cx="31240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7" name=""/>
          <p:cNvGraphicFramePr/>
          <p:nvPr/>
        </p:nvGraphicFramePr>
        <p:xfrm>
          <a:off x="5029200" y="4876920"/>
          <a:ext cx="320040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876920"/>
                    <a:ext cx="32004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91600" y="1332000"/>
            <a:ext cx="125820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8320" y="1916280"/>
            <a:ext cx="82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upled inductors are connected in parallel in Fig 6.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760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029200" y="3657600"/>
          <a:ext cx="320040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657600"/>
                    <a:ext cx="32004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05120" y="2666880"/>
          <a:ext cx="48006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666880"/>
                    <a:ext cx="48006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276720" y="3505320"/>
          <a:ext cx="190476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5320"/>
                    <a:ext cx="1904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971800" y="4267080"/>
          <a:ext cx="373392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267080"/>
                    <a:ext cx="37339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4800" y="115416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743200" y="1371600"/>
          <a:ext cx="43434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1371600"/>
                    <a:ext cx="43434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819520" y="2057400"/>
          <a:ext cx="403848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2057400"/>
                    <a:ext cx="40384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95440" y="2627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V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6880" y="32367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tegration of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8800" y="4303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819520" y="4800600"/>
          <a:ext cx="1523880" cy="8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800600"/>
                    <a:ext cx="15238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49748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8080" y="5675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540160" y="5715000"/>
          <a:ext cx="2373120" cy="37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0160" y="5715000"/>
                    <a:ext cx="2373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22240" y="56754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arallel ind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"/>
          <p:cNvSpPr/>
          <p:nvPr/>
        </p:nvSpPr>
        <p:spPr>
          <a:xfrm>
            <a:off x="366840" y="1066680"/>
            <a:ext cx="810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transformer is very useful for circuit calculation. Ideal trans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upled inductor with th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36520" y="1905120"/>
            <a:ext cx="625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 n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eakage flux and the coupling coefficient is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e self induc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360" y="3048120"/>
            <a:ext cx="359280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winding ideal trans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981080" y="3809880"/>
          <a:ext cx="4624560" cy="17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09880"/>
                    <a:ext cx="462456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747720" y="4456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85800" y="1981080"/>
                <a:ext cx="306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5" name=""/>
          <p:cNvGraphicFramePr/>
          <p:nvPr/>
        </p:nvGraphicFramePr>
        <p:xfrm>
          <a:off x="2743200" y="2362320"/>
          <a:ext cx="317016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170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95280" y="2743200"/>
          <a:ext cx="1295640" cy="95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743200"/>
                    <a:ext cx="129564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42200" y="1219320"/>
            <a:ext cx="85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7 shows an ideal two-winding transformer. Coils are wound on i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c core to produce flux. Voltages is Induced on each w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600" y="1981080"/>
            <a:ext cx="44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is the flux of a one-turn coil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1520" y="30481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                          and                          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276720" y="2766960"/>
          <a:ext cx="129528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766960"/>
                    <a:ext cx="129528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362320" y="3581280"/>
          <a:ext cx="423864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581280"/>
                    <a:ext cx="42386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519480" y="4608360"/>
            <a:ext cx="72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rms of magnetomotive force (mmf) and magnetic reluctance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7162920" y="4572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2787480" y="5105520"/>
          <a:ext cx="2095560" cy="92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87480" y="5105520"/>
                    <a:ext cx="20955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114800" y="1523880"/>
                <a:ext cx="407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2" name=""/>
          <p:cNvGraphicFramePr/>
          <p:nvPr/>
        </p:nvGraphicFramePr>
        <p:xfrm>
          <a:off x="2590920" y="1600200"/>
          <a:ext cx="37440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0200"/>
                    <a:ext cx="374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666880" y="2057400"/>
          <a:ext cx="187344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057400"/>
                    <a:ext cx="1873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09760" y="1535040"/>
            <a:ext cx="63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ermeability      is infinite         becomes zero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14600" y="2743200"/>
          <a:ext cx="45720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743200"/>
                    <a:ext cx="4572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518400" y="29829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9480" y="384660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1) and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209680" y="4267080"/>
          <a:ext cx="484344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267080"/>
                    <a:ext cx="48434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22720" y="5013360"/>
            <a:ext cx="78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age     does not depend on     or       but it depends only 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969920" y="4952880"/>
                <a:ext cx="392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35" name=""/>
          <p:cNvGraphicFramePr/>
          <p:nvPr/>
        </p:nvGraphicFramePr>
        <p:xfrm>
          <a:off x="4572000" y="4952880"/>
          <a:ext cx="28584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285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205240" y="4952880"/>
          <a:ext cx="35748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05240" y="4952880"/>
                    <a:ext cx="357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8077320" y="4952880"/>
          <a:ext cx="4284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77320" y="4952880"/>
                    <a:ext cx="428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ultiple w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09480" y="1905120"/>
          <a:ext cx="25527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25527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648320" y="2362320"/>
                <a:ext cx="3284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6" name=""/>
          <p:cNvGraphicFramePr/>
          <p:nvPr/>
        </p:nvGraphicFramePr>
        <p:xfrm>
          <a:off x="4724280" y="2971800"/>
          <a:ext cx="204012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971800"/>
                    <a:ext cx="20401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7089480" y="32004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qual volt/ 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14600" y="55738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upling Element and Coupled circui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d elements have more that one branch and branch voltages or branch currents depend on other branches. The characteristics and properties of coupling element will be consid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9960" y="2438280"/>
            <a:ext cx="248184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d i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1600" y="2982960"/>
            <a:ext cx="54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ils in a close proximity is shown in Fig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33720" y="3352680"/>
          <a:ext cx="3504960" cy="20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350496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834920" y="556272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1 Coupled coil and reference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7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33520" y="2209680"/>
          <a:ext cx="426708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42670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33520" y="4191120"/>
                <a:ext cx="457200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486400" y="44956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56" name=""/>
          <p:cNvGraphicFramePr/>
          <p:nvPr/>
        </p:nvGraphicFramePr>
        <p:xfrm>
          <a:off x="457200" y="5257800"/>
          <a:ext cx="1944720" cy="8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257800"/>
                    <a:ext cx="1944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Impedance transformat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43000" y="4343400"/>
          <a:ext cx="556272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343400"/>
                    <a:ext cx="5562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17680" y="1230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5160" y="1230480"/>
            <a:ext cx="27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inusoid stea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143000" y="1738440"/>
          <a:ext cx="4724280" cy="22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38440"/>
                    <a:ext cx="472428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310080" y="313524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"/>
          <p:cNvSpPr/>
          <p:nvPr/>
        </p:nvSpPr>
        <p:spPr>
          <a:xfrm>
            <a:off x="466560" y="1066680"/>
            <a:ext cx="86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sources are used in electronic device modeling. There four ki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ntrolled sourc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29040" y="1828800"/>
            <a:ext cx="424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curre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curre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voltag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voltag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914400" y="2971800"/>
          <a:ext cx="647712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71800"/>
                    <a:ext cx="64771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7757640" y="54212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"/>
          <p:cNvSpPr/>
          <p:nvPr/>
        </p:nvSpPr>
        <p:spPr>
          <a:xfrm>
            <a:off x="586080" y="161136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current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391520" y="1371600"/>
                <a:ext cx="91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4723200" y="16002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3720" y="259092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current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315200" y="2209680"/>
          <a:ext cx="121932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209680"/>
                    <a:ext cx="12193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4797720" y="259092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onduc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5160" y="373392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voltage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589880" y="3505320"/>
          <a:ext cx="8683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9880" y="3505320"/>
                    <a:ext cx="868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4953240" y="3733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9680" y="4876920"/>
            <a:ext cx="41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voltage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7626240" y="4648320"/>
          <a:ext cx="94932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6240" y="4648320"/>
                    <a:ext cx="94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5026680" y="487692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962520" y="2209680"/>
          <a:ext cx="50274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09680"/>
                    <a:ext cx="50274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600200" y="2666880"/>
                <a:ext cx="18511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92" name=""/>
          <p:cNvGraphicFramePr/>
          <p:nvPr/>
        </p:nvGraphicFramePr>
        <p:xfrm>
          <a:off x="1523880" y="3124080"/>
          <a:ext cx="243864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2438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442080" y="1230480"/>
            <a:ext cx="13129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3800" y="1687680"/>
            <a:ext cx="62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output voltage from the circuit of Fig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6640" y="41911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1360" y="23734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4343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676520" y="4214880"/>
          <a:ext cx="4647960" cy="17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214880"/>
                    <a:ext cx="46479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38080" y="2286000"/>
          <a:ext cx="518184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518184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1219320" y="4448160"/>
          <a:ext cx="548640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48160"/>
                    <a:ext cx="54864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7560" y="137160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0000" y="182880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ode voltage from the circuit of Fig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49960" y="30481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2800" y="4049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295280" y="5181480"/>
          <a:ext cx="3429000" cy="8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34290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981080" y="1219320"/>
          <a:ext cx="579132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7913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9480" y="1752480"/>
                <a:ext cx="978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6" name=""/>
          <p:cNvGraphicFramePr/>
          <p:nvPr/>
        </p:nvGraphicFramePr>
        <p:xfrm>
          <a:off x="1828800" y="2057400"/>
          <a:ext cx="594360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057400"/>
                    <a:ext cx="59436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517680" y="29829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.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28800" y="2819520"/>
          <a:ext cx="594360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819520"/>
                    <a:ext cx="59436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608400" y="3886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752480" y="3809880"/>
          <a:ext cx="502920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3809880"/>
                    <a:ext cx="5029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22280" y="4876920"/>
          <a:ext cx="8928000" cy="96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2280" y="4876920"/>
                    <a:ext cx="8928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72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2971800" y="4343400"/>
          <a:ext cx="762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34340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286000" y="182880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31" name=""/>
          <p:cNvGraphicFramePr/>
          <p:nvPr/>
        </p:nvGraphicFramePr>
        <p:xfrm>
          <a:off x="1905120" y="3200400"/>
          <a:ext cx="57610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200400"/>
                    <a:ext cx="5761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670320" y="130644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8880" y="26020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6000" y="4343400"/>
            <a:ext cx="36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5) and (6)          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6720" y="434340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0" y="4343400"/>
          <a:ext cx="76032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343400"/>
                    <a:ext cx="7603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380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971800" y="2514600"/>
                <a:ext cx="38862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586440" y="213372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power entering the two por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3840" y="3135240"/>
            <a:ext cx="45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either          or           is zero t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133720" y="3124080"/>
                <a:ext cx="68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45" name=""/>
          <p:cNvGraphicFramePr/>
          <p:nvPr/>
        </p:nvGraphicFramePr>
        <p:xfrm>
          <a:off x="3200400" y="3124080"/>
          <a:ext cx="6224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124080"/>
                    <a:ext cx="6224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971800" y="3581280"/>
          <a:ext cx="232560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581280"/>
                    <a:ext cx="23256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41960" y="4125960"/>
            <a:ext cx="31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is connected at po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011240" y="4114800"/>
          <a:ext cx="43668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1240" y="4114800"/>
                    <a:ext cx="4366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4114800" y="4114800"/>
          <a:ext cx="1401840" cy="4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114800"/>
                    <a:ext cx="1401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745560" y="46594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514600" y="4572000"/>
          <a:ext cx="1755720" cy="55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572000"/>
                    <a:ext cx="17557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664200" y="5192640"/>
            <a:ext cx="52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entering a two port is always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"/>
          <p:cNvSpPr/>
          <p:nvPr/>
        </p:nvSpPr>
        <p:spPr>
          <a:xfrm>
            <a:off x="289440" y="130644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960" y="1992240"/>
            <a:ext cx="79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circuit of Fig. 13 in sinusoid steady-state. Find th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 of the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754280" y="2895480"/>
          <a:ext cx="40370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2895480"/>
                    <a:ext cx="40370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3201480" y="53341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flux is produced by each coil by th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66680" y="2057400"/>
                <a:ext cx="197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3886200" y="2057400"/>
          <a:ext cx="198108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057400"/>
                    <a:ext cx="1981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13720" y="2703600"/>
            <a:ext cx="66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       and          are nonlinear function of         and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47920" y="2666880"/>
          <a:ext cx="3348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666880"/>
                    <a:ext cx="33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438280" y="2666880"/>
          <a:ext cx="3970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2666880"/>
                    <a:ext cx="397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86400" y="2666880"/>
          <a:ext cx="2430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2666880"/>
                    <a:ext cx="243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324480" y="2666880"/>
          <a:ext cx="3049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2666880"/>
                    <a:ext cx="30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44240" y="3313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Faraday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3809880"/>
          <a:ext cx="358164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3809880"/>
                    <a:ext cx="35816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722840" y="3886200"/>
          <a:ext cx="3738600" cy="94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2840" y="3886200"/>
                    <a:ext cx="3738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209680" y="990720"/>
                <a:ext cx="186552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752480" y="2895480"/>
                <a:ext cx="40388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07600" y="4354560"/>
            <a:ext cx="79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 if             the input impedance can be negative and this two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becomes a negative impedance conver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523880" y="434340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495680" cy="533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time-invariant coupled i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24280" y="2590920"/>
          <a:ext cx="301644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590920"/>
                    <a:ext cx="30164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916920" y="205740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lux is a linear function of curr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76480" y="2590920"/>
          <a:ext cx="2984400" cy="47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6480" y="2590920"/>
                    <a:ext cx="29844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42880" y="3232080"/>
          <a:ext cx="260676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2880" y="3232080"/>
                    <a:ext cx="26067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952880" y="3200400"/>
          <a:ext cx="2702160" cy="87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200400"/>
                    <a:ext cx="27021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2480" y="308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2720" y="419112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usoid stead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4749840"/>
          <a:ext cx="295272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4749840"/>
                    <a:ext cx="2952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724280" y="4724280"/>
          <a:ext cx="2921040" cy="47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4724280"/>
                    <a:ext cx="2921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93640" y="5599080"/>
            <a:ext cx="76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signs of        and           are positive but the sign for M can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95480" y="55627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2" name=""/>
          <p:cNvGraphicFramePr/>
          <p:nvPr/>
        </p:nvGraphicFramePr>
        <p:xfrm>
          <a:off x="3795840" y="5562720"/>
          <a:ext cx="48708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95840" y="5562720"/>
                    <a:ext cx="487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8229600" y="5638680"/>
          <a:ext cx="852480" cy="39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29600" y="5638680"/>
                    <a:ext cx="85248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661680" y="1077840"/>
            <a:ext cx="65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s are often used in the circuit to indicate the sig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1922400"/>
          <a:ext cx="547524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22400"/>
                    <a:ext cx="547524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745360" y="43434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 Positive value of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7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of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920" y="17892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upling coefficien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895480" y="2209680"/>
          <a:ext cx="182880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209680"/>
                    <a:ext cx="18288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96520" y="3505320"/>
            <a:ext cx="83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oils are distance away  k is very small and close to zero and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1 for a very tight coupling such for a transfor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380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winding Inductors and induct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057400" y="2505240"/>
          <a:ext cx="3886200" cy="51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05240"/>
                    <a:ext cx="388620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67160" y="2133720"/>
            <a:ext cx="44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windings the flux in each coil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57400" y="2971800"/>
          <a:ext cx="389268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971800"/>
                    <a:ext cx="3892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057400" y="3429000"/>
          <a:ext cx="386568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429000"/>
                    <a:ext cx="3865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441520" y="41911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  self inductanc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4114800"/>
          <a:ext cx="16178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114800"/>
                    <a:ext cx="161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838080" y="4724280"/>
          <a:ext cx="3429000" cy="4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724280"/>
                    <a:ext cx="3429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423680" y="48006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mutual induc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080" y="51418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trix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68600" y="5486400"/>
          <a:ext cx="1312920" cy="61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68600" y="5486400"/>
                    <a:ext cx="13129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066680" y="1219320"/>
                <a:ext cx="106992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1295280"/>
          <a:ext cx="928800" cy="13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95280"/>
                    <a:ext cx="92880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962520" y="1219320"/>
                <a:ext cx="28191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0" name=""/>
          <p:cNvGraphicFramePr/>
          <p:nvPr/>
        </p:nvGraphicFramePr>
        <p:xfrm>
          <a:off x="1981080" y="2685960"/>
          <a:ext cx="3810240" cy="34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685960"/>
                    <a:ext cx="381024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491080" y="457200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3 Three-winding i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210040" cy="533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1981080"/>
                <a:ext cx="1504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44240" y="1752480"/>
            <a:ext cx="81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uced voltage in term current vector and the inductance matrix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040" y="2666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1520" y="2971800"/>
            <a:ext cx="851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4 shows 3 coils wound on a common core. The reference dir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nd voltage are as shown in the figure. Since     and        ha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direction but        are not therefore         is positive while        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705720" y="3276720"/>
          <a:ext cx="350640" cy="40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3276720"/>
                    <a:ext cx="3506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43800" y="3276720"/>
          <a:ext cx="376200" cy="40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276720"/>
                    <a:ext cx="376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976480" y="3581280"/>
          <a:ext cx="37620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6480" y="3581280"/>
                    <a:ext cx="376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10080" y="3657600"/>
          <a:ext cx="40032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3657600"/>
                    <a:ext cx="4003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7696080" y="3586320"/>
          <a:ext cx="374760" cy="37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96080" y="3586320"/>
                    <a:ext cx="3747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49160" y="3962520"/>
          <a:ext cx="400320" cy="37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9160" y="3962520"/>
                    <a:ext cx="4003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130040" y="39988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eg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76720" y="3809880"/>
          <a:ext cx="2805120" cy="304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3809880"/>
                    <a:ext cx="2805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128600" y="5446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4:02:09Z</dcterms:created>
  <dc:creator>KKU2</dc:creator>
  <dc:description/>
  <dc:language>en-US</dc:language>
  <cp:lastModifiedBy>Black Perls</cp:lastModifiedBy>
  <dcterms:modified xsi:type="dcterms:W3CDTF">2009-11-13T02:44:24Z</dcterms:modified>
  <cp:revision>55</cp:revision>
  <dc:subject/>
  <dc:title>Coupling Element and Coupled circuits</dc:title>
</cp:coreProperties>
</file>