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.jpeg" ContentType="image/jpeg"/>
  <Override PartName="/ppt/media/image15.png" ContentType="image/png"/>
  <Override PartName="/ppt/media/image3.jpeg" ContentType="image/jpeg"/>
  <Override PartName="/ppt/media/image5.wmf" ContentType="image/x-wmf"/>
  <Override PartName="/ppt/media/image10.wmf" ContentType="image/x-wmf"/>
  <Override PartName="/ppt/media/image2.png" ContentType="image/png"/>
  <Override PartName="/ppt/media/image4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12.jpeg" ContentType="image/jpeg"/>
  <Override PartName="/ppt/media/image13.png" ContentType="image/png"/>
  <Override PartName="/ppt/media/image8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1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 Narrow"/>
              </a:rPr>
              <a:t>Click to move the slide</a:t>
            </a:r>
            <a:endParaRPr b="1" lang="en-US" sz="3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-360" y="880560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3963600" y="880560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7436B50-9CE1-452C-9C60-9520C50EB3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963600" y="880560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394457E-08EB-4E02-A7C9-5304A2CA6F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80560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82600" y="693720"/>
            <a:ext cx="4637160" cy="347832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34920" y="4404960"/>
            <a:ext cx="5127840" cy="4172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80880"/>
            <a:ext cx="67640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817280"/>
            <a:ext cx="68580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43000" y="3608640"/>
            <a:ext cx="68580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42720" y="380880"/>
            <a:ext cx="67640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817280"/>
            <a:ext cx="33465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57320" y="1817280"/>
            <a:ext cx="33465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43000" y="3608640"/>
            <a:ext cx="33465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57320" y="3608640"/>
            <a:ext cx="33465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80880"/>
            <a:ext cx="67640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43000" y="1817280"/>
            <a:ext cx="220788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61760" y="1817280"/>
            <a:ext cx="220788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780160" y="1817280"/>
            <a:ext cx="220788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43000" y="3608640"/>
            <a:ext cx="220788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61760" y="3608640"/>
            <a:ext cx="220788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780160" y="3608640"/>
            <a:ext cx="220788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80880"/>
            <a:ext cx="67640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43000" y="1817280"/>
            <a:ext cx="68580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80880"/>
            <a:ext cx="67640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3000" y="1817280"/>
            <a:ext cx="68580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2720" y="380880"/>
            <a:ext cx="67640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1817280"/>
            <a:ext cx="334656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7320" y="1817280"/>
            <a:ext cx="334656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42720" y="380880"/>
            <a:ext cx="67640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42720" y="380880"/>
            <a:ext cx="67640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80880"/>
            <a:ext cx="67640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3000" y="1817280"/>
            <a:ext cx="33465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7320" y="1817280"/>
            <a:ext cx="334656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43000" y="3608640"/>
            <a:ext cx="33465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380880"/>
            <a:ext cx="67640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43000" y="1817280"/>
            <a:ext cx="68580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2720" y="380880"/>
            <a:ext cx="67640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1817280"/>
            <a:ext cx="334656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7320" y="1817280"/>
            <a:ext cx="33465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7320" y="3608640"/>
            <a:ext cx="33465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720" y="380880"/>
            <a:ext cx="67640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1817280"/>
            <a:ext cx="33465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7320" y="1817280"/>
            <a:ext cx="33465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43000" y="3608640"/>
            <a:ext cx="68580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80880"/>
            <a:ext cx="67640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3000" y="1817280"/>
            <a:ext cx="68580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43000" y="3608640"/>
            <a:ext cx="68580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2720" y="380880"/>
            <a:ext cx="67640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1817280"/>
            <a:ext cx="33465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7320" y="1817280"/>
            <a:ext cx="33465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43000" y="3608640"/>
            <a:ext cx="33465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7320" y="3608640"/>
            <a:ext cx="33465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2720" y="380880"/>
            <a:ext cx="67640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1817280"/>
            <a:ext cx="220788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1760" y="1817280"/>
            <a:ext cx="220788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80160" y="1817280"/>
            <a:ext cx="220788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43000" y="3608640"/>
            <a:ext cx="220788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1760" y="3608640"/>
            <a:ext cx="220788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780160" y="3608640"/>
            <a:ext cx="220788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380880"/>
            <a:ext cx="67640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817280"/>
            <a:ext cx="68580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2720" y="380880"/>
            <a:ext cx="67640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817280"/>
            <a:ext cx="334656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7320" y="1817280"/>
            <a:ext cx="334656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80880"/>
            <a:ext cx="67640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342720" y="380880"/>
            <a:ext cx="67640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80880"/>
            <a:ext cx="67640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3000" y="1817280"/>
            <a:ext cx="33465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7320" y="1817280"/>
            <a:ext cx="334656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43000" y="3608640"/>
            <a:ext cx="33465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80880"/>
            <a:ext cx="67640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1817280"/>
            <a:ext cx="334656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7320" y="1817280"/>
            <a:ext cx="33465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57320" y="3608640"/>
            <a:ext cx="33465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2720" y="380880"/>
            <a:ext cx="67640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1817280"/>
            <a:ext cx="33465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7320" y="1817280"/>
            <a:ext cx="33465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3608640"/>
            <a:ext cx="68580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80880"/>
            <a:ext cx="67640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817280"/>
            <a:ext cx="68580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2068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1080" indent="-1666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428840" indent="-17136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714680" indent="-1144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714680" indent="-1144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714680" indent="-1144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"/>
          <p:cNvSpPr/>
          <p:nvPr/>
        </p:nvSpPr>
        <p:spPr>
          <a:xfrm>
            <a:off x="4284000" y="6598800"/>
            <a:ext cx="564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03895-A5D3-482B-ABE0-B56B33B9E21C}" type="slidenum">
              <a:rPr b="0" lang="en-US" sz="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80" y="1160640"/>
            <a:ext cx="8363160" cy="4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243920" y="120600"/>
            <a:ext cx="825120" cy="869760"/>
            <a:chOff x="7243920" y="120600"/>
            <a:chExt cx="825120" cy="869760"/>
          </a:xfrm>
        </p:grpSpPr>
        <p:sp>
          <p:nvSpPr>
            <p:cNvPr id="5" name=""/>
            <p:cNvSpPr/>
            <p:nvPr/>
          </p:nvSpPr>
          <p:spPr>
            <a:xfrm>
              <a:off x="7243920" y="276840"/>
              <a:ext cx="686520" cy="713520"/>
            </a:xfrm>
            <a:custGeom>
              <a:avLst/>
              <a:gdLst/>
              <a:ahLst/>
              <a:rect l="l" t="t" r="r" b="b"/>
              <a:pathLst>
                <a:path w="11406" h="11147">
                  <a:moveTo>
                    <a:pt x="6784" y="3484"/>
                  </a:moveTo>
                  <a:lnTo>
                    <a:pt x="6784" y="7444"/>
                  </a:lnTo>
                  <a:lnTo>
                    <a:pt x="6786" y="7462"/>
                  </a:lnTo>
                  <a:lnTo>
                    <a:pt x="6787" y="7482"/>
                  </a:lnTo>
                  <a:lnTo>
                    <a:pt x="6786" y="7502"/>
                  </a:lnTo>
                  <a:lnTo>
                    <a:pt x="6784" y="7523"/>
                  </a:lnTo>
                  <a:lnTo>
                    <a:pt x="6781" y="7544"/>
                  </a:lnTo>
                  <a:lnTo>
                    <a:pt x="6777" y="7565"/>
                  </a:lnTo>
                  <a:lnTo>
                    <a:pt x="6771" y="7587"/>
                  </a:lnTo>
                  <a:lnTo>
                    <a:pt x="6765" y="7609"/>
                  </a:lnTo>
                  <a:lnTo>
                    <a:pt x="6757" y="7632"/>
                  </a:lnTo>
                  <a:lnTo>
                    <a:pt x="6747" y="7654"/>
                  </a:lnTo>
                  <a:lnTo>
                    <a:pt x="6736" y="7676"/>
                  </a:lnTo>
                  <a:lnTo>
                    <a:pt x="6725" y="7698"/>
                  </a:lnTo>
                  <a:lnTo>
                    <a:pt x="6712" y="7719"/>
                  </a:lnTo>
                  <a:lnTo>
                    <a:pt x="6699" y="7740"/>
                  </a:lnTo>
                  <a:lnTo>
                    <a:pt x="6684" y="7761"/>
                  </a:lnTo>
                  <a:lnTo>
                    <a:pt x="6668" y="7780"/>
                  </a:lnTo>
                  <a:lnTo>
                    <a:pt x="6651" y="7800"/>
                  </a:lnTo>
                  <a:lnTo>
                    <a:pt x="6633" y="7818"/>
                  </a:lnTo>
                  <a:lnTo>
                    <a:pt x="6614" y="7836"/>
                  </a:lnTo>
                  <a:lnTo>
                    <a:pt x="6594" y="7853"/>
                  </a:lnTo>
                  <a:lnTo>
                    <a:pt x="6573" y="7869"/>
                  </a:lnTo>
                  <a:lnTo>
                    <a:pt x="6551" y="7883"/>
                  </a:lnTo>
                  <a:lnTo>
                    <a:pt x="6528" y="7897"/>
                  </a:lnTo>
                  <a:lnTo>
                    <a:pt x="6504" y="7909"/>
                  </a:lnTo>
                  <a:lnTo>
                    <a:pt x="6478" y="7921"/>
                  </a:lnTo>
                  <a:lnTo>
                    <a:pt x="6452" y="7930"/>
                  </a:lnTo>
                  <a:lnTo>
                    <a:pt x="6425" y="7938"/>
                  </a:lnTo>
                  <a:lnTo>
                    <a:pt x="6398" y="7944"/>
                  </a:lnTo>
                  <a:lnTo>
                    <a:pt x="6369" y="7948"/>
                  </a:lnTo>
                  <a:lnTo>
                    <a:pt x="6340" y="7951"/>
                  </a:lnTo>
                  <a:lnTo>
                    <a:pt x="6310" y="7951"/>
                  </a:lnTo>
                  <a:lnTo>
                    <a:pt x="6279" y="7949"/>
                  </a:lnTo>
                  <a:lnTo>
                    <a:pt x="6242" y="7943"/>
                  </a:lnTo>
                  <a:lnTo>
                    <a:pt x="6205" y="7933"/>
                  </a:lnTo>
                  <a:lnTo>
                    <a:pt x="6170" y="7918"/>
                  </a:lnTo>
                  <a:lnTo>
                    <a:pt x="6137" y="7901"/>
                  </a:lnTo>
                  <a:lnTo>
                    <a:pt x="6104" y="7880"/>
                  </a:lnTo>
                  <a:lnTo>
                    <a:pt x="6072" y="7856"/>
                  </a:lnTo>
                  <a:lnTo>
                    <a:pt x="6042" y="7828"/>
                  </a:lnTo>
                  <a:lnTo>
                    <a:pt x="6012" y="7796"/>
                  </a:lnTo>
                  <a:lnTo>
                    <a:pt x="5983" y="7760"/>
                  </a:lnTo>
                  <a:lnTo>
                    <a:pt x="5956" y="7721"/>
                  </a:lnTo>
                  <a:lnTo>
                    <a:pt x="5930" y="7678"/>
                  </a:lnTo>
                  <a:lnTo>
                    <a:pt x="5905" y="7631"/>
                  </a:lnTo>
                  <a:lnTo>
                    <a:pt x="5882" y="7579"/>
                  </a:lnTo>
                  <a:lnTo>
                    <a:pt x="5860" y="7524"/>
                  </a:lnTo>
                  <a:lnTo>
                    <a:pt x="5839" y="7465"/>
                  </a:lnTo>
                  <a:lnTo>
                    <a:pt x="5819" y="7401"/>
                  </a:lnTo>
                  <a:lnTo>
                    <a:pt x="5801" y="7333"/>
                  </a:lnTo>
                  <a:lnTo>
                    <a:pt x="5785" y="7261"/>
                  </a:lnTo>
                  <a:lnTo>
                    <a:pt x="5770" y="7186"/>
                  </a:lnTo>
                  <a:lnTo>
                    <a:pt x="5756" y="7105"/>
                  </a:lnTo>
                  <a:lnTo>
                    <a:pt x="5744" y="7020"/>
                  </a:lnTo>
                  <a:lnTo>
                    <a:pt x="5732" y="6931"/>
                  </a:lnTo>
                  <a:lnTo>
                    <a:pt x="5723" y="6838"/>
                  </a:lnTo>
                  <a:lnTo>
                    <a:pt x="5715" y="6739"/>
                  </a:lnTo>
                  <a:lnTo>
                    <a:pt x="5709" y="6637"/>
                  </a:lnTo>
                  <a:lnTo>
                    <a:pt x="5705" y="6530"/>
                  </a:lnTo>
                  <a:lnTo>
                    <a:pt x="5703" y="6417"/>
                  </a:lnTo>
                  <a:lnTo>
                    <a:pt x="5702" y="6301"/>
                  </a:lnTo>
                  <a:lnTo>
                    <a:pt x="5703" y="6180"/>
                  </a:lnTo>
                  <a:lnTo>
                    <a:pt x="5705" y="6054"/>
                  </a:lnTo>
                  <a:lnTo>
                    <a:pt x="5710" y="5923"/>
                  </a:lnTo>
                  <a:lnTo>
                    <a:pt x="5716" y="5787"/>
                  </a:lnTo>
                  <a:lnTo>
                    <a:pt x="5724" y="5651"/>
                  </a:lnTo>
                  <a:lnTo>
                    <a:pt x="5735" y="5518"/>
                  </a:lnTo>
                  <a:lnTo>
                    <a:pt x="5748" y="5392"/>
                  </a:lnTo>
                  <a:lnTo>
                    <a:pt x="5762" y="5270"/>
                  </a:lnTo>
                  <a:lnTo>
                    <a:pt x="5778" y="5153"/>
                  </a:lnTo>
                  <a:lnTo>
                    <a:pt x="5797" y="5041"/>
                  </a:lnTo>
                  <a:lnTo>
                    <a:pt x="5817" y="4933"/>
                  </a:lnTo>
                  <a:lnTo>
                    <a:pt x="5838" y="4830"/>
                  </a:lnTo>
                  <a:lnTo>
                    <a:pt x="5862" y="4732"/>
                  </a:lnTo>
                  <a:lnTo>
                    <a:pt x="5887" y="4637"/>
                  </a:lnTo>
                  <a:lnTo>
                    <a:pt x="5914" y="4547"/>
                  </a:lnTo>
                  <a:lnTo>
                    <a:pt x="5942" y="4462"/>
                  </a:lnTo>
                  <a:lnTo>
                    <a:pt x="5972" y="4379"/>
                  </a:lnTo>
                  <a:lnTo>
                    <a:pt x="6005" y="4301"/>
                  </a:lnTo>
                  <a:lnTo>
                    <a:pt x="6038" y="4228"/>
                  </a:lnTo>
                  <a:lnTo>
                    <a:pt x="6072" y="4158"/>
                  </a:lnTo>
                  <a:lnTo>
                    <a:pt x="6108" y="4091"/>
                  </a:lnTo>
                  <a:lnTo>
                    <a:pt x="6145" y="4028"/>
                  </a:lnTo>
                  <a:lnTo>
                    <a:pt x="6184" y="3970"/>
                  </a:lnTo>
                  <a:lnTo>
                    <a:pt x="6223" y="3914"/>
                  </a:lnTo>
                  <a:lnTo>
                    <a:pt x="6265" y="3862"/>
                  </a:lnTo>
                  <a:lnTo>
                    <a:pt x="6307" y="3812"/>
                  </a:lnTo>
                  <a:lnTo>
                    <a:pt x="6351" y="3767"/>
                  </a:lnTo>
                  <a:lnTo>
                    <a:pt x="6395" y="3724"/>
                  </a:lnTo>
                  <a:lnTo>
                    <a:pt x="6440" y="3685"/>
                  </a:lnTo>
                  <a:lnTo>
                    <a:pt x="6486" y="3648"/>
                  </a:lnTo>
                  <a:lnTo>
                    <a:pt x="6535" y="3614"/>
                  </a:lnTo>
                  <a:lnTo>
                    <a:pt x="6583" y="3583"/>
                  </a:lnTo>
                  <a:lnTo>
                    <a:pt x="6632" y="3555"/>
                  </a:lnTo>
                  <a:lnTo>
                    <a:pt x="6682" y="3528"/>
                  </a:lnTo>
                  <a:lnTo>
                    <a:pt x="6732" y="3505"/>
                  </a:lnTo>
                  <a:lnTo>
                    <a:pt x="6784" y="3484"/>
                  </a:lnTo>
                  <a:close/>
                  <a:moveTo>
                    <a:pt x="0" y="11046"/>
                  </a:moveTo>
                  <a:lnTo>
                    <a:pt x="232" y="10043"/>
                  </a:lnTo>
                  <a:lnTo>
                    <a:pt x="374" y="10066"/>
                  </a:lnTo>
                  <a:lnTo>
                    <a:pt x="504" y="10083"/>
                  </a:lnTo>
                  <a:lnTo>
                    <a:pt x="627" y="10091"/>
                  </a:lnTo>
                  <a:lnTo>
                    <a:pt x="741" y="10093"/>
                  </a:lnTo>
                  <a:lnTo>
                    <a:pt x="847" y="10087"/>
                  </a:lnTo>
                  <a:lnTo>
                    <a:pt x="945" y="10074"/>
                  </a:lnTo>
                  <a:lnTo>
                    <a:pt x="1036" y="10054"/>
                  </a:lnTo>
                  <a:lnTo>
                    <a:pt x="1120" y="10028"/>
                  </a:lnTo>
                  <a:lnTo>
                    <a:pt x="1196" y="9995"/>
                  </a:lnTo>
                  <a:lnTo>
                    <a:pt x="1268" y="9955"/>
                  </a:lnTo>
                  <a:lnTo>
                    <a:pt x="1332" y="9910"/>
                  </a:lnTo>
                  <a:lnTo>
                    <a:pt x="1392" y="9859"/>
                  </a:lnTo>
                  <a:lnTo>
                    <a:pt x="1446" y="9801"/>
                  </a:lnTo>
                  <a:lnTo>
                    <a:pt x="1495" y="9738"/>
                  </a:lnTo>
                  <a:lnTo>
                    <a:pt x="1541" y="9669"/>
                  </a:lnTo>
                  <a:lnTo>
                    <a:pt x="1583" y="9595"/>
                  </a:lnTo>
                  <a:lnTo>
                    <a:pt x="1620" y="9516"/>
                  </a:lnTo>
                  <a:lnTo>
                    <a:pt x="1655" y="9432"/>
                  </a:lnTo>
                  <a:lnTo>
                    <a:pt x="1686" y="9342"/>
                  </a:lnTo>
                  <a:lnTo>
                    <a:pt x="1716" y="9249"/>
                  </a:lnTo>
                  <a:lnTo>
                    <a:pt x="1743" y="9151"/>
                  </a:lnTo>
                  <a:lnTo>
                    <a:pt x="1770" y="9047"/>
                  </a:lnTo>
                  <a:lnTo>
                    <a:pt x="1794" y="8940"/>
                  </a:lnTo>
                  <a:lnTo>
                    <a:pt x="1817" y="8830"/>
                  </a:lnTo>
                  <a:lnTo>
                    <a:pt x="1863" y="8596"/>
                  </a:lnTo>
                  <a:lnTo>
                    <a:pt x="1910" y="8347"/>
                  </a:lnTo>
                  <a:lnTo>
                    <a:pt x="1935" y="8219"/>
                  </a:lnTo>
                  <a:lnTo>
                    <a:pt x="1961" y="8086"/>
                  </a:lnTo>
                  <a:lnTo>
                    <a:pt x="1989" y="7951"/>
                  </a:lnTo>
                  <a:lnTo>
                    <a:pt x="2020" y="7813"/>
                  </a:lnTo>
                  <a:lnTo>
                    <a:pt x="3789" y="0"/>
                  </a:lnTo>
                  <a:lnTo>
                    <a:pt x="6047" y="0"/>
                  </a:lnTo>
                  <a:lnTo>
                    <a:pt x="6140" y="4"/>
                  </a:lnTo>
                  <a:lnTo>
                    <a:pt x="6232" y="12"/>
                  </a:lnTo>
                  <a:lnTo>
                    <a:pt x="6324" y="24"/>
                  </a:lnTo>
                  <a:lnTo>
                    <a:pt x="6414" y="41"/>
                  </a:lnTo>
                  <a:lnTo>
                    <a:pt x="6503" y="62"/>
                  </a:lnTo>
                  <a:lnTo>
                    <a:pt x="6589" y="87"/>
                  </a:lnTo>
                  <a:lnTo>
                    <a:pt x="6674" y="115"/>
                  </a:lnTo>
                  <a:lnTo>
                    <a:pt x="6758" y="146"/>
                  </a:lnTo>
                  <a:lnTo>
                    <a:pt x="6839" y="182"/>
                  </a:lnTo>
                  <a:lnTo>
                    <a:pt x="6918" y="220"/>
                  </a:lnTo>
                  <a:lnTo>
                    <a:pt x="6996" y="261"/>
                  </a:lnTo>
                  <a:lnTo>
                    <a:pt x="7071" y="305"/>
                  </a:lnTo>
                  <a:lnTo>
                    <a:pt x="7143" y="353"/>
                  </a:lnTo>
                  <a:lnTo>
                    <a:pt x="7213" y="402"/>
                  </a:lnTo>
                  <a:lnTo>
                    <a:pt x="7280" y="453"/>
                  </a:lnTo>
                  <a:lnTo>
                    <a:pt x="7345" y="507"/>
                  </a:lnTo>
                  <a:lnTo>
                    <a:pt x="7406" y="562"/>
                  </a:lnTo>
                  <a:lnTo>
                    <a:pt x="7464" y="620"/>
                  </a:lnTo>
                  <a:lnTo>
                    <a:pt x="7520" y="679"/>
                  </a:lnTo>
                  <a:lnTo>
                    <a:pt x="7572" y="739"/>
                  </a:lnTo>
                  <a:lnTo>
                    <a:pt x="7620" y="801"/>
                  </a:lnTo>
                  <a:lnTo>
                    <a:pt x="7665" y="863"/>
                  </a:lnTo>
                  <a:lnTo>
                    <a:pt x="7706" y="927"/>
                  </a:lnTo>
                  <a:lnTo>
                    <a:pt x="7744" y="991"/>
                  </a:lnTo>
                  <a:lnTo>
                    <a:pt x="7777" y="1056"/>
                  </a:lnTo>
                  <a:lnTo>
                    <a:pt x="7806" y="1120"/>
                  </a:lnTo>
                  <a:lnTo>
                    <a:pt x="7832" y="1185"/>
                  </a:lnTo>
                  <a:lnTo>
                    <a:pt x="7852" y="1251"/>
                  </a:lnTo>
                  <a:lnTo>
                    <a:pt x="7869" y="1316"/>
                  </a:lnTo>
                  <a:lnTo>
                    <a:pt x="7881" y="1380"/>
                  </a:lnTo>
                  <a:lnTo>
                    <a:pt x="7888" y="1443"/>
                  </a:lnTo>
                  <a:lnTo>
                    <a:pt x="7890" y="1507"/>
                  </a:lnTo>
                  <a:lnTo>
                    <a:pt x="7890" y="2241"/>
                  </a:lnTo>
                  <a:lnTo>
                    <a:pt x="11184" y="2241"/>
                  </a:lnTo>
                  <a:lnTo>
                    <a:pt x="9382" y="10043"/>
                  </a:lnTo>
                  <a:lnTo>
                    <a:pt x="11406" y="10043"/>
                  </a:lnTo>
                  <a:lnTo>
                    <a:pt x="11174" y="11046"/>
                  </a:lnTo>
                  <a:lnTo>
                    <a:pt x="7955" y="11046"/>
                  </a:lnTo>
                  <a:lnTo>
                    <a:pt x="9749" y="3284"/>
                  </a:lnTo>
                  <a:lnTo>
                    <a:pt x="7890" y="3284"/>
                  </a:lnTo>
                  <a:lnTo>
                    <a:pt x="7890" y="8807"/>
                  </a:lnTo>
                  <a:lnTo>
                    <a:pt x="6809" y="8845"/>
                  </a:lnTo>
                  <a:lnTo>
                    <a:pt x="6805" y="8451"/>
                  </a:lnTo>
                  <a:lnTo>
                    <a:pt x="6785" y="8488"/>
                  </a:lnTo>
                  <a:lnTo>
                    <a:pt x="6765" y="8525"/>
                  </a:lnTo>
                  <a:lnTo>
                    <a:pt x="6743" y="8559"/>
                  </a:lnTo>
                  <a:lnTo>
                    <a:pt x="6720" y="8591"/>
                  </a:lnTo>
                  <a:lnTo>
                    <a:pt x="6697" y="8621"/>
                  </a:lnTo>
                  <a:lnTo>
                    <a:pt x="6674" y="8650"/>
                  </a:lnTo>
                  <a:lnTo>
                    <a:pt x="6650" y="8678"/>
                  </a:lnTo>
                  <a:lnTo>
                    <a:pt x="6625" y="8704"/>
                  </a:lnTo>
                  <a:lnTo>
                    <a:pt x="6600" y="8729"/>
                  </a:lnTo>
                  <a:lnTo>
                    <a:pt x="6574" y="8752"/>
                  </a:lnTo>
                  <a:lnTo>
                    <a:pt x="6547" y="8774"/>
                  </a:lnTo>
                  <a:lnTo>
                    <a:pt x="6520" y="8796"/>
                  </a:lnTo>
                  <a:lnTo>
                    <a:pt x="6492" y="8815"/>
                  </a:lnTo>
                  <a:lnTo>
                    <a:pt x="6462" y="8833"/>
                  </a:lnTo>
                  <a:lnTo>
                    <a:pt x="6433" y="8849"/>
                  </a:lnTo>
                  <a:lnTo>
                    <a:pt x="6403" y="8865"/>
                  </a:lnTo>
                  <a:lnTo>
                    <a:pt x="6372" y="8879"/>
                  </a:lnTo>
                  <a:lnTo>
                    <a:pt x="6341" y="8892"/>
                  </a:lnTo>
                  <a:lnTo>
                    <a:pt x="6309" y="8903"/>
                  </a:lnTo>
                  <a:lnTo>
                    <a:pt x="6277" y="8914"/>
                  </a:lnTo>
                  <a:lnTo>
                    <a:pt x="6244" y="8923"/>
                  </a:lnTo>
                  <a:lnTo>
                    <a:pt x="6209" y="8932"/>
                  </a:lnTo>
                  <a:lnTo>
                    <a:pt x="6175" y="8939"/>
                  </a:lnTo>
                  <a:lnTo>
                    <a:pt x="6141" y="8945"/>
                  </a:lnTo>
                  <a:lnTo>
                    <a:pt x="6105" y="8951"/>
                  </a:lnTo>
                  <a:lnTo>
                    <a:pt x="6070" y="8955"/>
                  </a:lnTo>
                  <a:lnTo>
                    <a:pt x="6033" y="8958"/>
                  </a:lnTo>
                  <a:lnTo>
                    <a:pt x="5996" y="8960"/>
                  </a:lnTo>
                  <a:lnTo>
                    <a:pt x="5958" y="8962"/>
                  </a:lnTo>
                  <a:lnTo>
                    <a:pt x="5920" y="8962"/>
                  </a:lnTo>
                  <a:lnTo>
                    <a:pt x="5881" y="8962"/>
                  </a:lnTo>
                  <a:lnTo>
                    <a:pt x="5842" y="8961"/>
                  </a:lnTo>
                  <a:lnTo>
                    <a:pt x="5763" y="8954"/>
                  </a:lnTo>
                  <a:lnTo>
                    <a:pt x="5684" y="8941"/>
                  </a:lnTo>
                  <a:lnTo>
                    <a:pt x="5609" y="8920"/>
                  </a:lnTo>
                  <a:lnTo>
                    <a:pt x="5535" y="8893"/>
                  </a:lnTo>
                  <a:lnTo>
                    <a:pt x="5462" y="8859"/>
                  </a:lnTo>
                  <a:lnTo>
                    <a:pt x="5393" y="8818"/>
                  </a:lnTo>
                  <a:lnTo>
                    <a:pt x="5326" y="8769"/>
                  </a:lnTo>
                  <a:lnTo>
                    <a:pt x="5261" y="8715"/>
                  </a:lnTo>
                  <a:lnTo>
                    <a:pt x="5197" y="8654"/>
                  </a:lnTo>
                  <a:lnTo>
                    <a:pt x="5137" y="8587"/>
                  </a:lnTo>
                  <a:lnTo>
                    <a:pt x="5079" y="8513"/>
                  </a:lnTo>
                  <a:lnTo>
                    <a:pt x="5024" y="8432"/>
                  </a:lnTo>
                  <a:lnTo>
                    <a:pt x="4971" y="8345"/>
                  </a:lnTo>
                  <a:lnTo>
                    <a:pt x="4920" y="8252"/>
                  </a:lnTo>
                  <a:lnTo>
                    <a:pt x="4873" y="8151"/>
                  </a:lnTo>
                  <a:lnTo>
                    <a:pt x="4828" y="8045"/>
                  </a:lnTo>
                  <a:lnTo>
                    <a:pt x="4786" y="7933"/>
                  </a:lnTo>
                  <a:lnTo>
                    <a:pt x="4747" y="7814"/>
                  </a:lnTo>
                  <a:lnTo>
                    <a:pt x="4710" y="7689"/>
                  </a:lnTo>
                  <a:lnTo>
                    <a:pt x="4677" y="7558"/>
                  </a:lnTo>
                  <a:lnTo>
                    <a:pt x="4647" y="7421"/>
                  </a:lnTo>
                  <a:lnTo>
                    <a:pt x="4620" y="7277"/>
                  </a:lnTo>
                  <a:lnTo>
                    <a:pt x="4596" y="7129"/>
                  </a:lnTo>
                  <a:lnTo>
                    <a:pt x="4575" y="6973"/>
                  </a:lnTo>
                  <a:lnTo>
                    <a:pt x="4557" y="6813"/>
                  </a:lnTo>
                  <a:lnTo>
                    <a:pt x="4543" y="6645"/>
                  </a:lnTo>
                  <a:lnTo>
                    <a:pt x="4532" y="6473"/>
                  </a:lnTo>
                  <a:lnTo>
                    <a:pt x="4524" y="6294"/>
                  </a:lnTo>
                  <a:lnTo>
                    <a:pt x="4520" y="6110"/>
                  </a:lnTo>
                  <a:lnTo>
                    <a:pt x="4519" y="5921"/>
                  </a:lnTo>
                  <a:lnTo>
                    <a:pt x="4522" y="5725"/>
                  </a:lnTo>
                  <a:lnTo>
                    <a:pt x="4529" y="5523"/>
                  </a:lnTo>
                  <a:lnTo>
                    <a:pt x="4537" y="5379"/>
                  </a:lnTo>
                  <a:lnTo>
                    <a:pt x="4549" y="5237"/>
                  </a:lnTo>
                  <a:lnTo>
                    <a:pt x="4566" y="5098"/>
                  </a:lnTo>
                  <a:lnTo>
                    <a:pt x="4586" y="4961"/>
                  </a:lnTo>
                  <a:lnTo>
                    <a:pt x="4611" y="4827"/>
                  </a:lnTo>
                  <a:lnTo>
                    <a:pt x="4640" y="4695"/>
                  </a:lnTo>
                  <a:lnTo>
                    <a:pt x="4673" y="4567"/>
                  </a:lnTo>
                  <a:lnTo>
                    <a:pt x="4711" y="4442"/>
                  </a:lnTo>
                  <a:lnTo>
                    <a:pt x="4753" y="4319"/>
                  </a:lnTo>
                  <a:lnTo>
                    <a:pt x="4798" y="4199"/>
                  </a:lnTo>
                  <a:lnTo>
                    <a:pt x="4848" y="4081"/>
                  </a:lnTo>
                  <a:lnTo>
                    <a:pt x="4901" y="3966"/>
                  </a:lnTo>
                  <a:lnTo>
                    <a:pt x="4959" y="3855"/>
                  </a:lnTo>
                  <a:lnTo>
                    <a:pt x="5021" y="3745"/>
                  </a:lnTo>
                  <a:lnTo>
                    <a:pt x="5087" y="3638"/>
                  </a:lnTo>
                  <a:lnTo>
                    <a:pt x="5156" y="3534"/>
                  </a:lnTo>
                  <a:lnTo>
                    <a:pt x="5230" y="3433"/>
                  </a:lnTo>
                  <a:lnTo>
                    <a:pt x="5308" y="3335"/>
                  </a:lnTo>
                  <a:lnTo>
                    <a:pt x="5390" y="3238"/>
                  </a:lnTo>
                  <a:lnTo>
                    <a:pt x="5475" y="3146"/>
                  </a:lnTo>
                  <a:lnTo>
                    <a:pt x="5566" y="3056"/>
                  </a:lnTo>
                  <a:lnTo>
                    <a:pt x="5659" y="2968"/>
                  </a:lnTo>
                  <a:lnTo>
                    <a:pt x="5757" y="2883"/>
                  </a:lnTo>
                  <a:lnTo>
                    <a:pt x="5858" y="2801"/>
                  </a:lnTo>
                  <a:lnTo>
                    <a:pt x="5963" y="2722"/>
                  </a:lnTo>
                  <a:lnTo>
                    <a:pt x="6073" y="2644"/>
                  </a:lnTo>
                  <a:lnTo>
                    <a:pt x="6185" y="2570"/>
                  </a:lnTo>
                  <a:lnTo>
                    <a:pt x="6303" y="2499"/>
                  </a:lnTo>
                  <a:lnTo>
                    <a:pt x="6423" y="2431"/>
                  </a:lnTo>
                  <a:lnTo>
                    <a:pt x="6548" y="2364"/>
                  </a:lnTo>
                  <a:lnTo>
                    <a:pt x="6676" y="2301"/>
                  </a:lnTo>
                  <a:lnTo>
                    <a:pt x="6809" y="2241"/>
                  </a:lnTo>
                  <a:lnTo>
                    <a:pt x="6804" y="1745"/>
                  </a:lnTo>
                  <a:lnTo>
                    <a:pt x="6804" y="1715"/>
                  </a:lnTo>
                  <a:lnTo>
                    <a:pt x="6802" y="1685"/>
                  </a:lnTo>
                  <a:lnTo>
                    <a:pt x="6798" y="1654"/>
                  </a:lnTo>
                  <a:lnTo>
                    <a:pt x="6792" y="1624"/>
                  </a:lnTo>
                  <a:lnTo>
                    <a:pt x="6783" y="1593"/>
                  </a:lnTo>
                  <a:lnTo>
                    <a:pt x="6773" y="1563"/>
                  </a:lnTo>
                  <a:lnTo>
                    <a:pt x="6761" y="1532"/>
                  </a:lnTo>
                  <a:lnTo>
                    <a:pt x="6747" y="1502"/>
                  </a:lnTo>
                  <a:lnTo>
                    <a:pt x="6730" y="1471"/>
                  </a:lnTo>
                  <a:lnTo>
                    <a:pt x="6713" y="1442"/>
                  </a:lnTo>
                  <a:lnTo>
                    <a:pt x="6693" y="1413"/>
                  </a:lnTo>
                  <a:lnTo>
                    <a:pt x="6672" y="1384"/>
                  </a:lnTo>
                  <a:lnTo>
                    <a:pt x="6649" y="1356"/>
                  </a:lnTo>
                  <a:lnTo>
                    <a:pt x="6624" y="1329"/>
                  </a:lnTo>
                  <a:lnTo>
                    <a:pt x="6598" y="1302"/>
                  </a:lnTo>
                  <a:lnTo>
                    <a:pt x="6569" y="1277"/>
                  </a:lnTo>
                  <a:lnTo>
                    <a:pt x="6539" y="1252"/>
                  </a:lnTo>
                  <a:lnTo>
                    <a:pt x="6508" y="1228"/>
                  </a:lnTo>
                  <a:lnTo>
                    <a:pt x="6474" y="1205"/>
                  </a:lnTo>
                  <a:lnTo>
                    <a:pt x="6439" y="1183"/>
                  </a:lnTo>
                  <a:lnTo>
                    <a:pt x="6403" y="1163"/>
                  </a:lnTo>
                  <a:lnTo>
                    <a:pt x="6365" y="1144"/>
                  </a:lnTo>
                  <a:lnTo>
                    <a:pt x="6326" y="1126"/>
                  </a:lnTo>
                  <a:lnTo>
                    <a:pt x="6285" y="1110"/>
                  </a:lnTo>
                  <a:lnTo>
                    <a:pt x="6243" y="1095"/>
                  </a:lnTo>
                  <a:lnTo>
                    <a:pt x="6198" y="1082"/>
                  </a:lnTo>
                  <a:lnTo>
                    <a:pt x="6154" y="1071"/>
                  </a:lnTo>
                  <a:lnTo>
                    <a:pt x="6107" y="1062"/>
                  </a:lnTo>
                  <a:lnTo>
                    <a:pt x="6060" y="1054"/>
                  </a:lnTo>
                  <a:lnTo>
                    <a:pt x="6011" y="1049"/>
                  </a:lnTo>
                  <a:lnTo>
                    <a:pt x="5959" y="1045"/>
                  </a:lnTo>
                  <a:lnTo>
                    <a:pt x="5908" y="1044"/>
                  </a:lnTo>
                  <a:lnTo>
                    <a:pt x="4764" y="1044"/>
                  </a:lnTo>
                  <a:lnTo>
                    <a:pt x="2978" y="8826"/>
                  </a:lnTo>
                  <a:lnTo>
                    <a:pt x="2944" y="9016"/>
                  </a:lnTo>
                  <a:lnTo>
                    <a:pt x="2905" y="9198"/>
                  </a:lnTo>
                  <a:lnTo>
                    <a:pt x="2860" y="9370"/>
                  </a:lnTo>
                  <a:lnTo>
                    <a:pt x="2811" y="9533"/>
                  </a:lnTo>
                  <a:lnTo>
                    <a:pt x="2758" y="9688"/>
                  </a:lnTo>
                  <a:lnTo>
                    <a:pt x="2698" y="9834"/>
                  </a:lnTo>
                  <a:lnTo>
                    <a:pt x="2636" y="9971"/>
                  </a:lnTo>
                  <a:lnTo>
                    <a:pt x="2569" y="10100"/>
                  </a:lnTo>
                  <a:lnTo>
                    <a:pt x="2496" y="10220"/>
                  </a:lnTo>
                  <a:lnTo>
                    <a:pt x="2421" y="10333"/>
                  </a:lnTo>
                  <a:lnTo>
                    <a:pt x="2342" y="10437"/>
                  </a:lnTo>
                  <a:lnTo>
                    <a:pt x="2260" y="10534"/>
                  </a:lnTo>
                  <a:lnTo>
                    <a:pt x="2172" y="10623"/>
                  </a:lnTo>
                  <a:lnTo>
                    <a:pt x="2082" y="10705"/>
                  </a:lnTo>
                  <a:lnTo>
                    <a:pt x="1988" y="10778"/>
                  </a:lnTo>
                  <a:lnTo>
                    <a:pt x="1891" y="10846"/>
                  </a:lnTo>
                  <a:lnTo>
                    <a:pt x="1791" y="10906"/>
                  </a:lnTo>
                  <a:lnTo>
                    <a:pt x="1688" y="10958"/>
                  </a:lnTo>
                  <a:lnTo>
                    <a:pt x="1582" y="11004"/>
                  </a:lnTo>
                  <a:lnTo>
                    <a:pt x="1473" y="11043"/>
                  </a:lnTo>
                  <a:lnTo>
                    <a:pt x="1362" y="11076"/>
                  </a:lnTo>
                  <a:lnTo>
                    <a:pt x="1247" y="11102"/>
                  </a:lnTo>
                  <a:lnTo>
                    <a:pt x="1132" y="11122"/>
                  </a:lnTo>
                  <a:lnTo>
                    <a:pt x="1014" y="11137"/>
                  </a:lnTo>
                  <a:lnTo>
                    <a:pt x="893" y="11145"/>
                  </a:lnTo>
                  <a:lnTo>
                    <a:pt x="771" y="11147"/>
                  </a:lnTo>
                  <a:lnTo>
                    <a:pt x="646" y="11144"/>
                  </a:lnTo>
                  <a:lnTo>
                    <a:pt x="520" y="11135"/>
                  </a:lnTo>
                  <a:lnTo>
                    <a:pt x="392" y="11120"/>
                  </a:lnTo>
                  <a:lnTo>
                    <a:pt x="262" y="11100"/>
                  </a:lnTo>
                  <a:lnTo>
                    <a:pt x="133" y="11076"/>
                  </a:lnTo>
                  <a:lnTo>
                    <a:pt x="0" y="11046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91240" y="120600"/>
              <a:ext cx="79560" cy="86760"/>
            </a:xfrm>
            <a:custGeom>
              <a:avLst/>
              <a:gdLst/>
              <a:ahLst/>
              <a:rect l="l" t="t" r="r" b="b"/>
              <a:pathLst>
                <a:path w="1320" h="1354">
                  <a:moveTo>
                    <a:pt x="187" y="280"/>
                  </a:moveTo>
                  <a:lnTo>
                    <a:pt x="211" y="252"/>
                  </a:lnTo>
                  <a:lnTo>
                    <a:pt x="236" y="226"/>
                  </a:lnTo>
                  <a:lnTo>
                    <a:pt x="262" y="201"/>
                  </a:lnTo>
                  <a:lnTo>
                    <a:pt x="289" y="178"/>
                  </a:lnTo>
                  <a:lnTo>
                    <a:pt x="316" y="156"/>
                  </a:lnTo>
                  <a:lnTo>
                    <a:pt x="344" y="134"/>
                  </a:lnTo>
                  <a:lnTo>
                    <a:pt x="373" y="115"/>
                  </a:lnTo>
                  <a:lnTo>
                    <a:pt x="403" y="97"/>
                  </a:lnTo>
                  <a:lnTo>
                    <a:pt x="433" y="81"/>
                  </a:lnTo>
                  <a:lnTo>
                    <a:pt x="463" y="66"/>
                  </a:lnTo>
                  <a:lnTo>
                    <a:pt x="494" y="53"/>
                  </a:lnTo>
                  <a:lnTo>
                    <a:pt x="525" y="41"/>
                  </a:lnTo>
                  <a:lnTo>
                    <a:pt x="556" y="31"/>
                  </a:lnTo>
                  <a:lnTo>
                    <a:pt x="587" y="22"/>
                  </a:lnTo>
                  <a:lnTo>
                    <a:pt x="619" y="14"/>
                  </a:lnTo>
                  <a:lnTo>
                    <a:pt x="651" y="8"/>
                  </a:lnTo>
                  <a:lnTo>
                    <a:pt x="683" y="4"/>
                  </a:lnTo>
                  <a:lnTo>
                    <a:pt x="715" y="1"/>
                  </a:lnTo>
                  <a:lnTo>
                    <a:pt x="746" y="0"/>
                  </a:lnTo>
                  <a:lnTo>
                    <a:pt x="777" y="0"/>
                  </a:lnTo>
                  <a:lnTo>
                    <a:pt x="808" y="2"/>
                  </a:lnTo>
                  <a:lnTo>
                    <a:pt x="839" y="5"/>
                  </a:lnTo>
                  <a:lnTo>
                    <a:pt x="870" y="10"/>
                  </a:lnTo>
                  <a:lnTo>
                    <a:pt x="901" y="17"/>
                  </a:lnTo>
                  <a:lnTo>
                    <a:pt x="930" y="25"/>
                  </a:lnTo>
                  <a:lnTo>
                    <a:pt x="960" y="35"/>
                  </a:lnTo>
                  <a:lnTo>
                    <a:pt x="988" y="46"/>
                  </a:lnTo>
                  <a:lnTo>
                    <a:pt x="1016" y="59"/>
                  </a:lnTo>
                  <a:lnTo>
                    <a:pt x="1043" y="74"/>
                  </a:lnTo>
                  <a:lnTo>
                    <a:pt x="1070" y="90"/>
                  </a:lnTo>
                  <a:lnTo>
                    <a:pt x="1095" y="108"/>
                  </a:lnTo>
                  <a:lnTo>
                    <a:pt x="1120" y="128"/>
                  </a:lnTo>
                  <a:lnTo>
                    <a:pt x="1145" y="150"/>
                  </a:lnTo>
                  <a:lnTo>
                    <a:pt x="1167" y="172"/>
                  </a:lnTo>
                  <a:lnTo>
                    <a:pt x="1188" y="195"/>
                  </a:lnTo>
                  <a:lnTo>
                    <a:pt x="1207" y="219"/>
                  </a:lnTo>
                  <a:lnTo>
                    <a:pt x="1224" y="245"/>
                  </a:lnTo>
                  <a:lnTo>
                    <a:pt x="1240" y="271"/>
                  </a:lnTo>
                  <a:lnTo>
                    <a:pt x="1255" y="298"/>
                  </a:lnTo>
                  <a:lnTo>
                    <a:pt x="1268" y="326"/>
                  </a:lnTo>
                  <a:lnTo>
                    <a:pt x="1280" y="354"/>
                  </a:lnTo>
                  <a:lnTo>
                    <a:pt x="1290" y="383"/>
                  </a:lnTo>
                  <a:lnTo>
                    <a:pt x="1299" y="413"/>
                  </a:lnTo>
                  <a:lnTo>
                    <a:pt x="1306" y="444"/>
                  </a:lnTo>
                  <a:lnTo>
                    <a:pt x="1312" y="475"/>
                  </a:lnTo>
                  <a:lnTo>
                    <a:pt x="1316" y="506"/>
                  </a:lnTo>
                  <a:lnTo>
                    <a:pt x="1319" y="538"/>
                  </a:lnTo>
                  <a:lnTo>
                    <a:pt x="1320" y="570"/>
                  </a:lnTo>
                  <a:lnTo>
                    <a:pt x="1319" y="602"/>
                  </a:lnTo>
                  <a:lnTo>
                    <a:pt x="1318" y="634"/>
                  </a:lnTo>
                  <a:lnTo>
                    <a:pt x="1314" y="667"/>
                  </a:lnTo>
                  <a:lnTo>
                    <a:pt x="1310" y="699"/>
                  </a:lnTo>
                  <a:lnTo>
                    <a:pt x="1303" y="733"/>
                  </a:lnTo>
                  <a:lnTo>
                    <a:pt x="1295" y="765"/>
                  </a:lnTo>
                  <a:lnTo>
                    <a:pt x="1286" y="797"/>
                  </a:lnTo>
                  <a:lnTo>
                    <a:pt x="1275" y="829"/>
                  </a:lnTo>
                  <a:lnTo>
                    <a:pt x="1263" y="861"/>
                  </a:lnTo>
                  <a:lnTo>
                    <a:pt x="1249" y="893"/>
                  </a:lnTo>
                  <a:lnTo>
                    <a:pt x="1234" y="924"/>
                  </a:lnTo>
                  <a:lnTo>
                    <a:pt x="1217" y="955"/>
                  </a:lnTo>
                  <a:lnTo>
                    <a:pt x="1198" y="985"/>
                  </a:lnTo>
                  <a:lnTo>
                    <a:pt x="1178" y="1015"/>
                  </a:lnTo>
                  <a:lnTo>
                    <a:pt x="1157" y="1045"/>
                  </a:lnTo>
                  <a:lnTo>
                    <a:pt x="1134" y="1074"/>
                  </a:lnTo>
                  <a:lnTo>
                    <a:pt x="1109" y="1102"/>
                  </a:lnTo>
                  <a:lnTo>
                    <a:pt x="1084" y="1128"/>
                  </a:lnTo>
                  <a:lnTo>
                    <a:pt x="1058" y="1153"/>
                  </a:lnTo>
                  <a:lnTo>
                    <a:pt x="1031" y="1176"/>
                  </a:lnTo>
                  <a:lnTo>
                    <a:pt x="1004" y="1198"/>
                  </a:lnTo>
                  <a:lnTo>
                    <a:pt x="976" y="1218"/>
                  </a:lnTo>
                  <a:lnTo>
                    <a:pt x="947" y="1238"/>
                  </a:lnTo>
                  <a:lnTo>
                    <a:pt x="918" y="1255"/>
                  </a:lnTo>
                  <a:lnTo>
                    <a:pt x="888" y="1272"/>
                  </a:lnTo>
                  <a:lnTo>
                    <a:pt x="857" y="1286"/>
                  </a:lnTo>
                  <a:lnTo>
                    <a:pt x="826" y="1300"/>
                  </a:lnTo>
                  <a:lnTo>
                    <a:pt x="795" y="1312"/>
                  </a:lnTo>
                  <a:lnTo>
                    <a:pt x="764" y="1323"/>
                  </a:lnTo>
                  <a:lnTo>
                    <a:pt x="733" y="1332"/>
                  </a:lnTo>
                  <a:lnTo>
                    <a:pt x="701" y="1339"/>
                  </a:lnTo>
                  <a:lnTo>
                    <a:pt x="670" y="1345"/>
                  </a:lnTo>
                  <a:lnTo>
                    <a:pt x="638" y="1349"/>
                  </a:lnTo>
                  <a:lnTo>
                    <a:pt x="606" y="1352"/>
                  </a:lnTo>
                  <a:lnTo>
                    <a:pt x="574" y="1354"/>
                  </a:lnTo>
                  <a:lnTo>
                    <a:pt x="543" y="1353"/>
                  </a:lnTo>
                  <a:lnTo>
                    <a:pt x="512" y="1352"/>
                  </a:lnTo>
                  <a:lnTo>
                    <a:pt x="481" y="1348"/>
                  </a:lnTo>
                  <a:lnTo>
                    <a:pt x="450" y="1343"/>
                  </a:lnTo>
                  <a:lnTo>
                    <a:pt x="420" y="1337"/>
                  </a:lnTo>
                  <a:lnTo>
                    <a:pt x="391" y="1329"/>
                  </a:lnTo>
                  <a:lnTo>
                    <a:pt x="361" y="1319"/>
                  </a:lnTo>
                  <a:lnTo>
                    <a:pt x="332" y="1306"/>
                  </a:lnTo>
                  <a:lnTo>
                    <a:pt x="304" y="1293"/>
                  </a:lnTo>
                  <a:lnTo>
                    <a:pt x="277" y="1279"/>
                  </a:lnTo>
                  <a:lnTo>
                    <a:pt x="250" y="1262"/>
                  </a:lnTo>
                  <a:lnTo>
                    <a:pt x="225" y="1245"/>
                  </a:lnTo>
                  <a:lnTo>
                    <a:pt x="200" y="1225"/>
                  </a:lnTo>
                  <a:lnTo>
                    <a:pt x="176" y="1204"/>
                  </a:lnTo>
                  <a:lnTo>
                    <a:pt x="154" y="1182"/>
                  </a:lnTo>
                  <a:lnTo>
                    <a:pt x="134" y="1159"/>
                  </a:lnTo>
                  <a:lnTo>
                    <a:pt x="113" y="1134"/>
                  </a:lnTo>
                  <a:lnTo>
                    <a:pt x="96" y="1109"/>
                  </a:lnTo>
                  <a:lnTo>
                    <a:pt x="80" y="1083"/>
                  </a:lnTo>
                  <a:lnTo>
                    <a:pt x="65" y="1056"/>
                  </a:lnTo>
                  <a:lnTo>
                    <a:pt x="52" y="1028"/>
                  </a:lnTo>
                  <a:lnTo>
                    <a:pt x="40" y="999"/>
                  </a:lnTo>
                  <a:lnTo>
                    <a:pt x="30" y="969"/>
                  </a:lnTo>
                  <a:lnTo>
                    <a:pt x="21" y="940"/>
                  </a:lnTo>
                  <a:lnTo>
                    <a:pt x="14" y="909"/>
                  </a:lnTo>
                  <a:lnTo>
                    <a:pt x="8" y="879"/>
                  </a:lnTo>
                  <a:lnTo>
                    <a:pt x="4" y="847"/>
                  </a:lnTo>
                  <a:lnTo>
                    <a:pt x="1" y="816"/>
                  </a:lnTo>
                  <a:lnTo>
                    <a:pt x="0" y="784"/>
                  </a:lnTo>
                  <a:lnTo>
                    <a:pt x="1" y="752"/>
                  </a:lnTo>
                  <a:lnTo>
                    <a:pt x="2" y="719"/>
                  </a:lnTo>
                  <a:lnTo>
                    <a:pt x="6" y="686"/>
                  </a:lnTo>
                  <a:lnTo>
                    <a:pt x="11" y="654"/>
                  </a:lnTo>
                  <a:lnTo>
                    <a:pt x="17" y="621"/>
                  </a:lnTo>
                  <a:lnTo>
                    <a:pt x="25" y="589"/>
                  </a:lnTo>
                  <a:lnTo>
                    <a:pt x="34" y="556"/>
                  </a:lnTo>
                  <a:lnTo>
                    <a:pt x="45" y="524"/>
                  </a:lnTo>
                  <a:lnTo>
                    <a:pt x="57" y="492"/>
                  </a:lnTo>
                  <a:lnTo>
                    <a:pt x="71" y="461"/>
                  </a:lnTo>
                  <a:lnTo>
                    <a:pt x="86" y="428"/>
                  </a:lnTo>
                  <a:lnTo>
                    <a:pt x="103" y="398"/>
                  </a:lnTo>
                  <a:lnTo>
                    <a:pt x="122" y="367"/>
                  </a:lnTo>
                  <a:lnTo>
                    <a:pt x="143" y="337"/>
                  </a:lnTo>
                  <a:lnTo>
                    <a:pt x="164" y="308"/>
                  </a:lnTo>
                  <a:lnTo>
                    <a:pt x="187" y="280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861320" y="276840"/>
              <a:ext cx="207720" cy="563040"/>
            </a:xfrm>
            <a:custGeom>
              <a:avLst/>
              <a:gdLst/>
              <a:ahLst/>
              <a:rect l="l" t="t" r="r" b="b"/>
              <a:pathLst>
                <a:path w="3461" h="8807">
                  <a:moveTo>
                    <a:pt x="0" y="1044"/>
                  </a:moveTo>
                  <a:lnTo>
                    <a:pt x="241" y="0"/>
                  </a:lnTo>
                  <a:lnTo>
                    <a:pt x="3461" y="0"/>
                  </a:lnTo>
                  <a:lnTo>
                    <a:pt x="1658" y="7802"/>
                  </a:lnTo>
                  <a:lnTo>
                    <a:pt x="3414" y="7802"/>
                  </a:lnTo>
                  <a:lnTo>
                    <a:pt x="3150" y="8807"/>
                  </a:lnTo>
                  <a:lnTo>
                    <a:pt x="160" y="8807"/>
                  </a:lnTo>
                  <a:lnTo>
                    <a:pt x="1954" y="1044"/>
                  </a:lnTo>
                  <a:lnTo>
                    <a:pt x="0" y="1044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8080560" y="371520"/>
            <a:ext cx="76140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e00000"/>
                </a:solidFill>
                <a:latin typeface="Arial Narrow"/>
              </a:rPr>
              <a:t>Innov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048520" y="501480"/>
            <a:ext cx="93348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e00000"/>
                </a:solidFill>
                <a:latin typeface="Arial Narrow"/>
              </a:rPr>
              <a:t>Manufactur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1805040" y="6583320"/>
            <a:ext cx="81432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5560" y="5063760"/>
            <a:ext cx="7804080" cy="54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1" i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54000" algn="ctr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3" marL="1257480" algn="ctr">
              <a:spcBef>
                <a:spcPts val="451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4" marL="1600200" algn="ctr">
              <a:spcBef>
                <a:spcPts val="400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5" marL="1600200">
              <a:spcBef>
                <a:spcPts val="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6" marL="1600200">
              <a:spcBef>
                <a:spcPts val="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3.jpeg"/><Relationship Id="rId4" Type="http://schemas.openxmlformats.org/officeDocument/2006/relationships/package" Target="../embeddings/oleObject2.xlsx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3.jpeg"/><Relationship Id="rId4" Type="http://schemas.openxmlformats.org/officeDocument/2006/relationships/package" Target="../embeddings/oleObject2.xlsx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5560" y="5063760"/>
            <a:ext cx="7804080" cy="54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 Narrow"/>
              </a:rPr>
              <a:t>SiGe Qualification – Vendor Perspective</a:t>
            </a:r>
            <a:endParaRPr b="1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51960" y="5574960"/>
            <a:ext cx="7807320" cy="95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 Narrow"/>
              </a:rPr>
              <a:t>Chuck Tabbert</a:t>
            </a:r>
            <a:endParaRPr b="1" i="1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 Narrow"/>
              </a:rPr>
              <a:t>Director, Aerospace &amp; Defense Services</a:t>
            </a:r>
            <a:endParaRPr b="1" i="1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 Narrow"/>
              </a:rPr>
              <a:t>505-823-1293</a:t>
            </a:r>
            <a:endParaRPr b="1" i="1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 Narrow"/>
              </a:rPr>
              <a:t>ctabbert@jazzsemi.com</a:t>
            </a:r>
            <a:endParaRPr b="1" i="1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0" y="1279440"/>
            <a:ext cx="9144000" cy="530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28320" y="523800"/>
            <a:ext cx="7164360" cy="55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omplementary BiCMOS – Vertical PNP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7" name=""/>
          <p:cNvSpPr/>
          <p:nvPr/>
        </p:nvSpPr>
        <p:spPr>
          <a:xfrm>
            <a:off x="3821040" y="1528920"/>
            <a:ext cx="5238720" cy="48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3821040" y="1523880"/>
            <a:ext cx="5238720" cy="349596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171360" y="1454040"/>
            <a:ext cx="376884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6680" indent="-166680">
              <a:lnSpc>
                <a:spcPct val="100000"/>
              </a:lnSpc>
              <a:spcAft>
                <a:spcPts val="1375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Marke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1792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ush/Pull Ampl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1792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Hard Disk Drive (HDD) Pre-Amp and Driver 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1792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High-Performance Data Conver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VPNP Module Integrated with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1792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0.35µm SiGe BiC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1792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0.18µm SiGe BiC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1792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0.18µm RF C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0" name=""/>
          <p:cNvGraphicFramePr/>
          <p:nvPr/>
        </p:nvGraphicFramePr>
        <p:xfrm>
          <a:off x="4203720" y="4730760"/>
          <a:ext cx="4467240" cy="1387440"/>
        </p:xfrm>
        <a:graphic>
          <a:graphicData uri="http://schemas.openxmlformats.org/drawingml/2006/table">
            <a:tbl>
              <a:tblPr/>
              <a:tblGrid>
                <a:gridCol w="1289160"/>
                <a:gridCol w="1287360"/>
                <a:gridCol w="1289160"/>
                <a:gridCol w="601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7a00"/>
                          </a:solidFill>
                          <a:latin typeface="Arial Narrow"/>
                          <a:ea typeface="Arial"/>
                        </a:rPr>
                        <a:t>0.35</a:t>
                      </a:r>
                      <a:r>
                        <a:rPr b="1" lang="el-GR" sz="1600" spc="-1" strike="noStrike">
                          <a:solidFill>
                            <a:srgbClr val="007a00"/>
                          </a:solidFill>
                          <a:latin typeface="Arial Narrow"/>
                        </a:rPr>
                        <a:t>μ</a:t>
                      </a:r>
                      <a:r>
                        <a:rPr b="1" lang="en-US" sz="1600" spc="-1" strike="noStrike">
                          <a:solidFill>
                            <a:srgbClr val="007a00"/>
                          </a:solidFill>
                          <a:latin typeface="Arial Narrow"/>
                        </a:rPr>
                        <a:t>m</a:t>
                      </a:r>
                      <a:r>
                        <a:rPr b="1" lang="en-US" sz="1600" spc="-1" strike="noStrike">
                          <a:solidFill>
                            <a:srgbClr val="007a00"/>
                          </a:solidFill>
                          <a:latin typeface="Arial Narrow"/>
                          <a:ea typeface="Arial"/>
                        </a:rPr>
                        <a:t> VPN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7a00"/>
                          </a:solidFill>
                          <a:latin typeface="Arial Narrow"/>
                          <a:ea typeface="Arial"/>
                        </a:rPr>
                        <a:t>0.18</a:t>
                      </a:r>
                      <a:r>
                        <a:rPr b="1" lang="el-GR" sz="1600" spc="-1" strike="noStrike">
                          <a:solidFill>
                            <a:srgbClr val="007a00"/>
                          </a:solidFill>
                          <a:latin typeface="Arial Narrow"/>
                        </a:rPr>
                        <a:t>μ</a:t>
                      </a:r>
                      <a:r>
                        <a:rPr b="1" lang="en-US" sz="1600" spc="-1" strike="noStrike">
                          <a:solidFill>
                            <a:srgbClr val="007a00"/>
                          </a:solidFill>
                          <a:latin typeface="Arial Narrow"/>
                        </a:rPr>
                        <a:t>m</a:t>
                      </a:r>
                      <a:r>
                        <a:rPr b="1" lang="en-US" sz="1600" spc="-1" strike="noStrike">
                          <a:solidFill>
                            <a:srgbClr val="007a00"/>
                          </a:solidFill>
                          <a:latin typeface="Arial Narrow"/>
                          <a:ea typeface="Arial"/>
                        </a:rPr>
                        <a:t> VPN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Peak Be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Ft (Vce = -5V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BVce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H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491" name=""/>
          <p:cNvSpPr/>
          <p:nvPr/>
        </p:nvSpPr>
        <p:spPr>
          <a:xfrm>
            <a:off x="333360" y="90360"/>
            <a:ext cx="484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ecff"/>
                </a:solidFill>
                <a:latin typeface="Arial Narrow"/>
              </a:rPr>
              <a:t>BiCM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42720" y="380880"/>
            <a:ext cx="67640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SiGe – High Volume Production &amp; Increasing</a:t>
            </a: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190840" y="3598920"/>
            <a:ext cx="3352680" cy="21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ource: Semico Research Corp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285840" y="1293840"/>
          <a:ext cx="8267400" cy="2276280"/>
        </p:xfrm>
        <a:graphic>
          <a:graphicData uri="http://schemas.openxmlformats.org/drawingml/2006/table">
            <a:tbl>
              <a:tblPr/>
              <a:tblGrid>
                <a:gridCol w="1033560"/>
                <a:gridCol w="1033560"/>
                <a:gridCol w="1032840"/>
                <a:gridCol w="1033560"/>
                <a:gridCol w="1033560"/>
                <a:gridCol w="1033200"/>
                <a:gridCol w="1033560"/>
                <a:gridCol w="1033560"/>
              </a:tblGrid>
              <a:tr h="75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M, Units=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GR 02-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ven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4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7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1,3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16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2,2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3,1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7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its Shipp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,1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,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,3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,6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5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5" name=""/>
          <p:cNvSpPr/>
          <p:nvPr/>
        </p:nvSpPr>
        <p:spPr>
          <a:xfrm>
            <a:off x="324000" y="3865680"/>
            <a:ext cx="8134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30040" indent="-230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etween 2003 &amp; 2007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Industry shows a 5X increase in  units shi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Jazz has seen a 15X increase in wafers shi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04920" y="4915080"/>
            <a:ext cx="8134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3000"/>
          </a:bodyPr>
          <a:p>
            <a:pPr marL="190800" indent="-190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ems like SiGe is a worldwide accepted technology qualified for commercial &amp; industrial u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800" indent="-190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800" indent="-1908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e question here is – is this technology ready for use in the harsh environments of military and space applications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800" indent="-1908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xtended Temperature, Long Term Reliability, Radiation Effec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42720" y="380880"/>
            <a:ext cx="67640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SiGe – Where’s It Being Used Now?  Radios -  Of Course!</a:t>
            </a: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29200" y="1245960"/>
            <a:ext cx="3905280" cy="43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2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ell Phones - SiGe in the RF Transceiver front-end IC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230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230040" indent="-230040">
              <a:spcBef>
                <a:spcPts val="2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Fiber optics components (receivers, transmitters, transceivers and amplifiers) 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230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230040" indent="-230040">
              <a:spcBef>
                <a:spcPts val="2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DD -  SiGe technology has a benefit in the read/write channels and the preamplifiers in HDDs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230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230040" indent="-230040">
              <a:spcBef>
                <a:spcPts val="2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WLAN - More range and higher frequencies for 802.11 modules means that more power will be needed and that the frequency capabilities of RF CMOS will be exceeded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230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230040" indent="-230040">
              <a:spcBef>
                <a:spcPts val="2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GPS - SiGe can provide a cleaner signal and, most importantly, lower power consumption than other GPS integrated receiver solution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230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230040" indent="-230040">
              <a:spcBef>
                <a:spcPts val="2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ordless Phones:   frequency requirements and power levels are too low to force non-silicon solutions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230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230040" indent="-230040">
              <a:spcBef>
                <a:spcPts val="2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luetooth -  modules are low power modules operating at a frequency low enough that silicon technology is adequate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230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230040" indent="-230040">
              <a:spcBef>
                <a:spcPts val="2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igital STB -Amplifier and VCO (Voltage Controlled Oscillator) – Lower noise &amp; better gain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119160" y="1257480"/>
            <a:ext cx="4133880" cy="293040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2"/>
          <a:stretch/>
        </p:blipFill>
        <p:spPr>
          <a:xfrm>
            <a:off x="189000" y="4248000"/>
            <a:ext cx="3354480" cy="2581560"/>
          </a:xfrm>
          <a:prstGeom prst="rect">
            <a:avLst/>
          </a:prstGeom>
          <a:ln w="0">
            <a:noFill/>
          </a:ln>
        </p:spPr>
      </p:pic>
      <p:sp>
        <p:nvSpPr>
          <p:cNvPr id="501" name=""/>
          <p:cNvSpPr/>
          <p:nvPr/>
        </p:nvSpPr>
        <p:spPr>
          <a:xfrm>
            <a:off x="2590920" y="5951520"/>
            <a:ext cx="5238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30040" indent="-2300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Notice: Two Generation Bump In Performance from RFCMOS to Si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42720" y="380880"/>
            <a:ext cx="67640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SBC18HX Process Reliability Tests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019160" y="1350720"/>
            <a:ext cx="68580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tandard Industry Process Tests  Completed and Pass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2068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lectromigra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2068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Hot Carrier Injec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2068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Gate Oxide Integrit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2068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reshold Voltage Stabilit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2068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JT Reverse Stres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2068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assivation Integrit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0040" indent="-23004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tandard Industry Product Tests Completed and Pass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1766880" y="4343400"/>
            <a:ext cx="5057640" cy="177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42720" y="380880"/>
            <a:ext cx="67640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Jazz Specific Radiation / Temperature Data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143000" y="140760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0040" indent="-230040">
              <a:spcBef>
                <a:spcPts val="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Proton Testing – 62.5MeV @1E12-2E13 fluences – 2006 tests by Univ of Wisconsin 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20680">
              <a:spcBef>
                <a:spcPts val="4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DC results – slight degradation in base current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20680">
              <a:spcBef>
                <a:spcPts val="4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mall-Signal AC result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081080" indent="-166680">
              <a:spcBef>
                <a:spcPts val="34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slight degradation in power gain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081080" indent="-166680">
              <a:spcBef>
                <a:spcPts val="34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Slight degradation in Fmax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081080" indent="-166680">
              <a:spcBef>
                <a:spcPts val="34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Linearity – better linearity – increased IIP3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081080" indent="-166680">
              <a:spcBef>
                <a:spcPts val="34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Large signal high-power - .0.3dB degradation in Pout, &lt;2%PAE degradation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30040" indent="-230040">
              <a:spcBef>
                <a:spcPts val="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yogenic (77K) &amp; High Temperature (160C) Data showed minor fluxuation in RF Power Performance (Univ of Wisconsin/NASA-GRC)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42720" y="380880"/>
            <a:ext cx="67640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RH SiGe Efforts at Jazz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23440" y="1341360"/>
            <a:ext cx="8172360" cy="394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HAR program developed Rad-Aware models for Jazz SBC18 process.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20680">
              <a:spcBef>
                <a:spcPts val="55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Design teams designing circuits and rad testing – 2007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ck-Film SOI process integration completed.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20680">
              <a:spcBef>
                <a:spcPts val="55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Fabrication of 0.13 SiGe circuits (SBC13) on SOI proceeding- 2007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20680">
              <a:spcBef>
                <a:spcPts val="55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CMOS library adding deep-trench isolation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42720" y="380880"/>
            <a:ext cx="67640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Summary</a:t>
            </a: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143000" y="1731600"/>
            <a:ext cx="6858000" cy="4676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Ge is a mainstream commercial technolog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dustry push to integrated low power RF transceivers will require SiGe integration into Military &amp; Space technology portfolio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adiation effects and temperature effects seem very manageable due to robustness of base technolog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Jazz is prepared to exploit this technology for Military &amp; Space application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291960"/>
            <a:ext cx="67644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Jazz Semiconductor Overview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545080" y="3871800"/>
            <a:ext cx="3481560" cy="22669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19160" y="1346040"/>
            <a:ext cx="9024840" cy="44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 indent="-1681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00000"/>
                </a:solidFill>
                <a:uFillTx/>
                <a:latin typeface="Arial Narrow"/>
              </a:rPr>
              <a:t>A Leading Pure-Play Silicon Wafer Foundry With On-Shore Manufactu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ormed in 2002 from Conexant Systems (formerly part of Rockwell Internationa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ivate but announced plan to merge with Acquicor which will make the combined entity pub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7k wpm 8-inch Si wafer Fab in Newport Beach with &gt;15-Year Track Record, &gt;$1B in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On-Shore found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venue of ~200M/y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TAR Registered, NSA Sponsorship for Trusted Found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ocus on Specialty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0.5-micron to 0.13-micr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nalog/RF: CMOS, SiGe BiCMOS, High Vol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Other: High Q Passives, MEMs, Im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/D Specific: Stitching, foundry for Rad-Hard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95280" y="6130800"/>
            <a:ext cx="8167680" cy="474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99400" y="6167520"/>
            <a:ext cx="767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Established as a Trusted Partner Throughout Commercial and DoD Mar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80880"/>
            <a:ext cx="67640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JAZZ Trusted Foundry Initiative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182600"/>
            <a:ext cx="8610480" cy="532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Jazz is aggressively pursing trusted foundry status to serve CAT 1 program (classified &amp; ITAR) need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206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Jazz is first US semiconductor company to achieve ISO/IEC 27001:2005 certification for Information Security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230040" indent="-230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hree parallel efforts underway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20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esktop accreditation  through TAPO and future accreditations through DMEA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2" marL="1081080" indent="-166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dures provided to TAPO/DMEA for review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20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SS Facilities Clearance In Progres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20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mployee Clearances In Progres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0040" indent="-23004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 Narrow"/>
              </a:rPr>
              <a:t>Accreditation probable within 3 months</a:t>
            </a:r>
            <a:endParaRPr b="1" lang="en-US" sz="29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0320" y="323640"/>
            <a:ext cx="6404040" cy="54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Jazz Process Technology Spectrum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6296040"/>
            <a:ext cx="1004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1280" y="1731960"/>
            <a:ext cx="0" cy="1528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405640" y="1731960"/>
            <a:ext cx="0" cy="298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16040" y="1731960"/>
            <a:ext cx="12654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405640" y="2030400"/>
            <a:ext cx="0" cy="301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405640" y="2332080"/>
            <a:ext cx="0" cy="336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405640" y="2668680"/>
            <a:ext cx="0" cy="291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405640" y="2960640"/>
            <a:ext cx="0" cy="601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1280" y="3260880"/>
            <a:ext cx="0" cy="1203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405640" y="3562200"/>
            <a:ext cx="0" cy="600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405640" y="4162320"/>
            <a:ext cx="0" cy="301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1280" y="4464000"/>
            <a:ext cx="0" cy="1832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405640" y="4464000"/>
            <a:ext cx="0" cy="300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405640" y="4764240"/>
            <a:ext cx="0" cy="30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405640" y="5065560"/>
            <a:ext cx="0" cy="300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405640" y="5365800"/>
            <a:ext cx="0" cy="301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405640" y="5994360"/>
            <a:ext cx="0" cy="301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16040" y="6296040"/>
            <a:ext cx="12654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881440" y="6296040"/>
            <a:ext cx="1203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84560" y="6296040"/>
            <a:ext cx="1085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170320" y="6296040"/>
            <a:ext cx="1079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249960" y="6296040"/>
            <a:ext cx="1077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327800" y="6296040"/>
            <a:ext cx="1077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1731960"/>
            <a:ext cx="1004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81440" y="1731960"/>
            <a:ext cx="1203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4560" y="1731960"/>
            <a:ext cx="1085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170320" y="1731960"/>
            <a:ext cx="1079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249960" y="1731960"/>
            <a:ext cx="1077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327800" y="1731960"/>
            <a:ext cx="1077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405640" y="5667480"/>
            <a:ext cx="0" cy="326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77960" y="6537240"/>
            <a:ext cx="977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77960" y="1862280"/>
            <a:ext cx="0" cy="1473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359920" y="1862280"/>
            <a:ext cx="0" cy="272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55720" y="1862280"/>
            <a:ext cx="1230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359920" y="2135160"/>
            <a:ext cx="0" cy="291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59920" y="2427120"/>
            <a:ext cx="0" cy="325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359920" y="2752560"/>
            <a:ext cx="0" cy="292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359920" y="3044880"/>
            <a:ext cx="0" cy="290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77960" y="3335400"/>
            <a:ext cx="0" cy="116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59920" y="3625920"/>
            <a:ext cx="0" cy="582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59920" y="4208400"/>
            <a:ext cx="0" cy="290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77960" y="4498920"/>
            <a:ext cx="0" cy="2038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359920" y="4498920"/>
            <a:ext cx="0" cy="292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359920" y="4791240"/>
            <a:ext cx="0" cy="291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359920" y="5083200"/>
            <a:ext cx="0" cy="289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359920" y="5372280"/>
            <a:ext cx="0" cy="585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55720" y="6537240"/>
            <a:ext cx="1230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986200" y="6537240"/>
            <a:ext cx="1170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156200" y="6537240"/>
            <a:ext cx="1057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213520" y="6537240"/>
            <a:ext cx="10490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62560" y="6537240"/>
            <a:ext cx="10494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311960" y="6537240"/>
            <a:ext cx="10479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77960" y="1862280"/>
            <a:ext cx="977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986200" y="1862280"/>
            <a:ext cx="1170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156200" y="1862280"/>
            <a:ext cx="1057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213520" y="1862280"/>
            <a:ext cx="10490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62560" y="1862280"/>
            <a:ext cx="10494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311960" y="1862280"/>
            <a:ext cx="10479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359920" y="5958000"/>
            <a:ext cx="0" cy="57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359920" y="3335400"/>
            <a:ext cx="0" cy="290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68440" y="1395360"/>
            <a:ext cx="8004240" cy="5214960"/>
            <a:chOff x="568440" y="1395360"/>
            <a:chExt cx="8004240" cy="5214960"/>
          </a:xfrm>
        </p:grpSpPr>
        <p:pic>
          <p:nvPicPr>
            <p:cNvPr id="164" name="" descr=""/>
            <p:cNvPicPr/>
            <p:nvPr/>
          </p:nvPicPr>
          <p:blipFill>
            <a:blip r:embed="rId1"/>
            <a:srcRect l="0" t="866" r="0" b="1391"/>
            <a:stretch/>
          </p:blipFill>
          <p:spPr>
            <a:xfrm>
              <a:off x="568440" y="1395360"/>
              <a:ext cx="8004240" cy="521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7311960" y="5372280"/>
              <a:ext cx="10479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262560" y="5372280"/>
              <a:ext cx="1049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213520" y="5372280"/>
              <a:ext cx="10490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56200" y="5372280"/>
              <a:ext cx="1057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986200" y="5372280"/>
              <a:ext cx="11700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55720" y="5372280"/>
              <a:ext cx="12304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SiGe 150 GH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11960" y="5958000"/>
              <a:ext cx="10479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262560" y="5958000"/>
              <a:ext cx="104940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213520" y="5958000"/>
              <a:ext cx="104904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156200" y="5958000"/>
              <a:ext cx="1057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986200" y="5958000"/>
              <a:ext cx="117000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755720" y="5958000"/>
              <a:ext cx="12304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Im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311960" y="5664240"/>
              <a:ext cx="104796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62560" y="5664240"/>
              <a:ext cx="104940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213520" y="5664240"/>
              <a:ext cx="104904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156200" y="5664240"/>
              <a:ext cx="105732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986200" y="5664240"/>
              <a:ext cx="117000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755720" y="5664240"/>
              <a:ext cx="123048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SiGe 200 GH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311960" y="6246720"/>
              <a:ext cx="10479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262560" y="6246720"/>
              <a:ext cx="10494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213520" y="6246720"/>
              <a:ext cx="10490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156200" y="6246720"/>
              <a:ext cx="10573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986200" y="6246720"/>
              <a:ext cx="1170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755720" y="6246720"/>
              <a:ext cx="12304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Stitching Serv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311960" y="5083200"/>
              <a:ext cx="10479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262560" y="5083200"/>
              <a:ext cx="104940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213520" y="5083200"/>
              <a:ext cx="104904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156200" y="5083200"/>
              <a:ext cx="105732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986200" y="5083200"/>
              <a:ext cx="117000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755720" y="5083200"/>
              <a:ext cx="123048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SiGe 80 GH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1960" y="4791240"/>
              <a:ext cx="10479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262560" y="4791240"/>
              <a:ext cx="1049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213520" y="4791240"/>
              <a:ext cx="10490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156200" y="4791240"/>
              <a:ext cx="1057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986200" y="4791240"/>
              <a:ext cx="11700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755720" y="4791240"/>
              <a:ext cx="12304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SiGe 65 GH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311960" y="4498920"/>
              <a:ext cx="104796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262560" y="4498920"/>
              <a:ext cx="104940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213520" y="4498920"/>
              <a:ext cx="104904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156200" y="4498920"/>
              <a:ext cx="105732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986200" y="4498920"/>
              <a:ext cx="117000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755720" y="4498920"/>
              <a:ext cx="12304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Si 30 GH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77960" y="4498920"/>
              <a:ext cx="977760" cy="14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BiCM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311960" y="4208400"/>
              <a:ext cx="10479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62560" y="4208400"/>
              <a:ext cx="10494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213520" y="4208400"/>
              <a:ext cx="10490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156200" y="4208400"/>
              <a:ext cx="10573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986200" y="4208400"/>
              <a:ext cx="1170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755720" y="4208400"/>
              <a:ext cx="12304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8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311960" y="3916440"/>
              <a:ext cx="10479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262560" y="3916440"/>
              <a:ext cx="1049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213520" y="3916440"/>
              <a:ext cx="10490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56200" y="3916440"/>
              <a:ext cx="1057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986200" y="3916440"/>
              <a:ext cx="11700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755720" y="3916440"/>
              <a:ext cx="12304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12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311960" y="3625920"/>
              <a:ext cx="10479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262560" y="3625920"/>
              <a:ext cx="10494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213520" y="3625920"/>
              <a:ext cx="10490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156200" y="3625920"/>
              <a:ext cx="10573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986200" y="3625920"/>
              <a:ext cx="1170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755720" y="3625920"/>
              <a:ext cx="12304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20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311960" y="3335400"/>
              <a:ext cx="10479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262560" y="3335400"/>
              <a:ext cx="10494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213520" y="3335400"/>
              <a:ext cx="10490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156200" y="3335400"/>
              <a:ext cx="10573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986200" y="3335400"/>
              <a:ext cx="1170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755720" y="3335400"/>
              <a:ext cx="12304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40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77960" y="3335400"/>
              <a:ext cx="977760" cy="11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Power CMOS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BC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311960" y="3044880"/>
              <a:ext cx="10479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262560" y="3044880"/>
              <a:ext cx="10494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13520" y="3044880"/>
              <a:ext cx="10490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156200" y="3044880"/>
              <a:ext cx="10573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86200" y="3044880"/>
              <a:ext cx="1170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755720" y="3044880"/>
              <a:ext cx="12304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1.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311960" y="2752560"/>
              <a:ext cx="104796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262560" y="2752560"/>
              <a:ext cx="104940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13520" y="2752560"/>
              <a:ext cx="104904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56200" y="2752560"/>
              <a:ext cx="105732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986200" y="2752560"/>
              <a:ext cx="117000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755720" y="2752560"/>
              <a:ext cx="12304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1.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311960" y="2427120"/>
              <a:ext cx="10479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262560" y="2427120"/>
              <a:ext cx="10494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213520" y="2427120"/>
              <a:ext cx="10490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156200" y="2427120"/>
              <a:ext cx="10573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986200" y="2427120"/>
              <a:ext cx="11700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755720" y="2427120"/>
              <a:ext cx="12304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2.5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311960" y="2135160"/>
              <a:ext cx="10479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262560" y="2135160"/>
              <a:ext cx="1049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213520" y="2135160"/>
              <a:ext cx="10490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156200" y="2135160"/>
              <a:ext cx="1057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6200" y="2135160"/>
              <a:ext cx="11700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755720" y="2135160"/>
              <a:ext cx="12304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3.3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311960" y="1862280"/>
              <a:ext cx="104796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262560" y="1862280"/>
              <a:ext cx="104940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213520" y="1862280"/>
              <a:ext cx="104904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56200" y="1862280"/>
              <a:ext cx="105732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986200" y="1862280"/>
              <a:ext cx="117000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755720" y="1862280"/>
              <a:ext cx="123048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5.0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77960" y="1862280"/>
              <a:ext cx="97776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Analog / RF CM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77960" y="3335400"/>
              <a:ext cx="7581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7960" y="4498920"/>
              <a:ext cx="7581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55720" y="2135160"/>
              <a:ext cx="660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755720" y="2427120"/>
              <a:ext cx="660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755720" y="2752560"/>
              <a:ext cx="660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55720" y="3044880"/>
              <a:ext cx="660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755720" y="3625920"/>
              <a:ext cx="660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755720" y="3916440"/>
              <a:ext cx="660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755720" y="4208400"/>
              <a:ext cx="660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755720" y="4791240"/>
              <a:ext cx="660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755720" y="5083200"/>
              <a:ext cx="660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755720" y="5372280"/>
              <a:ext cx="660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755720" y="5958000"/>
              <a:ext cx="660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755720" y="5664240"/>
              <a:ext cx="660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755720" y="6246720"/>
              <a:ext cx="660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557520" y="1911240"/>
              <a:ext cx="128520" cy="128520"/>
            </a:xfrm>
            <a:prstGeom prst="ellipse">
              <a:avLst/>
            </a:prstGeom>
            <a:gradFill rotWithShape="0">
              <a:gsLst>
                <a:gs pos="0">
                  <a:srgbClr val="e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97560" y="1911240"/>
              <a:ext cx="128520" cy="128520"/>
            </a:xfrm>
            <a:prstGeom prst="ellipse">
              <a:avLst/>
            </a:prstGeom>
            <a:gradFill rotWithShape="0">
              <a:gsLst>
                <a:gs pos="0">
                  <a:srgbClr val="e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597560" y="2198520"/>
              <a:ext cx="128520" cy="128880"/>
            </a:xfrm>
            <a:prstGeom prst="ellipse">
              <a:avLst/>
            </a:prstGeom>
            <a:gradFill rotWithShape="0">
              <a:gsLst>
                <a:gs pos="0">
                  <a:srgbClr val="e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97560" y="4873680"/>
              <a:ext cx="128520" cy="128520"/>
            </a:xfrm>
            <a:prstGeom prst="ellipse">
              <a:avLst/>
            </a:prstGeom>
            <a:gradFill rotWithShape="0">
              <a:gsLst>
                <a:gs pos="0">
                  <a:srgbClr val="e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97560" y="4583160"/>
              <a:ext cx="128520" cy="128520"/>
            </a:xfrm>
            <a:prstGeom prst="ellipse">
              <a:avLst/>
            </a:prstGeom>
            <a:gradFill rotWithShape="0">
              <a:gsLst>
                <a:gs pos="0">
                  <a:srgbClr val="e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654520" y="5165640"/>
              <a:ext cx="128880" cy="128520"/>
            </a:xfrm>
            <a:prstGeom prst="ellipse">
              <a:avLst/>
            </a:prstGeom>
            <a:gradFill rotWithShape="0">
              <a:gsLst>
                <a:gs pos="0">
                  <a:srgbClr val="e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654520" y="2195640"/>
              <a:ext cx="128880" cy="128520"/>
            </a:xfrm>
            <a:prstGeom prst="ellipse">
              <a:avLst/>
            </a:prstGeom>
            <a:gradFill rotWithShape="0">
              <a:gsLst>
                <a:gs pos="0">
                  <a:srgbClr val="e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654520" y="2514600"/>
              <a:ext cx="128880" cy="128520"/>
            </a:xfrm>
            <a:prstGeom prst="ellipse">
              <a:avLst/>
            </a:prstGeom>
            <a:gradFill rotWithShape="0">
              <a:gsLst>
                <a:gs pos="0">
                  <a:srgbClr val="e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729480" y="1911240"/>
              <a:ext cx="128520" cy="128520"/>
            </a:xfrm>
            <a:prstGeom prst="ellipse">
              <a:avLst/>
            </a:prstGeom>
            <a:gradFill rotWithShape="0">
              <a:gsLst>
                <a:gs pos="0">
                  <a:srgbClr val="e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729480" y="2198520"/>
              <a:ext cx="128520" cy="128880"/>
            </a:xfrm>
            <a:prstGeom prst="ellipse">
              <a:avLst/>
            </a:prstGeom>
            <a:gradFill rotWithShape="0">
              <a:gsLst>
                <a:gs pos="0">
                  <a:srgbClr val="e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729480" y="2819520"/>
              <a:ext cx="128520" cy="128520"/>
            </a:xfrm>
            <a:prstGeom prst="ellipse">
              <a:avLst/>
            </a:prstGeom>
            <a:gradFill rotWithShape="0">
              <a:gsLst>
                <a:gs pos="0">
                  <a:srgbClr val="e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734160" y="5165640"/>
              <a:ext cx="128520" cy="128520"/>
            </a:xfrm>
            <a:prstGeom prst="ellipse">
              <a:avLst/>
            </a:prstGeom>
            <a:gradFill rotWithShape="0">
              <a:gsLst>
                <a:gs pos="0">
                  <a:srgbClr val="e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734160" y="5742000"/>
              <a:ext cx="128520" cy="128520"/>
            </a:xfrm>
            <a:prstGeom prst="ellipse">
              <a:avLst/>
            </a:prstGeom>
            <a:gradFill rotWithShape="0">
              <a:gsLst>
                <a:gs pos="0">
                  <a:srgbClr val="e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734160" y="3995640"/>
              <a:ext cx="128520" cy="128520"/>
            </a:xfrm>
            <a:prstGeom prst="ellipse">
              <a:avLst/>
            </a:prstGeom>
            <a:gradFill rotWithShape="0">
              <a:gsLst>
                <a:gs pos="0">
                  <a:srgbClr val="e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765920" y="1906560"/>
              <a:ext cx="139680" cy="139680"/>
            </a:xfrm>
            <a:prstGeom prst="diamond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727680" y="3699000"/>
              <a:ext cx="139680" cy="139680"/>
            </a:xfrm>
            <a:prstGeom prst="diamond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765920" y="5734080"/>
              <a:ext cx="139680" cy="139680"/>
            </a:xfrm>
            <a:prstGeom prst="diamond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939600" y="1487520"/>
              <a:ext cx="9594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 Narrow"/>
                </a:rPr>
                <a:t>Now Availabl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041200" y="1487520"/>
              <a:ext cx="1035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 Narrow"/>
                </a:rPr>
                <a:t>In Developmen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22240" y="1558800"/>
              <a:ext cx="128520" cy="128880"/>
            </a:xfrm>
            <a:prstGeom prst="ellipse">
              <a:avLst/>
            </a:prstGeom>
            <a:gradFill rotWithShape="0">
              <a:gsLst>
                <a:gs pos="0">
                  <a:srgbClr val="e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927080" y="1554120"/>
              <a:ext cx="139680" cy="139680"/>
            </a:xfrm>
            <a:prstGeom prst="diamond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557520" y="3416400"/>
              <a:ext cx="128520" cy="128520"/>
            </a:xfrm>
            <a:prstGeom prst="ellipse">
              <a:avLst/>
            </a:prstGeom>
            <a:gradFill rotWithShape="0">
              <a:gsLst>
                <a:gs pos="0">
                  <a:srgbClr val="e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57520" y="3705120"/>
              <a:ext cx="128520" cy="128520"/>
            </a:xfrm>
            <a:prstGeom prst="ellipse">
              <a:avLst/>
            </a:prstGeom>
            <a:gradFill rotWithShape="0">
              <a:gsLst>
                <a:gs pos="0">
                  <a:srgbClr val="e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557520" y="3990960"/>
              <a:ext cx="128520" cy="128520"/>
            </a:xfrm>
            <a:prstGeom prst="ellipse">
              <a:avLst/>
            </a:prstGeom>
            <a:gradFill rotWithShape="0">
              <a:gsLst>
                <a:gs pos="0">
                  <a:srgbClr val="e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557520" y="4287960"/>
              <a:ext cx="128520" cy="128520"/>
            </a:xfrm>
            <a:prstGeom prst="ellipse">
              <a:avLst/>
            </a:prstGeom>
            <a:gradFill rotWithShape="0">
              <a:gsLst>
                <a:gs pos="0">
                  <a:srgbClr val="e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729480" y="3422520"/>
              <a:ext cx="128520" cy="128880"/>
            </a:xfrm>
            <a:prstGeom prst="ellipse">
              <a:avLst/>
            </a:prstGeom>
            <a:gradFill rotWithShape="0">
              <a:gsLst>
                <a:gs pos="0">
                  <a:srgbClr val="e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775640" y="2198520"/>
              <a:ext cx="128520" cy="128880"/>
            </a:xfrm>
            <a:prstGeom prst="ellipse">
              <a:avLst/>
            </a:prstGeom>
            <a:gradFill rotWithShape="0">
              <a:gsLst>
                <a:gs pos="0">
                  <a:srgbClr val="e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775640" y="3110040"/>
              <a:ext cx="128520" cy="128520"/>
            </a:xfrm>
            <a:prstGeom prst="ellipse">
              <a:avLst/>
            </a:prstGeom>
            <a:gradFill rotWithShape="0">
              <a:gsLst>
                <a:gs pos="0">
                  <a:srgbClr val="e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656320" y="1911240"/>
              <a:ext cx="128520" cy="128520"/>
            </a:xfrm>
            <a:prstGeom prst="ellipse">
              <a:avLst/>
            </a:prstGeom>
            <a:gradFill rotWithShape="0">
              <a:gsLst>
                <a:gs pos="0">
                  <a:srgbClr val="e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732720" y="4286160"/>
              <a:ext cx="128520" cy="128520"/>
            </a:xfrm>
            <a:prstGeom prst="ellipse">
              <a:avLst/>
            </a:prstGeom>
            <a:gradFill rotWithShape="0">
              <a:gsLst>
                <a:gs pos="0">
                  <a:srgbClr val="e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654520" y="3995640"/>
              <a:ext cx="128880" cy="128520"/>
            </a:xfrm>
            <a:prstGeom prst="ellipse">
              <a:avLst/>
            </a:prstGeom>
            <a:gradFill rotWithShape="0">
              <a:gsLst>
                <a:gs pos="0">
                  <a:srgbClr val="e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651640" y="3699000"/>
              <a:ext cx="139680" cy="139680"/>
            </a:xfrm>
            <a:prstGeom prst="diamond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734160" y="5456160"/>
              <a:ext cx="128520" cy="128520"/>
            </a:xfrm>
            <a:prstGeom prst="ellipse">
              <a:avLst/>
            </a:prstGeom>
            <a:gradFill rotWithShape="0">
              <a:gsLst>
                <a:gs pos="0">
                  <a:srgbClr val="e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732720" y="6018120"/>
              <a:ext cx="139680" cy="139680"/>
            </a:xfrm>
            <a:prstGeom prst="diamond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748640" y="5167440"/>
              <a:ext cx="128520" cy="128520"/>
            </a:xfrm>
            <a:prstGeom prst="ellipse">
              <a:avLst/>
            </a:prstGeom>
            <a:gradFill rotWithShape="0">
              <a:gsLst>
                <a:gs pos="0">
                  <a:srgbClr val="e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646600" y="3424320"/>
              <a:ext cx="139680" cy="139680"/>
            </a:xfrm>
            <a:prstGeom prst="diamond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987120" y="6105600"/>
              <a:ext cx="51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Oth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77960" y="5954760"/>
              <a:ext cx="7581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657760" y="6037200"/>
              <a:ext cx="128520" cy="128520"/>
            </a:xfrm>
            <a:prstGeom prst="ellipse">
              <a:avLst/>
            </a:prstGeom>
            <a:gradFill rotWithShape="0">
              <a:gsLst>
                <a:gs pos="0">
                  <a:srgbClr val="e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659560" y="6342120"/>
              <a:ext cx="128520" cy="128520"/>
            </a:xfrm>
            <a:prstGeom prst="ellipse">
              <a:avLst/>
            </a:prstGeom>
            <a:gradFill rotWithShape="0">
              <a:gsLst>
                <a:gs pos="0">
                  <a:srgbClr val="e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745320" y="6319800"/>
              <a:ext cx="139680" cy="139680"/>
            </a:xfrm>
            <a:prstGeom prst="diamond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271440" y="1279440"/>
            <a:ext cx="8621640" cy="530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5440" y="479520"/>
            <a:ext cx="67644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Technolo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271440" y="6102360"/>
            <a:ext cx="8626320" cy="495360"/>
            <a:chOff x="271440" y="6102360"/>
            <a:chExt cx="8626320" cy="495360"/>
          </a:xfrm>
        </p:grpSpPr>
        <p:pic>
          <p:nvPicPr>
            <p:cNvPr id="323" name="" descr=""/>
            <p:cNvPicPr/>
            <p:nvPr/>
          </p:nvPicPr>
          <p:blipFill>
            <a:blip r:embed="rId1"/>
            <a:stretch/>
          </p:blipFill>
          <p:spPr>
            <a:xfrm>
              <a:off x="271440" y="6102360"/>
              <a:ext cx="862632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1252440" y="6141960"/>
              <a:ext cx="66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 Narrow"/>
                </a:rPr>
                <a:t>SiGe for High Performance, Low Noise, Low Power Consump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896040" y="1644480"/>
            <a:ext cx="7358040" cy="3982320"/>
            <a:chOff x="896040" y="1644480"/>
            <a:chExt cx="7358040" cy="3982320"/>
          </a:xfrm>
        </p:grpSpPr>
        <p:sp>
          <p:nvSpPr>
            <p:cNvPr id="326" name=""/>
            <p:cNvSpPr/>
            <p:nvPr/>
          </p:nvSpPr>
          <p:spPr>
            <a:xfrm>
              <a:off x="1951200" y="1647720"/>
              <a:ext cx="5000400" cy="3390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957320" y="1776240"/>
              <a:ext cx="3702240" cy="3051360"/>
            </a:xfrm>
            <a:custGeom>
              <a:avLst/>
              <a:gdLst/>
              <a:ahLst/>
              <a:rect l="l" t="t" r="r" b="b"/>
              <a:pathLst>
                <a:path w="2332" h="1922">
                  <a:moveTo>
                    <a:pt x="2332" y="219"/>
                  </a:moveTo>
                  <a:cubicBezTo>
                    <a:pt x="2309" y="190"/>
                    <a:pt x="2239" y="72"/>
                    <a:pt x="2189" y="44"/>
                  </a:cubicBezTo>
                  <a:cubicBezTo>
                    <a:pt x="2139" y="16"/>
                    <a:pt x="2111" y="0"/>
                    <a:pt x="2033" y="50"/>
                  </a:cubicBezTo>
                  <a:cubicBezTo>
                    <a:pt x="1954" y="100"/>
                    <a:pt x="1881" y="149"/>
                    <a:pt x="1718" y="344"/>
                  </a:cubicBezTo>
                  <a:cubicBezTo>
                    <a:pt x="1555" y="539"/>
                    <a:pt x="1220" y="1016"/>
                    <a:pt x="1057" y="1219"/>
                  </a:cubicBezTo>
                  <a:cubicBezTo>
                    <a:pt x="894" y="1422"/>
                    <a:pt x="826" y="1478"/>
                    <a:pt x="737" y="1563"/>
                  </a:cubicBezTo>
                  <a:cubicBezTo>
                    <a:pt x="647" y="1648"/>
                    <a:pt x="588" y="1685"/>
                    <a:pt x="518" y="1730"/>
                  </a:cubicBezTo>
                  <a:cubicBezTo>
                    <a:pt x="447" y="1775"/>
                    <a:pt x="380" y="1803"/>
                    <a:pt x="318" y="1830"/>
                  </a:cubicBezTo>
                  <a:cubicBezTo>
                    <a:pt x="256" y="1857"/>
                    <a:pt x="196" y="1879"/>
                    <a:pt x="143" y="1894"/>
                  </a:cubicBezTo>
                  <a:cubicBezTo>
                    <a:pt x="90" y="1909"/>
                    <a:pt x="45" y="1915"/>
                    <a:pt x="0" y="1922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952640" y="1644480"/>
              <a:ext cx="5000760" cy="3391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959120" y="4502160"/>
              <a:ext cx="3402000" cy="426960"/>
            </a:xfrm>
            <a:custGeom>
              <a:avLst/>
              <a:gdLst/>
              <a:ahLst/>
              <a:rect l="l" t="t" r="r" b="b"/>
              <a:pathLst>
                <a:path w="2143" h="269">
                  <a:moveTo>
                    <a:pt x="0" y="269"/>
                  </a:moveTo>
                  <a:cubicBezTo>
                    <a:pt x="133" y="256"/>
                    <a:pt x="269" y="230"/>
                    <a:pt x="456" y="193"/>
                  </a:cubicBezTo>
                  <a:cubicBezTo>
                    <a:pt x="643" y="156"/>
                    <a:pt x="943" y="77"/>
                    <a:pt x="1120" y="45"/>
                  </a:cubicBezTo>
                  <a:cubicBezTo>
                    <a:pt x="1297" y="13"/>
                    <a:pt x="1401" y="2"/>
                    <a:pt x="1516" y="1"/>
                  </a:cubicBezTo>
                  <a:cubicBezTo>
                    <a:pt x="1631" y="0"/>
                    <a:pt x="1727" y="21"/>
                    <a:pt x="1812" y="41"/>
                  </a:cubicBezTo>
                  <a:cubicBezTo>
                    <a:pt x="1897" y="61"/>
                    <a:pt x="1969" y="98"/>
                    <a:pt x="2024" y="121"/>
                  </a:cubicBezTo>
                  <a:cubicBezTo>
                    <a:pt x="2079" y="144"/>
                    <a:pt x="2118" y="166"/>
                    <a:pt x="2143" y="178"/>
                  </a:cubicBezTo>
                </a:path>
              </a:pathLst>
            </a:custGeom>
            <a:noFill/>
            <a:ln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959120" y="1770120"/>
              <a:ext cx="3687480" cy="3051000"/>
            </a:xfrm>
            <a:custGeom>
              <a:avLst/>
              <a:gdLst/>
              <a:ahLst/>
              <a:rect l="l" t="t" r="r" b="b"/>
              <a:pathLst>
                <a:path w="2323" h="1922">
                  <a:moveTo>
                    <a:pt x="2323" y="247"/>
                  </a:moveTo>
                  <a:cubicBezTo>
                    <a:pt x="2295" y="213"/>
                    <a:pt x="2203" y="77"/>
                    <a:pt x="2148" y="44"/>
                  </a:cubicBezTo>
                  <a:cubicBezTo>
                    <a:pt x="2093" y="11"/>
                    <a:pt x="2072" y="0"/>
                    <a:pt x="1995" y="50"/>
                  </a:cubicBezTo>
                  <a:cubicBezTo>
                    <a:pt x="1918" y="100"/>
                    <a:pt x="1846" y="149"/>
                    <a:pt x="1686" y="344"/>
                  </a:cubicBezTo>
                  <a:cubicBezTo>
                    <a:pt x="1526" y="539"/>
                    <a:pt x="1197" y="1016"/>
                    <a:pt x="1037" y="1219"/>
                  </a:cubicBezTo>
                  <a:cubicBezTo>
                    <a:pt x="877" y="1422"/>
                    <a:pt x="811" y="1478"/>
                    <a:pt x="723" y="1563"/>
                  </a:cubicBezTo>
                  <a:cubicBezTo>
                    <a:pt x="635" y="1648"/>
                    <a:pt x="577" y="1685"/>
                    <a:pt x="508" y="1730"/>
                  </a:cubicBezTo>
                  <a:cubicBezTo>
                    <a:pt x="439" y="1775"/>
                    <a:pt x="373" y="1803"/>
                    <a:pt x="312" y="1830"/>
                  </a:cubicBezTo>
                  <a:cubicBezTo>
                    <a:pt x="251" y="1857"/>
                    <a:pt x="192" y="1879"/>
                    <a:pt x="140" y="1894"/>
                  </a:cubicBezTo>
                  <a:cubicBezTo>
                    <a:pt x="88" y="1909"/>
                    <a:pt x="44" y="1915"/>
                    <a:pt x="0" y="192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959120" y="2496960"/>
              <a:ext cx="3713040" cy="2332080"/>
            </a:xfrm>
            <a:custGeom>
              <a:avLst/>
              <a:gdLst/>
              <a:ahLst/>
              <a:rect l="l" t="t" r="r" b="b"/>
              <a:pathLst>
                <a:path w="2339" h="1469">
                  <a:moveTo>
                    <a:pt x="2339" y="161"/>
                  </a:moveTo>
                  <a:cubicBezTo>
                    <a:pt x="2315" y="138"/>
                    <a:pt x="2254" y="45"/>
                    <a:pt x="2195" y="25"/>
                  </a:cubicBezTo>
                  <a:cubicBezTo>
                    <a:pt x="2136" y="5"/>
                    <a:pt x="2076" y="0"/>
                    <a:pt x="1984" y="40"/>
                  </a:cubicBezTo>
                  <a:cubicBezTo>
                    <a:pt x="1892" y="80"/>
                    <a:pt x="1808" y="117"/>
                    <a:pt x="1644" y="264"/>
                  </a:cubicBezTo>
                  <a:cubicBezTo>
                    <a:pt x="1480" y="411"/>
                    <a:pt x="1153" y="771"/>
                    <a:pt x="1000" y="920"/>
                  </a:cubicBezTo>
                  <a:cubicBezTo>
                    <a:pt x="847" y="1069"/>
                    <a:pt x="806" y="1092"/>
                    <a:pt x="724" y="1157"/>
                  </a:cubicBezTo>
                  <a:cubicBezTo>
                    <a:pt x="642" y="1221"/>
                    <a:pt x="577" y="1266"/>
                    <a:pt x="508" y="1304"/>
                  </a:cubicBezTo>
                  <a:cubicBezTo>
                    <a:pt x="439" y="1343"/>
                    <a:pt x="373" y="1367"/>
                    <a:pt x="312" y="1390"/>
                  </a:cubicBezTo>
                  <a:cubicBezTo>
                    <a:pt x="251" y="1413"/>
                    <a:pt x="192" y="1432"/>
                    <a:pt x="140" y="1445"/>
                  </a:cubicBezTo>
                  <a:cubicBezTo>
                    <a:pt x="88" y="1458"/>
                    <a:pt x="44" y="1463"/>
                    <a:pt x="0" y="146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965240" y="4044960"/>
              <a:ext cx="3357720" cy="878040"/>
            </a:xfrm>
            <a:custGeom>
              <a:avLst/>
              <a:gdLst/>
              <a:ahLst/>
              <a:rect l="l" t="t" r="r" b="b"/>
              <a:pathLst>
                <a:path w="2115" h="553">
                  <a:moveTo>
                    <a:pt x="0" y="553"/>
                  </a:moveTo>
                  <a:cubicBezTo>
                    <a:pt x="62" y="542"/>
                    <a:pt x="223" y="524"/>
                    <a:pt x="375" y="486"/>
                  </a:cubicBezTo>
                  <a:cubicBezTo>
                    <a:pt x="527" y="448"/>
                    <a:pt x="764" y="375"/>
                    <a:pt x="911" y="326"/>
                  </a:cubicBezTo>
                  <a:cubicBezTo>
                    <a:pt x="1058" y="277"/>
                    <a:pt x="1131" y="241"/>
                    <a:pt x="1259" y="194"/>
                  </a:cubicBezTo>
                  <a:cubicBezTo>
                    <a:pt x="1387" y="147"/>
                    <a:pt x="1564" y="78"/>
                    <a:pt x="1679" y="46"/>
                  </a:cubicBezTo>
                  <a:cubicBezTo>
                    <a:pt x="1794" y="14"/>
                    <a:pt x="1878" y="0"/>
                    <a:pt x="1951" y="2"/>
                  </a:cubicBezTo>
                  <a:cubicBezTo>
                    <a:pt x="2024" y="4"/>
                    <a:pt x="2081" y="46"/>
                    <a:pt x="2115" y="58"/>
                  </a:cubicBezTo>
                </a:path>
              </a:pathLst>
            </a:custGeom>
            <a:noFill/>
            <a:ln w="38160">
              <a:solidFill>
                <a:srgbClr val="e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739160" y="4898880"/>
              <a:ext cx="93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 Narrow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654560" y="4500720"/>
              <a:ext cx="18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 Narrow"/>
                </a:rPr>
                <a:t>2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654560" y="4103640"/>
              <a:ext cx="18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 Narrow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654560" y="3705120"/>
              <a:ext cx="18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 Narrow"/>
                </a:rPr>
                <a:t>7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557360" y="3306600"/>
              <a:ext cx="279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 Narrow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557360" y="2895480"/>
              <a:ext cx="279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 Narrow"/>
                </a:rPr>
                <a:t>12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557360" y="2496960"/>
              <a:ext cx="279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 Narrow"/>
                </a:rPr>
                <a:t>15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557360" y="2100240"/>
              <a:ext cx="279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 Narrow"/>
                </a:rPr>
                <a:t>17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557360" y="1701720"/>
              <a:ext cx="279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 Narrow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798920" y="5110200"/>
              <a:ext cx="32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 Narrow"/>
                </a:rPr>
                <a:t>0.0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452040" y="51102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 Narrow"/>
                </a:rPr>
                <a:t>0.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126760" y="5110200"/>
              <a:ext cx="93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 Narrow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694920" y="5110200"/>
              <a:ext cx="18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 Narrow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884320" y="5383080"/>
              <a:ext cx="3017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 Narrow"/>
                </a:rPr>
                <a:t>Ic (mA) for Minimum We and Le = 1</a:t>
              </a:r>
              <a:r>
                <a:rPr b="1" lang="el-GR" sz="1600" spc="-1" strike="noStrike">
                  <a:solidFill>
                    <a:srgbClr val="800000"/>
                  </a:solidFill>
                  <a:latin typeface="Arial Narrow"/>
                </a:rPr>
                <a:t>μ</a:t>
              </a:r>
              <a:r>
                <a:rPr b="1" lang="en-US" sz="1600" spc="-1" strike="noStrike">
                  <a:solidFill>
                    <a:srgbClr val="800000"/>
                  </a:solidFill>
                  <a:latin typeface="Arial Narrow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96040" y="3209760"/>
              <a:ext cx="4442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 Narrow"/>
                </a:rPr>
                <a:t>F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 Narrow"/>
                </a:rPr>
                <a:t>(GHz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962000" y="1820880"/>
              <a:ext cx="14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962000" y="2211480"/>
              <a:ext cx="14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962000" y="2617920"/>
              <a:ext cx="14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962000" y="3024360"/>
              <a:ext cx="14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3567240" y="4897440"/>
              <a:ext cx="0" cy="12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5172120" y="4897440"/>
              <a:ext cx="0" cy="12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962000" y="3430440"/>
              <a:ext cx="14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962000" y="3824280"/>
              <a:ext cx="14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962000" y="4224240"/>
              <a:ext cx="14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62000" y="4630680"/>
              <a:ext cx="14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673240" y="1811160"/>
              <a:ext cx="102348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SBC18H2</a:t>
              </a:r>
              <a:br>
                <a:rPr sz="1800"/>
              </a:br>
              <a:r>
                <a:rPr b="1" lang="en-US" sz="1800" spc="-1" strike="noStrike">
                  <a:solidFill>
                    <a:srgbClr val="008000"/>
                  </a:solidFill>
                  <a:latin typeface="Arial Narrow"/>
                </a:rPr>
                <a:t>SBC13H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54800" y="2478240"/>
              <a:ext cx="823680" cy="86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00000"/>
                  </a:solidFill>
                  <a:latin typeface="Arial Narrow"/>
                </a:rPr>
                <a:t>0.18µm</a:t>
              </a:r>
              <a:br>
                <a:rPr sz="1800"/>
              </a:br>
              <a:r>
                <a:rPr b="1" lang="en-US" sz="1800" spc="-1" strike="noStrike">
                  <a:solidFill>
                    <a:srgbClr val="e00000"/>
                  </a:solidFill>
                  <a:latin typeface="Arial Narrow"/>
                </a:rPr>
                <a:t>0.13µ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00000"/>
                  </a:solidFill>
                  <a:latin typeface="Arial Narrow"/>
                </a:rPr>
                <a:t>Si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012080" y="1757520"/>
              <a:ext cx="323640" cy="2280960"/>
            </a:xfrm>
            <a:custGeom>
              <a:avLst/>
              <a:gdLst>
                <a:gd name="textAreaLeft" fmla="*/ 0 w 323640"/>
                <a:gd name="textAreaRight" fmla="*/ 117000 w 323640"/>
                <a:gd name="textAreaTop" fmla="*/ 59400 h 2280960"/>
                <a:gd name="textAreaBottom" fmla="*/ 2221560 h 228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e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781680" y="4897440"/>
              <a:ext cx="0" cy="12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43280" y="4290840"/>
              <a:ext cx="910800" cy="61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00000"/>
                  </a:solidFill>
                  <a:latin typeface="Arial Narrow"/>
                </a:rPr>
                <a:t>0.35µ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00000"/>
                  </a:solidFill>
                  <a:latin typeface="Arial Narrow"/>
                </a:rPr>
                <a:t>Si/Si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012080" y="4075200"/>
              <a:ext cx="323640" cy="963360"/>
            </a:xfrm>
            <a:custGeom>
              <a:avLst/>
              <a:gdLst>
                <a:gd name="textAreaLeft" fmla="*/ 0 w 323640"/>
                <a:gd name="textAreaRight" fmla="*/ 117000 w 323640"/>
                <a:gd name="textAreaTop" fmla="*/ 47160 h 963360"/>
                <a:gd name="textAreaBottom" fmla="*/ 916200 h 96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691"/>
                    <a:pt x="10800" y="3381"/>
                  </a:cubicBezTo>
                  <a:lnTo>
                    <a:pt x="10800" y="7434"/>
                  </a:lnTo>
                  <a:cubicBezTo>
                    <a:pt x="10800" y="9125"/>
                    <a:pt x="16200" y="10815"/>
                    <a:pt x="21600" y="10815"/>
                  </a:cubicBezTo>
                  <a:cubicBezTo>
                    <a:pt x="16200" y="10815"/>
                    <a:pt x="10800" y="12506"/>
                    <a:pt x="10800" y="14196"/>
                  </a:cubicBezTo>
                  <a:lnTo>
                    <a:pt x="10800" y="18219"/>
                  </a:lnTo>
                  <a:cubicBezTo>
                    <a:pt x="10800" y="1991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e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672880" y="2558160"/>
              <a:ext cx="10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SBC18H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58600" y="3980880"/>
              <a:ext cx="78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00000"/>
                  </a:solidFill>
                  <a:latin typeface="Arial Narrow"/>
                </a:rPr>
                <a:t>SBC3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963800" y="3614760"/>
              <a:ext cx="3568680" cy="1284120"/>
            </a:xfrm>
            <a:custGeom>
              <a:avLst/>
              <a:gdLst/>
              <a:ahLst/>
              <a:rect l="l" t="t" r="r" b="b"/>
              <a:pathLst>
                <a:path w="2248" h="809">
                  <a:moveTo>
                    <a:pt x="2248" y="113"/>
                  </a:moveTo>
                  <a:cubicBezTo>
                    <a:pt x="2225" y="96"/>
                    <a:pt x="2171" y="32"/>
                    <a:pt x="2108" y="17"/>
                  </a:cubicBezTo>
                  <a:cubicBezTo>
                    <a:pt x="2045" y="2"/>
                    <a:pt x="1959" y="0"/>
                    <a:pt x="1868" y="21"/>
                  </a:cubicBezTo>
                  <a:cubicBezTo>
                    <a:pt x="1777" y="42"/>
                    <a:pt x="1661" y="94"/>
                    <a:pt x="1560" y="141"/>
                  </a:cubicBezTo>
                  <a:cubicBezTo>
                    <a:pt x="1459" y="188"/>
                    <a:pt x="1388" y="236"/>
                    <a:pt x="1264" y="305"/>
                  </a:cubicBezTo>
                  <a:cubicBezTo>
                    <a:pt x="1140" y="374"/>
                    <a:pt x="946" y="487"/>
                    <a:pt x="816" y="553"/>
                  </a:cubicBezTo>
                  <a:cubicBezTo>
                    <a:pt x="686" y="619"/>
                    <a:pt x="573" y="666"/>
                    <a:pt x="484" y="701"/>
                  </a:cubicBezTo>
                  <a:cubicBezTo>
                    <a:pt x="395" y="736"/>
                    <a:pt x="344" y="746"/>
                    <a:pt x="284" y="761"/>
                  </a:cubicBezTo>
                  <a:cubicBezTo>
                    <a:pt x="224" y="776"/>
                    <a:pt x="171" y="785"/>
                    <a:pt x="124" y="793"/>
                  </a:cubicBezTo>
                  <a:cubicBezTo>
                    <a:pt x="77" y="801"/>
                    <a:pt x="26" y="806"/>
                    <a:pt x="0" y="809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387040" y="4609440"/>
              <a:ext cx="65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900"/>
                  </a:solidFill>
                  <a:latin typeface="Arial Narrow"/>
                </a:rPr>
                <a:t>BC3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587560" y="3607560"/>
              <a:ext cx="76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 Narrow"/>
                </a:rPr>
                <a:t>SBL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333360" y="90360"/>
            <a:ext cx="484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ecff"/>
                </a:solidFill>
                <a:latin typeface="Arial Narrow"/>
              </a:rPr>
              <a:t>BiCM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262080" y="1279440"/>
            <a:ext cx="8648640" cy="530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22200" y="564840"/>
            <a:ext cx="676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0.35µm SiGe (SBC35: 62GHz)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2" name=""/>
          <p:cNvSpPr/>
          <p:nvPr/>
        </p:nvSpPr>
        <p:spPr>
          <a:xfrm>
            <a:off x="522360" y="1557360"/>
            <a:ext cx="8089920" cy="1336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 Narrow"/>
              </a:rPr>
              <a:t>0.35µm SiGe BiC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0.35µm CMOS with High Performance Si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High volume production (RF Transceivers, TV Tuners, Optical Network, Precision Analo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PW service available (scheduled every 2 month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027320" y="3125880"/>
            <a:ext cx="4578480" cy="2760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4086360" y="3602160"/>
          <a:ext cx="2760480" cy="90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86360" y="3602160"/>
                    <a:ext cx="2760480" cy="9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"/>
          <p:cNvSpPr/>
          <p:nvPr/>
        </p:nvSpPr>
        <p:spPr>
          <a:xfrm>
            <a:off x="4668120" y="3173400"/>
            <a:ext cx="18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 Narrow"/>
              </a:rPr>
              <a:t>SBC35 SiGe NP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252360" y="6100920"/>
            <a:ext cx="8669520" cy="495000"/>
            <a:chOff x="252360" y="6100920"/>
            <a:chExt cx="8669520" cy="495000"/>
          </a:xfrm>
        </p:grpSpPr>
        <p:pic>
          <p:nvPicPr>
            <p:cNvPr id="378" name="" descr=""/>
            <p:cNvPicPr/>
            <p:nvPr/>
          </p:nvPicPr>
          <p:blipFill>
            <a:blip r:embed="rId3"/>
            <a:stretch/>
          </p:blipFill>
          <p:spPr>
            <a:xfrm>
              <a:off x="252360" y="6100920"/>
              <a:ext cx="8669520" cy="49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1348920" y="6140520"/>
              <a:ext cx="65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 Narrow"/>
                </a:rPr>
                <a:t>0.35µm Cost Effective, High Performance SiGe BiCMOS Platfor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501480" y="3125880"/>
            <a:ext cx="3470400" cy="2762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633240" y="3598920"/>
          <a:ext cx="3159360" cy="20574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33240" y="3598920"/>
                    <a:ext cx="315936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" name=""/>
          <p:cNvSpPr/>
          <p:nvPr/>
        </p:nvSpPr>
        <p:spPr>
          <a:xfrm>
            <a:off x="963720" y="3149640"/>
            <a:ext cx="243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 Narrow"/>
              </a:rPr>
              <a:t>SBC35 CMOS &amp; Pass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33360" y="90360"/>
            <a:ext cx="484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ecff"/>
                </a:solidFill>
                <a:latin typeface="Arial Narrow"/>
              </a:rPr>
              <a:t>BiCM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71440" y="1241280"/>
            <a:ext cx="8659800" cy="5335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45960" y="29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0.18µm SiGe (SBC18: 155 and 200GHz)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7" name=""/>
          <p:cNvSpPr/>
          <p:nvPr/>
        </p:nvSpPr>
        <p:spPr>
          <a:xfrm>
            <a:off x="468360" y="1393920"/>
            <a:ext cx="8053200" cy="1336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 Narrow"/>
              </a:rPr>
              <a:t>0.18µm SiGe BiC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0.18µm CMOS with High Performance SiGe (155GHz and 200GHz op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High volume production (RF Transceivers, TV Tuners, Optical Network, Precision Analo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PW service available (scheduled every 2 month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037040" y="2852640"/>
            <a:ext cx="4495680" cy="3168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4184640" y="3457440"/>
          <a:ext cx="4267080" cy="127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84640" y="3457440"/>
                    <a:ext cx="4267080" cy="12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4404600" y="3025800"/>
            <a:ext cx="18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 Narrow"/>
              </a:rPr>
              <a:t>SBC18 SiGe NP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266760" y="6100920"/>
            <a:ext cx="8669160" cy="495000"/>
            <a:chOff x="266760" y="6100920"/>
            <a:chExt cx="8669160" cy="4950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266760" y="6100920"/>
              <a:ext cx="8669160" cy="49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380160" y="6140520"/>
              <a:ext cx="832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 Narrow"/>
                </a:rPr>
                <a:t>High Performance (155 and 200GHz), Feature Rich, 0.18µm SiGe BiCMOS Platfor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465120" y="2860560"/>
            <a:ext cx="3506760" cy="316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693720" y="3441600"/>
          <a:ext cx="3032280" cy="22100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93720" y="3441600"/>
                    <a:ext cx="303228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8" name=""/>
          <p:cNvSpPr/>
          <p:nvPr/>
        </p:nvSpPr>
        <p:spPr>
          <a:xfrm>
            <a:off x="955800" y="3003480"/>
            <a:ext cx="243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 Narrow"/>
              </a:rPr>
              <a:t>SBC18 CMOS &amp; Pass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33360" y="90360"/>
            <a:ext cx="484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ecff"/>
                </a:solidFill>
                <a:latin typeface="Arial Narrow"/>
              </a:rPr>
              <a:t>BiCM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271440" y="1279440"/>
            <a:ext cx="8621640" cy="530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38040" y="458640"/>
            <a:ext cx="67644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0.13µm SiGe (SBL13: 90GHz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271440" y="6102360"/>
            <a:ext cx="8626320" cy="495360"/>
            <a:chOff x="271440" y="6102360"/>
            <a:chExt cx="8626320" cy="495360"/>
          </a:xfrm>
        </p:grpSpPr>
        <p:pic>
          <p:nvPicPr>
            <p:cNvPr id="403" name="" descr=""/>
            <p:cNvPicPr/>
            <p:nvPr/>
          </p:nvPicPr>
          <p:blipFill>
            <a:blip r:embed="rId1"/>
            <a:stretch/>
          </p:blipFill>
          <p:spPr>
            <a:xfrm>
              <a:off x="271440" y="6102360"/>
              <a:ext cx="862632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1527840" y="6141960"/>
              <a:ext cx="6122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 Narrow"/>
                  <a:ea typeface="PMingLiU"/>
                </a:rPr>
                <a:t>Cost Effective 0.13µm SiGe BiCMOS for RF and Analog So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584280" y="1379520"/>
            <a:ext cx="7978680" cy="4406760"/>
            <a:chOff x="584280" y="1379520"/>
            <a:chExt cx="7978680" cy="4406760"/>
          </a:xfrm>
        </p:grpSpPr>
        <p:sp>
          <p:nvSpPr>
            <p:cNvPr id="406" name=""/>
            <p:cNvSpPr/>
            <p:nvPr/>
          </p:nvSpPr>
          <p:spPr>
            <a:xfrm>
              <a:off x="584280" y="1379520"/>
              <a:ext cx="7978680" cy="16563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Arial Narrow"/>
                </a:rPr>
                <a:t>0.13µm SiGe BiCMOS with same layer count as Cu-based 0.13</a:t>
              </a:r>
              <a:r>
                <a:rPr b="1" lang="en-US" sz="1800" spc="-1" strike="noStrike">
                  <a:solidFill>
                    <a:srgbClr val="800000"/>
                  </a:solidFill>
                  <a:latin typeface="Symbol"/>
                  <a:ea typeface="Symbol"/>
                </a:rPr>
                <a:t></a:t>
              </a:r>
              <a:r>
                <a:rPr b="1" lang="en-US" sz="1800" spc="-1" strike="noStrike">
                  <a:solidFill>
                    <a:srgbClr val="800000"/>
                  </a:solidFill>
                  <a:latin typeface="Arial Narrow"/>
                </a:rPr>
                <a:t>m RF CM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0.13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m CMOS front-end with a low-cost Aluminum back-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100+ GHz Fmax NPN transistors (High Speed and Standard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High Voltage (6V BVceo) NPN transistor available with 1 mask add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Design Kit availab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997440" y="3154320"/>
              <a:ext cx="4562280" cy="13525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08" name=""/>
            <p:cNvGraphicFramePr/>
            <p:nvPr/>
          </p:nvGraphicFramePr>
          <p:xfrm>
            <a:off x="4076640" y="3530520"/>
            <a:ext cx="4407120" cy="88740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40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76640" y="3530520"/>
                      <a:ext cx="4407120" cy="88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10" name=""/>
            <p:cNvSpPr/>
            <p:nvPr/>
          </p:nvSpPr>
          <p:spPr>
            <a:xfrm>
              <a:off x="4774680" y="3154320"/>
              <a:ext cx="300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Arial Narrow"/>
                </a:rPr>
                <a:t>SBL13 SiGe NPN Specific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92200" y="3154320"/>
              <a:ext cx="3206520" cy="26319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87520" y="3162240"/>
              <a:ext cx="319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Arial Narrow"/>
                </a:rPr>
                <a:t>SBL13 RF CMOS Specific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052000" y="3551400"/>
              <a:ext cx="540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A13H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08120" y="3772080"/>
              <a:ext cx="25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Vd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114280" y="3772080"/>
              <a:ext cx="413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Narrow"/>
                </a:rPr>
                <a:t>1.2/3.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914560" y="3772080"/>
              <a:ext cx="90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V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08480" y="3990960"/>
              <a:ext cx="697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Native FE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908000" y="3971880"/>
              <a:ext cx="817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Narrow"/>
                </a:rPr>
                <a:t>Coming So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08480" y="4211640"/>
              <a:ext cx="721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Deep Nwell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50920" y="4211640"/>
              <a:ext cx="547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Narrow"/>
                </a:rPr>
                <a:t>Availabl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08840" y="4430880"/>
              <a:ext cx="480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HV FE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908000" y="4411800"/>
              <a:ext cx="817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Narrow"/>
                </a:rPr>
                <a:t>Coming So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914560" y="4430880"/>
              <a:ext cx="90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V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08120" y="4651200"/>
              <a:ext cx="556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IM Cap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230200" y="4651200"/>
              <a:ext cx="188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Narrow"/>
                </a:rPr>
                <a:t>5.6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925000" y="465120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fF/µm</a:t>
              </a:r>
              <a:r>
                <a:rPr b="1" lang="en-US" sz="1300" spc="-1" strike="noStrike" baseline="30000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08480" y="4871880"/>
              <a:ext cx="457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V R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204640" y="4871880"/>
              <a:ext cx="224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Narrow"/>
                </a:rPr>
                <a:t>31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914560" y="4871880"/>
              <a:ext cx="480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ohm/sq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08840" y="5091120"/>
              <a:ext cx="473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HV R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908000" y="5072040"/>
              <a:ext cx="817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Narrow"/>
                </a:rPr>
                <a:t>Coming So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914560" y="5091120"/>
              <a:ext cx="480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ohm/sq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08120" y="5311800"/>
              <a:ext cx="816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etal Layer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282400" y="5311800"/>
              <a:ext cx="7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914560" y="5311800"/>
              <a:ext cx="7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#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8120" y="5530680"/>
              <a:ext cx="630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op Metal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282400" y="5530680"/>
              <a:ext cx="7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920680" y="5521320"/>
              <a:ext cx="203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µm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69960" y="3538440"/>
              <a:ext cx="303192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69960" y="3538440"/>
              <a:ext cx="3031920" cy="12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69960" y="3759120"/>
              <a:ext cx="303192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69960" y="3759120"/>
              <a:ext cx="3031920" cy="12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69960" y="3978360"/>
              <a:ext cx="3031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69960" y="3978360"/>
              <a:ext cx="3031920" cy="12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69960" y="4199040"/>
              <a:ext cx="3031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69960" y="4199040"/>
              <a:ext cx="3031920" cy="12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69960" y="4417920"/>
              <a:ext cx="303192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69960" y="4417920"/>
              <a:ext cx="3031920" cy="12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69960" y="4638600"/>
              <a:ext cx="303192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69960" y="4638600"/>
              <a:ext cx="3031920" cy="12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69960" y="4857840"/>
              <a:ext cx="3031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69960" y="4857840"/>
              <a:ext cx="3031920" cy="1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69960" y="5078520"/>
              <a:ext cx="3031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69960" y="5078520"/>
              <a:ext cx="3031920" cy="12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69960" y="5299200"/>
              <a:ext cx="3031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69960" y="5299200"/>
              <a:ext cx="3031920" cy="12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69960" y="5518080"/>
              <a:ext cx="303192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69960" y="5518080"/>
              <a:ext cx="3031920" cy="12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69960" y="5738760"/>
              <a:ext cx="303192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69960" y="5738760"/>
              <a:ext cx="3031920" cy="12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69960" y="3538440"/>
              <a:ext cx="1440" cy="22129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69960" y="3538440"/>
              <a:ext cx="12600" cy="22129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754280" y="3538440"/>
              <a:ext cx="1440" cy="22129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754280" y="3538440"/>
              <a:ext cx="12600" cy="22129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876400" y="3538440"/>
              <a:ext cx="1800" cy="22129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876400" y="3538440"/>
              <a:ext cx="12960" cy="22129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01880" y="3538440"/>
              <a:ext cx="1800" cy="22129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701880" y="3538440"/>
              <a:ext cx="12960" cy="22129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333360" y="90360"/>
            <a:ext cx="484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ecff"/>
                </a:solidFill>
                <a:latin typeface="Arial Narrow"/>
              </a:rPr>
              <a:t>BiCM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271440" y="1279440"/>
            <a:ext cx="8621640" cy="530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01640" y="1539720"/>
            <a:ext cx="7937640" cy="1336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 Narrow"/>
              </a:rPr>
              <a:t>0.13µm SiGe BiCMOS: High Performance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0.13µm CMOS front-end with a low-cost Aluminum back-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200GHz Ft/Fmax NPN transis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Design Kit Availability Q1 ‘07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85800" y="3309840"/>
            <a:ext cx="3083040" cy="260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706320" y="3693960"/>
          <a:ext cx="3044880" cy="221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6320" y="3693960"/>
                    <a:ext cx="3044880" cy="22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5" name=""/>
          <p:cNvSpPr/>
          <p:nvPr/>
        </p:nvSpPr>
        <p:spPr>
          <a:xfrm>
            <a:off x="696600" y="331776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 Narrow"/>
              </a:rPr>
              <a:t>SBC13 RF CMOS Specif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081320" y="3308400"/>
            <a:ext cx="4562640" cy="1449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4478400" y="3741840"/>
          <a:ext cx="3733560" cy="888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78400" y="3741840"/>
                    <a:ext cx="373356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9" name=""/>
          <p:cNvSpPr/>
          <p:nvPr/>
        </p:nvSpPr>
        <p:spPr>
          <a:xfrm>
            <a:off x="4591800" y="3340080"/>
            <a:ext cx="32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 Narrow"/>
              </a:rPr>
              <a:t>SBC13H2 SiGe NPN Specif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38040" y="458640"/>
            <a:ext cx="67644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0.13µm SiGe (SBC13: 200GHz F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33360" y="90360"/>
            <a:ext cx="484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ecff"/>
                </a:solidFill>
                <a:latin typeface="Arial Narrow"/>
              </a:rPr>
              <a:t>BiCM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271440" y="6102360"/>
            <a:ext cx="8626320" cy="495360"/>
            <a:chOff x="271440" y="6102360"/>
            <a:chExt cx="8626320" cy="495360"/>
          </a:xfrm>
        </p:grpSpPr>
        <p:pic>
          <p:nvPicPr>
            <p:cNvPr id="483" name="" descr=""/>
            <p:cNvPicPr/>
            <p:nvPr/>
          </p:nvPicPr>
          <p:blipFill>
            <a:blip r:embed="rId5"/>
            <a:stretch/>
          </p:blipFill>
          <p:spPr>
            <a:xfrm>
              <a:off x="271440" y="6102360"/>
              <a:ext cx="862632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2498040" y="6141960"/>
              <a:ext cx="418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 Narrow"/>
                </a:rPr>
                <a:t>High Performance 0.13µm SiGe BiCM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9T16:40:24Z</dcterms:created>
  <dc:creator>Jessica McNaughton</dc:creator>
  <dc:description/>
  <dc:language>en-US</dc:language>
  <cp:lastModifiedBy>tabberc</cp:lastModifiedBy>
  <dcterms:modified xsi:type="dcterms:W3CDTF">2007-01-30T13:33:45Z</dcterms:modified>
  <cp:revision>423</cp:revision>
  <dc:subject/>
  <dc:title>Jazz NDA Allslides</dc:title>
</cp:coreProperties>
</file>