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D76-CC97-4CFC-AFA9-8C408CFA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944-C181-4AB8-BC9D-C0C27C5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CDA-A708-4394-80CA-DC4872A8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0D6-4715-40F6-A8D4-16697E8E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05DF-A7A6-488D-81BB-72074FD5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B90E-250A-4C5D-A2EA-4E548341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51F1-BD19-4E93-B32E-0E9C5CE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DF63-5C6E-4BBE-BB39-DAA342A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B47F-8442-49C9-B25C-7F08598F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19A0-283B-42AF-AE54-F84E2FA3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02C6-E7E3-4C6E-BFDF-CCE944F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216-C76C-469D-9DEB-90FB8191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1A77-9689-4E0C-BD30-BA925BFA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8ACD-D744-40F8-BD2D-763A1DE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CA23-2D32-4CF0-B95F-5DE013ED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426C-4DA7-4AF3-B7A4-FDF28FD6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2643-8CF3-4CE2-8668-BE9F2FB1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3C0-8A95-41D2-963D-097A3978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E17-8652-4C62-83AE-9C128454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5EF-000F-41EA-85A1-AFF6C271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1EF-5ACC-41AD-AFC4-22B0457A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E13-02BA-4F05-B529-762F62CE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441-4BAE-421D-B635-FD5CB174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171-7BA5-4B5A-87B3-E824F2F8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D4906B-E5BF-4ABE-91E2-DFC04AA7B3B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E28F03-8A63-4510-AF8F-708AFE11DE3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er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db compression point,gain 15db and NF 16.4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76216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ombined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00280" y="1542960"/>
            <a:ext cx="5743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04960" y="1528920"/>
            <a:ext cx="5733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one mix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695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7621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7909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09480" y="1585440"/>
            <a:ext cx="56862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686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-Vce cur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57200" y="1052280"/>
            <a:ext cx="5695560" cy="31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90560" y="1519200"/>
            <a:ext cx="5762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onductor noise uncorrel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724000" cy="37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096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733400" y="1533600"/>
            <a:ext cx="567648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28720" y="1467000"/>
            <a:ext cx="5686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76520" y="1977120"/>
            <a:ext cx="57909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90GHz LO,with 50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704960" y="1991520"/>
            <a:ext cx="573372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95600" y="1523880"/>
            <a:ext cx="575280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noise:there are two type of noise:low frequency no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frequency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describe High frequncy noise sour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57520" y="590400"/>
            <a:ext cx="5628960" cy="56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NF=17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6862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8291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is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876560" cy="44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819320" cy="41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% decrease in switch base resistance,34% decrease in RF input no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4819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76320"/>
            <a:ext cx="4037040" cy="19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4857480" cy="45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 at switch  in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46861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076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52560" y="685800"/>
            <a:ext cx="4695480" cy="435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609800" cy="4428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675800" y="5118480"/>
            <a:ext cx="11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029640" y="5105520"/>
            <a:ext cx="144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76520" y="1557360"/>
            <a:ext cx="5790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ixer Gain=6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58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out filter ac 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738440" y="1562040"/>
            <a:ext cx="566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4300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4622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3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3962520" y="218160"/>
            <a:ext cx="5038200" cy="3857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6074640" y="4191120"/>
            <a:ext cx="8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6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181480" y="1157760"/>
            <a:ext cx="4857480" cy="4114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" y="1168920"/>
            <a:ext cx="48193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9320" y="1590120"/>
            <a:ext cx="56764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2520" y="304920"/>
            <a:ext cx="7372080" cy="368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7210080" cy="3295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962600" y="762120"/>
            <a:ext cx="5562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85840" y="76320"/>
            <a:ext cx="88578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 94G V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43080" cy="38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695600" y="1566720"/>
            <a:ext cx="5752800" cy="37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90720" y="1938240"/>
            <a:ext cx="53622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4828680" cy="46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-correlated,NF=18.9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66712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2320" y="-15480"/>
            <a:ext cx="5105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7812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utput of bj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75280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on 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47720" y="1400040"/>
            <a:ext cx="584784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713600" y="2133720"/>
            <a:ext cx="57337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ge before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62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78124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cur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660680" y="1828800"/>
            <a:ext cx="5771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G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45040" cy="23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952880" y="1613160"/>
            <a:ext cx="3981240" cy="24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A,Pin=-30dB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88840" cy="27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un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90720" y="1604880"/>
            <a:ext cx="5714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1120" y="1504800"/>
            <a:ext cx="90925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560" cy="54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1403280"/>
            <a:ext cx="7257600" cy="43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001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00040" y="1095480"/>
            <a:ext cx="6343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24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28600" y="1645920"/>
            <a:ext cx="8610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33360" y="990720"/>
            <a:ext cx="84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66720" y="1181160"/>
            <a:ext cx="781020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523800" y="743040"/>
            <a:ext cx="809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Zs= 50/3,transconductor noise are correlated,N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3880" y="1590840"/>
            <a:ext cx="57337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7838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171840" cy="37008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755720" y="2133720"/>
            <a:ext cx="59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5862600" y="5024880"/>
            <a:ext cx="559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972000" y="3631680"/>
            <a:ext cx="629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6321600" y="3267360"/>
            <a:ext cx="78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F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e input,imp 50/3,transconductor noise are correlated,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568620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ransconductor only,Zin=50,NF=20.5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705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8</TotalTime>
  <Application>LibreOffice/7.4.7.2$Linux_X86_64 LibreOffice_project/40$Build-2</Application>
  <AppVersion>15.0000</AppVersion>
  <Words>185</Words>
  <Paragraphs>5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1:34Z</dcterms:created>
  <dc:creator>wml11</dc:creator>
  <dc:description/>
  <dc:language>en-US</dc:language>
  <cp:lastModifiedBy>wml11</cp:lastModifiedBy>
  <dcterms:modified xsi:type="dcterms:W3CDTF">2013-05-27T16:15:21Z</dcterms:modified>
  <cp:revision>70</cp:revision>
  <dc:subject/>
  <dc:title>Mixer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1</vt:r8>
  </property>
</Properties>
</file>