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74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32.png" ContentType="image/png"/>
  <Override PartName="/ppt/media/image25.png" ContentType="image/png"/>
  <Override PartName="/ppt/media/image62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5677-E49B-4B66-B2BE-69EC00F95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ED44-5B95-41FC-B582-C9A03807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F11A-0CF1-424D-96A0-C3D04CEA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F696-4437-40F8-983B-04BB070F7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EDCE-B34E-4F5D-85AB-FA4955226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B36D-AA56-49F1-9430-5334634C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83FD-5F0C-47D1-B7C2-B477AD93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FE0B-15BA-4B84-95A8-499B80C2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52AB-6706-42C9-9B72-2B39BC85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FAE8-0661-4340-9162-910AA8CF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E9A4-A825-4117-96C9-3D5AC17B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FD9F-0CBB-432A-B941-B4162C46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B1AE-0EAD-407A-BFA1-941C0D8D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9870-7142-4F94-A63D-35B7D047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0DF6-731A-4120-8565-1A585D6D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6FBF-D04A-4FFA-B460-9B6314A41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1C3B-D656-45B2-A4EC-0224C550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AFFC-578B-4F81-872B-C8B6082C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8EDA-EACD-4C8D-9282-CFD6375D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6F69-3892-42A1-B639-0DA029CE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B0F0-1452-4361-AC71-55E11D4C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3E5E-F07E-460E-8B01-C90DD05F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462E-0DFF-4FF6-8EB0-20641EA3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4898-A0B9-4EA9-8AD1-9F615F7F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D6822B-9761-467A-9567-2B207A53D8C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AF53B8-FBDE-41E1-AAE3-79C258D393C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xer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db compression point,gain 15db and NF 16.45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5762160" cy="37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combined mix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700280" y="1542960"/>
            <a:ext cx="574308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one mix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704960" y="1528920"/>
            <a:ext cx="573372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one mix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569556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Buff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690560" y="1519200"/>
            <a:ext cx="576216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buffer,g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576216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buff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579096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l Desig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conductor noise uncorrela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609480" y="1585440"/>
            <a:ext cx="5686200" cy="37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conductor noise uncorrela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568620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c-Vce cur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457200" y="1052280"/>
            <a:ext cx="5695560" cy="31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conductor noise uncorrela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690560" y="1519200"/>
            <a:ext cx="576216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conductor noise uncorrela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5724000" cy="37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90GHz LO,with 5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5790960" cy="38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90GHz LO,with 5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1733400" y="1533600"/>
            <a:ext cx="5676480" cy="37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90GHz LO,with 5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1728720" y="1467000"/>
            <a:ext cx="56862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90GHz LO,with 50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1676520" y="1977120"/>
            <a:ext cx="579096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90GHz LO,with 50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704960" y="1991520"/>
            <a:ext cx="5733720" cy="37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695600" y="1523880"/>
            <a:ext cx="5752800" cy="38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 of noise:there are two type of noise:low frequency noi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frequency no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nly describe High frequncy noise sour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1757520" y="590400"/>
            <a:ext cx="5628960" cy="56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Mixer NF=17.5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7668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668628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82912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ise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out fil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76320" y="1523880"/>
            <a:ext cx="4876560" cy="4400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4038480" y="1523880"/>
            <a:ext cx="4819320" cy="41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8% decrease in switch base resistance,34% decrease in RF input no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itle 1"/>
          <p:cNvSpPr/>
          <p:nvPr/>
        </p:nvSpPr>
        <p:spPr>
          <a:xfrm>
            <a:off x="609480" y="42696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fil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481932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4800600" y="76320"/>
            <a:ext cx="4037040" cy="1990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4857480" cy="45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lter at switch  in 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468612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3076200" cy="44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-52560" y="685800"/>
            <a:ext cx="4695480" cy="4352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2"/>
          <a:stretch/>
        </p:blipFill>
        <p:spPr>
          <a:xfrm>
            <a:off x="4648320" y="609480"/>
            <a:ext cx="4609800" cy="4428720"/>
          </a:xfrm>
          <a:prstGeom prst="rect">
            <a:avLst/>
          </a:prstGeom>
          <a:ln w="0">
            <a:noFill/>
          </a:ln>
        </p:spPr>
      </p:pic>
      <p:sp>
        <p:nvSpPr>
          <p:cNvPr id="189" name="TextBox 4"/>
          <p:cNvSpPr/>
          <p:nvPr/>
        </p:nvSpPr>
        <p:spPr>
          <a:xfrm>
            <a:off x="1675800" y="5118480"/>
            <a:ext cx="112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1"/>
          <p:cNvSpPr/>
          <p:nvPr/>
        </p:nvSpPr>
        <p:spPr>
          <a:xfrm>
            <a:off x="6029640" y="5105520"/>
            <a:ext cx="1441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out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676520" y="1557360"/>
            <a:ext cx="5790960" cy="37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Mixer Gain=6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558144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out filter ac g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1738440" y="1562040"/>
            <a:ext cx="56671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743000" cy="3876480"/>
          </a:xfrm>
          <a:prstGeom prst="rect">
            <a:avLst/>
          </a:prstGeom>
          <a:ln w="0">
            <a:noFill/>
          </a:ln>
        </p:spPr>
      </p:pic>
      <p:sp>
        <p:nvSpPr>
          <p:cNvPr id="198" name="TextBox 3"/>
          <p:cNvSpPr/>
          <p:nvPr/>
        </p:nvSpPr>
        <p:spPr>
          <a:xfrm>
            <a:off x="462240" y="4191120"/>
            <a:ext cx="813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@ 30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3962520" y="218160"/>
            <a:ext cx="5038200" cy="3857400"/>
          </a:xfrm>
          <a:prstGeom prst="rect">
            <a:avLst/>
          </a:prstGeom>
          <a:ln w="0">
            <a:noFill/>
          </a:ln>
        </p:spPr>
      </p:pic>
      <p:sp>
        <p:nvSpPr>
          <p:cNvPr id="200" name="TextBox 6"/>
          <p:cNvSpPr/>
          <p:nvPr/>
        </p:nvSpPr>
        <p:spPr>
          <a:xfrm>
            <a:off x="6074640" y="4191120"/>
            <a:ext cx="813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@ 60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5181480" y="1157760"/>
            <a:ext cx="4857480" cy="41144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"/>
          <p:cNvPicPr/>
          <p:nvPr/>
        </p:nvPicPr>
        <p:blipFill>
          <a:blip r:embed="rId2"/>
          <a:stretch/>
        </p:blipFill>
        <p:spPr>
          <a:xfrm>
            <a:off x="228600" y="1168920"/>
            <a:ext cx="4819320" cy="41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219320" y="1590120"/>
            <a:ext cx="5676480" cy="36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452520" y="304920"/>
            <a:ext cx="7372080" cy="3685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533520" y="3048120"/>
            <a:ext cx="7210080" cy="32954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"/>
          <p:cNvPicPr/>
          <p:nvPr/>
        </p:nvPicPr>
        <p:blipFill>
          <a:blip r:embed="rId3"/>
          <a:stretch/>
        </p:blipFill>
        <p:spPr>
          <a:xfrm>
            <a:off x="4962600" y="762120"/>
            <a:ext cx="556236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285840" y="76320"/>
            <a:ext cx="8857800" cy="48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NA 94G V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5743080" cy="38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1695600" y="1566720"/>
            <a:ext cx="5752800" cy="37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890720" y="1938240"/>
            <a:ext cx="5362200" cy="29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4828680" cy="46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e input,Zs= 50/3,transconductor noise are un-correlated,NF=18.9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5667120" cy="36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22320" y="-15480"/>
            <a:ext cx="510516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put 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5781240" cy="40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 output of bj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575280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on ta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1647720" y="1400040"/>
            <a:ext cx="5847840" cy="40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before fil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1713600" y="2133720"/>
            <a:ext cx="573372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ltage before fil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576216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 vol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1681200" y="1752480"/>
            <a:ext cx="578124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 curr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1660680" y="1828800"/>
            <a:ext cx="57718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GA,Pin=-30dB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4145040" cy="23713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2"/>
          <a:stretch/>
        </p:blipFill>
        <p:spPr>
          <a:xfrm>
            <a:off x="4952880" y="1613160"/>
            <a:ext cx="3981240" cy="249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NA,Pin=-30dB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4488840" cy="27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e input,Zs= 50/3,transconductor noise are un correlated,G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990720" y="1604880"/>
            <a:ext cx="571464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51120" y="1504800"/>
            <a:ext cx="909252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305560" cy="541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457200" y="1403280"/>
            <a:ext cx="7257600" cy="43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700120" cy="49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1400040" y="1095480"/>
            <a:ext cx="6343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672444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228600" y="1645920"/>
            <a:ext cx="861012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333360" y="990720"/>
            <a:ext cx="84769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666720" y="1181160"/>
            <a:ext cx="7810200" cy="44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523800" y="743040"/>
            <a:ext cx="809604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e input,Zs= 50/3,transconductor noise are correlated,N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523880" y="1590840"/>
            <a:ext cx="573372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652320" y="1200240"/>
            <a:ext cx="783864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6171840" cy="3700800"/>
          </a:xfrm>
          <a:prstGeom prst="rect">
            <a:avLst/>
          </a:prstGeom>
          <a:ln w="0">
            <a:noFill/>
          </a:ln>
        </p:spPr>
      </p:pic>
      <p:sp>
        <p:nvSpPr>
          <p:cNvPr id="292" name="TextBox 3"/>
          <p:cNvSpPr/>
          <p:nvPr/>
        </p:nvSpPr>
        <p:spPr>
          <a:xfrm>
            <a:off x="1755720" y="2133720"/>
            <a:ext cx="594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V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"/>
          <p:cNvSpPr/>
          <p:nvPr/>
        </p:nvSpPr>
        <p:spPr>
          <a:xfrm>
            <a:off x="5862600" y="5024880"/>
            <a:ext cx="559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V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6"/>
          <p:cNvSpPr/>
          <p:nvPr/>
        </p:nvSpPr>
        <p:spPr>
          <a:xfrm>
            <a:off x="972000" y="3631680"/>
            <a:ext cx="629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F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6321600" y="3267360"/>
            <a:ext cx="786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F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e input,imp 50/3,transconductor noise are correlated,G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066680" y="1557360"/>
            <a:ext cx="5686200" cy="37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transconductor only,Zin=50,NF=20.5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570528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28</TotalTime>
  <Application>LibreOffice/7.4.7.2$Linux_X86_64 LibreOffice_project/40$Build-2</Application>
  <AppVersion>15.0000</AppVersion>
  <Words>185</Words>
  <Paragraphs>53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16:31:34Z</dcterms:created>
  <dc:creator>wml11</dc:creator>
  <dc:description/>
  <dc:language>en-US</dc:language>
  <cp:lastModifiedBy>wml11</cp:lastModifiedBy>
  <dcterms:modified xsi:type="dcterms:W3CDTF">2013-05-27T16:15:21Z</dcterms:modified>
  <cp:revision>70</cp:revision>
  <dc:subject/>
  <dc:title>Mixer Desig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71</vt:r8>
  </property>
</Properties>
</file>