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75A-F219-43A0-80DD-BBF38254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312-970C-48C2-9BBA-4540464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60F-68DB-4A18-9C3F-F2A9F5F9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7F3-FE1E-4315-992C-1387B158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982B-84C8-4AFF-85C6-E3DECCB4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C942-7543-4F07-8B3C-58787A72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56D9-2C23-4CA1-8871-AB107A6C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FBA7-5A26-4ACB-949D-C80C7FD1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0CEA-7C33-4E99-B869-1EB81597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9A2B-E9D5-408E-9E3F-3B0162F7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1D5E-B47B-4E72-9F02-5AC6061E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84B-D2FA-474C-9C80-64EEAE35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EBD9-5521-47BF-8171-6544C68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9A16-8760-4C14-9CC8-7E6C32CE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84BF-CB4F-4C3A-8B1C-30DD5A75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E724-A83E-46B4-902F-6899B31D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64D1-3A41-4220-8224-28311025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CAB-5165-4AC1-A06B-363A1BB7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373-BE53-40EB-BF63-9330C01D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611-E1A6-42C3-B644-3CB032EC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BE9-F6AE-4235-AC14-59E13CAD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BDE-AA2F-4731-8CF3-0455830F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2E8-AB67-455B-A576-5B76EF3A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2F5-0598-43D8-B425-753D2700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EBEA2D-7DE4-4AFC-9CF9-549B36FDA8A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98764A-076E-449E-96B8-A4B67B0189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er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db compression point,gain 15db and NF 16.4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76216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ombined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00280" y="1542960"/>
            <a:ext cx="5743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04960" y="1528920"/>
            <a:ext cx="5733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695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7621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7909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09480" y="1585440"/>
            <a:ext cx="56862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686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-Vce cur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57200" y="1052280"/>
            <a:ext cx="5695560" cy="31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724000" cy="37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096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733400" y="1533600"/>
            <a:ext cx="567648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28720" y="1467000"/>
            <a:ext cx="5686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76520" y="1977120"/>
            <a:ext cx="57909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704960" y="1991520"/>
            <a:ext cx="573372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95600" y="1523880"/>
            <a:ext cx="575280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noise:there are two type of noise:low frequency no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frequency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describe High frequncy noise sour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57520" y="590400"/>
            <a:ext cx="5628960" cy="56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NF=17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6862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829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876560" cy="44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819320" cy="41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% decrease in switch base resistance,34% decrease in RF input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4819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76320"/>
            <a:ext cx="4037040" cy="19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4857480" cy="45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 at switch  in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46861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076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52560" y="685800"/>
            <a:ext cx="4695480" cy="435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609800" cy="4428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675800" y="511848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029640" y="5105520"/>
            <a:ext cx="144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76520" y="1557360"/>
            <a:ext cx="5790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Gain=6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58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 ac 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738440" y="1562040"/>
            <a:ext cx="566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4300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4622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3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3962520" y="218160"/>
            <a:ext cx="5038200" cy="3857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60746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6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181480" y="1157760"/>
            <a:ext cx="4857480" cy="4114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" y="1168920"/>
            <a:ext cx="48193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9320" y="1590120"/>
            <a:ext cx="56764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2520" y="304920"/>
            <a:ext cx="7372080" cy="368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7210080" cy="3295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962600" y="762120"/>
            <a:ext cx="5562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85840" y="76320"/>
            <a:ext cx="88578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 94G V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4308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695600" y="1566720"/>
            <a:ext cx="57528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90720" y="1938240"/>
            <a:ext cx="53622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4828680" cy="46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-correlated,NF=18.9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66712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2320" y="-15480"/>
            <a:ext cx="5105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7812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utput of bj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75280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on 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47720" y="1400040"/>
            <a:ext cx="58478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713600" y="2133720"/>
            <a:ext cx="57337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ge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62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78124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cur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660680" y="1828800"/>
            <a:ext cx="5771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G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45040" cy="23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952880" y="1613160"/>
            <a:ext cx="3981240" cy="24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88840" cy="27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90720" y="1604880"/>
            <a:ext cx="5714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1120" y="1504800"/>
            <a:ext cx="90925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560" cy="54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1403280"/>
            <a:ext cx="7257600" cy="43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001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00040" y="1095480"/>
            <a:ext cx="6343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24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28600" y="1645920"/>
            <a:ext cx="8610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3360" y="990720"/>
            <a:ext cx="84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66720" y="1181160"/>
            <a:ext cx="781020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523800" y="743040"/>
            <a:ext cx="809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correlated,N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3880" y="1590840"/>
            <a:ext cx="57337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7838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imp 50/3,transconductor noise are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568620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ransconductor only,Zin=50,NF=20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705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88</TotalTime>
  <Application>LibreOffice/7.4.7.2$Linux_X86_64 LibreOffice_project/40$Build-2</Application>
  <AppVersion>15.0000</AppVersion>
  <Words>181</Words>
  <Paragraphs>4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1:34Z</dcterms:created>
  <dc:creator>wml11</dc:creator>
  <dc:description/>
  <dc:language>en-US</dc:language>
  <cp:lastModifiedBy>wml11</cp:lastModifiedBy>
  <dcterms:modified xsi:type="dcterms:W3CDTF">2013-05-27T15:35:27Z</dcterms:modified>
  <cp:revision>68</cp:revision>
  <dc:subject/>
  <dc:title>Mixer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0</vt:r8>
  </property>
</Properties>
</file>