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763-C21A-45AA-B45A-FD562D5C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FD1-1791-48C8-BFE6-7C680A4E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DBC-BECC-4536-984C-501A937B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50C-BBAD-4A81-B499-31755B17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A607-E8F5-437A-9BE3-EF2EB6C7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D5A5-DE0D-4D60-BC0A-06C475C1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43E8-F81F-4081-9946-074EFA0C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0276-31AF-4419-B7E7-2B2EAF38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86FE-CFAA-4914-9B3C-5B6952C2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82E0-DC7F-4028-813C-20DE6AA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4734-E37C-4434-B980-FBC7D28A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BE2-39F7-445D-9AB9-2BD46A27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4948-A602-4B3B-AB9B-E8321E42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9A85-CE19-4B0F-B313-A8698C35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5760-F06A-4756-8FE2-10547012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1912-AADD-43EB-AE73-2D724924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2555-DF46-4CA5-A241-91D6C90A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614-6256-455D-A9E2-12D6D88B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10E-39A7-4AAB-AE19-98A140A9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8A5-13A7-4D00-9332-9099163F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DE4-DEAD-4C43-A4B9-AAE4FA33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565-4706-4223-8B94-38E0798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966-AD29-417B-985A-FCB7C10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EED-C916-4F4C-A97E-AB1E45F6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1EBB31-3B7E-4FD4-9176-1BA8A393707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86EEC2-0C59-4DA5-9E95-719D37D2A7B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er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db compression point,gain 15db and NF 16.4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76216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ombined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00280" y="1542960"/>
            <a:ext cx="5743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04960" y="1528920"/>
            <a:ext cx="5733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695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7621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7909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09480" y="1585440"/>
            <a:ext cx="56862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686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-Vce cur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57200" y="1052280"/>
            <a:ext cx="5695560" cy="31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724000" cy="37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096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733400" y="1533600"/>
            <a:ext cx="567648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28720" y="1467000"/>
            <a:ext cx="5686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76520" y="1977120"/>
            <a:ext cx="57909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704960" y="1991520"/>
            <a:ext cx="573372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95600" y="1523880"/>
            <a:ext cx="575280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noise:there are two type of noise:low frequency no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frequency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describe High frequncy noise sour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57520" y="590400"/>
            <a:ext cx="5628960" cy="56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NF=17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6862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829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876560" cy="44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819320" cy="41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% decrease in switch base resistance,34% decrease in RF input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4819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76320"/>
            <a:ext cx="4037040" cy="19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4857480" cy="45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 at switch  in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46861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076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52560" y="685800"/>
            <a:ext cx="4695480" cy="435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609800" cy="4428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675800" y="511848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029640" y="5105520"/>
            <a:ext cx="144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76520" y="1557360"/>
            <a:ext cx="5790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Gain=6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58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 ac 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738440" y="1562040"/>
            <a:ext cx="566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4300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4622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3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3962520" y="218160"/>
            <a:ext cx="5038200" cy="3857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60746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6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181480" y="1157760"/>
            <a:ext cx="4857480" cy="4114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" y="1168920"/>
            <a:ext cx="48193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9320" y="1590120"/>
            <a:ext cx="56764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2520" y="304920"/>
            <a:ext cx="7372080" cy="368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7210080" cy="3295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962600" y="762120"/>
            <a:ext cx="5562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85840" y="76320"/>
            <a:ext cx="88578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 94G V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4308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695600" y="1566720"/>
            <a:ext cx="57528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90720" y="1938240"/>
            <a:ext cx="53622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4828680" cy="46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-correlated,NF=18.9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66712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2320" y="-15480"/>
            <a:ext cx="5105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7812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utput of bj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75280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on 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47720" y="1400040"/>
            <a:ext cx="58478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713600" y="2133720"/>
            <a:ext cx="57337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ge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62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78124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cur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660680" y="1828800"/>
            <a:ext cx="5771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G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45040" cy="23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952880" y="1613160"/>
            <a:ext cx="3981240" cy="24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88840" cy="27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90720" y="1604880"/>
            <a:ext cx="5714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1120" y="1504800"/>
            <a:ext cx="90925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560" cy="54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1403280"/>
            <a:ext cx="7257600" cy="43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001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00040" y="1095480"/>
            <a:ext cx="6343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24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28600" y="1645920"/>
            <a:ext cx="8610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3360" y="990720"/>
            <a:ext cx="84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66720" y="1181160"/>
            <a:ext cx="781020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523800" y="743040"/>
            <a:ext cx="809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correlated,N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3880" y="1590840"/>
            <a:ext cx="57337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7838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imp 50/3,transconductor noise are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568620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ransconductor only,Zin=50,NF=20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705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88</TotalTime>
  <Application>LibreOffice/7.4.7.2$Linux_X86_64 LibreOffice_project/40$Build-2</Application>
  <AppVersion>15.0000</AppVersion>
  <Words>181</Words>
  <Paragraphs>4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1:34Z</dcterms:created>
  <dc:creator>wml11</dc:creator>
  <dc:description/>
  <dc:language>en-US</dc:language>
  <cp:lastModifiedBy>wml11</cp:lastModifiedBy>
  <dcterms:modified xsi:type="dcterms:W3CDTF">2013-05-27T15:35:27Z</dcterms:modified>
  <cp:revision>68</cp:revision>
  <dc:subject/>
  <dc:title>Mixer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0</vt:r8>
  </property>
</Properties>
</file>