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E97D-A575-4358-B6BF-B8A3A8A5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AE0-BD77-40FC-8E50-C81D1306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F7A-6CAE-4702-ABBC-516AD621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8D4-21AB-4B7B-9E9B-55F38E11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FAD-0ABA-4F24-8352-CF28E4CA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4ED-546E-49D8-8CC1-A06D52F7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049-AF44-48B6-800E-83BBBD4C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045-F6B1-4774-B5A5-EB8BB22F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4EC-9ACC-4046-8E2E-5544B12A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505-4B5C-4CCD-A893-47F21F0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6B6-29A4-4DE5-B34F-35F26B25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322-E0D4-4B7B-88A6-501C8C43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32DE-FE21-4465-A86E-5E3869414DF6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d-Array Front-En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 ,Dr.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34"/>
            <p:cNvSpPr/>
            <p:nvPr/>
          </p:nvSpPr>
          <p:spPr>
            <a:xfrm>
              <a:off x="704880" y="3676320"/>
              <a:ext cx="3693600" cy="210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9a0e9"/>
                  </a:solidFill>
                  <a:latin typeface="Arial Narrow"/>
                </a:rPr>
                <a:t>20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"/>
                </a:rPr>
                <a:t>May 30 – Jun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Wireless Perso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Communications Sympos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 Box 332" descr=""/>
            <p:cNvPicPr/>
            <p:nvPr/>
          </p:nvPicPr>
          <p:blipFill>
            <a:blip r:embed="rId2"/>
            <a:stretch/>
          </p:blipFill>
          <p:spPr>
            <a:xfrm>
              <a:off x="688680" y="5949360"/>
              <a:ext cx="20696040" cy="255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ontent Placeholder 3" descr=""/>
            <p:cNvPicPr/>
            <p:nvPr/>
          </p:nvPicPr>
          <p:blipFill>
            <a:blip r:embed="rId3"/>
            <a:stretch/>
          </p:blipFill>
          <p:spPr>
            <a:xfrm>
              <a:off x="11765160" y="27797760"/>
              <a:ext cx="7814880" cy="40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0"/>
          <p:cNvGrpSpPr/>
          <p:nvPr/>
        </p:nvGrpSpPr>
        <p:grpSpPr>
          <a:xfrm>
            <a:off x="11614320" y="13404960"/>
            <a:ext cx="4430520" cy="3288240"/>
            <a:chOff x="11614320" y="13404960"/>
            <a:chExt cx="4430520" cy="3288240"/>
          </a:xfrm>
        </p:grpSpPr>
        <p:pic>
          <p:nvPicPr>
            <p:cNvPr id="56" name="Picture 59" descr=""/>
            <p:cNvPicPr/>
            <p:nvPr/>
          </p:nvPicPr>
          <p:blipFill>
            <a:blip r:embed="rId4"/>
            <a:stretch/>
          </p:blipFill>
          <p:spPr>
            <a:xfrm>
              <a:off x="12100320" y="13404960"/>
              <a:ext cx="3944520" cy="29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9"/>
            <p:cNvSpPr/>
            <p:nvPr/>
          </p:nvSpPr>
          <p:spPr>
            <a:xfrm>
              <a:off x="12925080" y="162943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 rot="16200000">
              <a:off x="10616760" y="14526000"/>
              <a:ext cx="23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Phase(S21) in deg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1"/>
          <p:cNvGrpSpPr/>
          <p:nvPr/>
        </p:nvGrpSpPr>
        <p:grpSpPr>
          <a:xfrm>
            <a:off x="11214000" y="9636120"/>
            <a:ext cx="4408560" cy="3545280"/>
            <a:chOff x="11214000" y="9636120"/>
            <a:chExt cx="4408560" cy="3545280"/>
          </a:xfrm>
        </p:grpSpPr>
        <p:sp>
          <p:nvSpPr>
            <p:cNvPr id="60" name="TextBox 8"/>
            <p:cNvSpPr/>
            <p:nvPr/>
          </p:nvSpPr>
          <p:spPr>
            <a:xfrm>
              <a:off x="12596400" y="127825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3" descr=""/>
            <p:cNvPicPr/>
            <p:nvPr/>
          </p:nvPicPr>
          <p:blipFill>
            <a:blip r:embed="rId5"/>
            <a:stretch/>
          </p:blipFill>
          <p:spPr>
            <a:xfrm>
              <a:off x="11589840" y="9636120"/>
              <a:ext cx="4032720" cy="30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14663520" y="98179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13322880" y="1173420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NF=8-9 dB @94 G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56"/>
            <p:cNvCxnSpPr>
              <a:stCxn id="63" idx="1"/>
            </p:cNvCxnSpPr>
            <p:nvPr/>
          </p:nvCxnSpPr>
          <p:spPr>
            <a:xfrm>
              <a:off x="13322880" y="11902680"/>
              <a:ext cx="480240" cy="28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57"/>
            <p:cNvCxnSpPr>
              <a:stCxn id="62" idx="2"/>
            </p:cNvCxnSpPr>
            <p:nvPr/>
          </p:nvCxnSpPr>
          <p:spPr>
            <a:xfrm flipH="1">
              <a:off x="14666400" y="10155240"/>
              <a:ext cx="246240" cy="96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7"/>
            <p:cNvSpPr/>
            <p:nvPr/>
          </p:nvSpPr>
          <p:spPr>
            <a:xfrm rot="16200000">
              <a:off x="10649520" y="10855440"/>
              <a:ext cx="1527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,NF 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2" descr=""/>
          <p:cNvPicPr/>
          <p:nvPr/>
        </p:nvPicPr>
        <p:blipFill>
          <a:blip r:embed="rId6"/>
          <a:stretch/>
        </p:blipFill>
        <p:spPr>
          <a:xfrm>
            <a:off x="1055520" y="14868360"/>
            <a:ext cx="9339480" cy="21718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63"/>
          <p:cNvSpPr/>
          <p:nvPr/>
        </p:nvSpPr>
        <p:spPr>
          <a:xfrm>
            <a:off x="1298520" y="14368320"/>
            <a:ext cx="957240" cy="2549520"/>
          </a:xfrm>
          <a:custGeom>
            <a:avLst/>
            <a:gdLst>
              <a:gd name="textAreaLeft" fmla="*/ 46440 w 957240"/>
              <a:gd name="textAreaRight" fmla="*/ 910800 w 957240"/>
              <a:gd name="textAreaTop" fmla="*/ 46440 h 2549520"/>
              <a:gd name="textAreaBottom" fmla="*/ 2503080 h 2549520"/>
            </a:gdLst>
            <a:ahLst/>
            <a:rect l="textAreaLeft" t="textAreaTop" r="textAreaRight" b="textAreaBottom"/>
            <a:pathLst>
              <a:path w="21600" h="57516">
                <a:moveTo>
                  <a:pt x="3600" y="0"/>
                </a:moveTo>
                <a:arcTo wR="3600" hR="3600" stAng="16200000" swAng="-5400000"/>
                <a:lnTo>
                  <a:pt x="0" y="53916"/>
                </a:lnTo>
                <a:arcTo wR="3600" hR="3600" stAng="10800000" swAng="-5400000"/>
                <a:lnTo>
                  <a:pt x="18000" y="57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4"/>
          <p:cNvSpPr/>
          <p:nvPr/>
        </p:nvSpPr>
        <p:spPr>
          <a:xfrm>
            <a:off x="3894120" y="14459040"/>
            <a:ext cx="1015920" cy="2549520"/>
          </a:xfrm>
          <a:custGeom>
            <a:avLst/>
            <a:gdLst>
              <a:gd name="textAreaLeft" fmla="*/ 49320 w 1015920"/>
              <a:gd name="textAreaRight" fmla="*/ 966600 w 1015920"/>
              <a:gd name="textAreaTop" fmla="*/ 49320 h 2549520"/>
              <a:gd name="textAreaBottom" fmla="*/ 2500200 h 2549520"/>
            </a:gdLst>
            <a:ahLst/>
            <a:rect l="textAreaLeft" t="textAreaTop" r="textAreaRight" b="textAreaBottom"/>
            <a:pathLst>
              <a:path w="21600" h="54195">
                <a:moveTo>
                  <a:pt x="3600" y="0"/>
                </a:moveTo>
                <a:arcTo wR="3600" hR="3600" stAng="16200000" swAng="-5400000"/>
                <a:lnTo>
                  <a:pt x="0" y="50595"/>
                </a:lnTo>
                <a:arcTo wR="3600" hR="3600" stAng="10800000" swAng="-5400000"/>
                <a:lnTo>
                  <a:pt x="18000" y="54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5"/>
          <p:cNvSpPr/>
          <p:nvPr/>
        </p:nvSpPr>
        <p:spPr>
          <a:xfrm>
            <a:off x="6653160" y="14435280"/>
            <a:ext cx="782640" cy="2549520"/>
          </a:xfrm>
          <a:custGeom>
            <a:avLst/>
            <a:gdLst>
              <a:gd name="textAreaLeft" fmla="*/ 38160 w 782640"/>
              <a:gd name="textAreaRight" fmla="*/ 744480 w 782640"/>
              <a:gd name="textAreaTop" fmla="*/ 38160 h 2549520"/>
              <a:gd name="textAreaBottom" fmla="*/ 2511360 h 2549520"/>
            </a:gdLst>
            <a:ahLst/>
            <a:rect l="textAreaLeft" t="textAreaTop" r="textAreaRight" b="textAreaBottom"/>
            <a:pathLst>
              <a:path w="21600" h="70342">
                <a:moveTo>
                  <a:pt x="3600" y="0"/>
                </a:moveTo>
                <a:arcTo wR="3600" hR="3600" stAng="16200000" swAng="-5400000"/>
                <a:lnTo>
                  <a:pt x="0" y="66742"/>
                </a:lnTo>
                <a:arcTo wR="3600" hR="3600" stAng="10800000" swAng="-5400000"/>
                <a:lnTo>
                  <a:pt x="18000" y="7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6"/>
          <p:cNvSpPr/>
          <p:nvPr/>
        </p:nvSpPr>
        <p:spPr>
          <a:xfrm>
            <a:off x="8702640" y="1443528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219320" y="1401912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767040" y="140209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286680" y="1405260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8642520" y="1400796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55760" y="14471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7280280" y="14516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932360" y="143064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4" descr=""/>
          <p:cNvPicPr/>
          <p:nvPr/>
        </p:nvPicPr>
        <p:blipFill>
          <a:blip r:embed="rId7"/>
          <a:stretch/>
        </p:blipFill>
        <p:spPr>
          <a:xfrm>
            <a:off x="1641600" y="17697600"/>
            <a:ext cx="2117520" cy="45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"/>
          <p:cNvPicPr/>
          <p:nvPr/>
        </p:nvPicPr>
        <p:blipFill>
          <a:blip r:embed="rId8"/>
          <a:stretch/>
        </p:blipFill>
        <p:spPr>
          <a:xfrm>
            <a:off x="4048200" y="17697600"/>
            <a:ext cx="56815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"/>
          <p:cNvPicPr/>
          <p:nvPr/>
        </p:nvPicPr>
        <p:blipFill>
          <a:blip r:embed="rId9"/>
          <a:stretch/>
        </p:blipFill>
        <p:spPr>
          <a:xfrm>
            <a:off x="3405240" y="21013560"/>
            <a:ext cx="2782800" cy="2914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1641600" y="226137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86680" y="21042360"/>
            <a:ext cx="38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037120" y="22413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 rot="16200000">
            <a:off x="15220080" y="10885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1" descr=""/>
          <p:cNvPicPr/>
          <p:nvPr/>
        </p:nvPicPr>
        <p:blipFill>
          <a:blip r:embed="rId10"/>
          <a:stretch/>
        </p:blipFill>
        <p:spPr>
          <a:xfrm>
            <a:off x="16475040" y="9596520"/>
            <a:ext cx="4824360" cy="287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15598800" y="132048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V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771720" y="23534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7" descr=""/>
          <p:cNvPicPr/>
          <p:nvPr/>
        </p:nvPicPr>
        <p:blipFill>
          <a:blip r:embed="rId11"/>
          <a:stretch/>
        </p:blipFill>
        <p:spPr>
          <a:xfrm>
            <a:off x="11614320" y="20648520"/>
            <a:ext cx="4464000" cy="266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 rot="16200000">
            <a:off x="10248120" y="21742200"/>
            <a:ext cx="24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Phase(S21) in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 rot="16200000">
            <a:off x="10665720" y="18604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21,NF (dB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992400" y="20088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1" descr=""/>
          <p:cNvPicPr/>
          <p:nvPr/>
        </p:nvPicPr>
        <p:blipFill>
          <a:blip r:embed="rId12"/>
          <a:stretch/>
        </p:blipFill>
        <p:spPr>
          <a:xfrm>
            <a:off x="11694960" y="17200440"/>
            <a:ext cx="4256280" cy="2695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14592600" y="17444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3378320" y="187387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NF (11-12 dB @120 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4"/>
          <p:cNvCxnSpPr/>
          <p:nvPr/>
        </p:nvCxnSpPr>
        <p:spPr>
          <a:xfrm flipH="1" flipV="1">
            <a:off x="14180400" y="18719280"/>
            <a:ext cx="165960" cy="17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25"/>
          <p:cNvCxnSpPr>
            <a:stCxn id="94" idx="2"/>
          </p:cNvCxnSpPr>
          <p:nvPr/>
        </p:nvCxnSpPr>
        <p:spPr>
          <a:xfrm flipH="1">
            <a:off x="14594760" y="17782200"/>
            <a:ext cx="246960" cy="9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4"/>
          <p:cNvSpPr/>
          <p:nvPr/>
        </p:nvSpPr>
        <p:spPr>
          <a:xfrm>
            <a:off x="17974080" y="202485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 rot="16200000">
            <a:off x="15285240" y="18475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8" descr=""/>
          <p:cNvPicPr/>
          <p:nvPr/>
        </p:nvPicPr>
        <p:blipFill>
          <a:blip r:embed="rId13"/>
          <a:stretch/>
        </p:blipFill>
        <p:spPr>
          <a:xfrm>
            <a:off x="16516440" y="17200440"/>
            <a:ext cx="4672080" cy="2911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9113120" y="185482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30"/>
          <p:cNvCxnSpPr/>
          <p:nvPr/>
        </p:nvCxnSpPr>
        <p:spPr>
          <a:xfrm flipH="1">
            <a:off x="18984600" y="18814680"/>
            <a:ext cx="2642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20"/>
          <p:cNvSpPr/>
          <p:nvPr/>
        </p:nvSpPr>
        <p:spPr>
          <a:xfrm>
            <a:off x="17168400" y="193896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2"/>
          <p:cNvCxnSpPr/>
          <p:nvPr/>
        </p:nvCxnSpPr>
        <p:spPr>
          <a:xfrm flipV="1">
            <a:off x="17292600" y="19328760"/>
            <a:ext cx="249840" cy="12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5" name="Picture 133" descr=""/>
          <p:cNvPicPr/>
          <p:nvPr/>
        </p:nvPicPr>
        <p:blipFill>
          <a:blip r:embed="rId14"/>
          <a:stretch/>
        </p:blipFill>
        <p:spPr>
          <a:xfrm>
            <a:off x="16473600" y="13360320"/>
            <a:ext cx="480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4" descr=""/>
          <p:cNvPicPr/>
          <p:nvPr/>
        </p:nvPicPr>
        <p:blipFill>
          <a:blip r:embed="rId15"/>
          <a:stretch/>
        </p:blipFill>
        <p:spPr>
          <a:xfrm>
            <a:off x="16373520" y="20661480"/>
            <a:ext cx="4900680" cy="2647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8393120" y="234601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29680" y="16376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lisa</cp:lastModifiedBy>
  <cp:lastPrinted>1999-04-01T23:37:39Z</cp:lastPrinted>
  <dcterms:modified xsi:type="dcterms:W3CDTF">2013-05-27T05:05:59Z</dcterms:modified>
  <cp:revision>266</cp:revision>
  <dc:subject/>
  <dc:title>No Slide Title</dc:title>
</cp:coreProperties>
</file>