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E02-B944-4950-BAE6-5D60CE33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7C6-5739-482C-963B-4EEC4915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9FB-DE4D-4398-A180-26DE7472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D29-958B-4209-B304-A92AC459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B07-924D-498A-B374-0A86057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544-4658-4009-821E-69D3A2B5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982-B9EC-49C5-BBEF-A2E5BBB9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4D5-C84C-432A-BE31-1EE79BE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11B-85BA-4F39-B957-7E9B8016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6D3-0986-4642-B8E6-803C5AC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602-6B83-43DD-A648-9C534B1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A24-BEC4-4EA9-8E36-5E22FCE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1CE-7419-4C06-9966-1190F859D8A1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8:00:12Z</dcterms:modified>
  <cp:revision>280</cp:revision>
  <dc:subject/>
  <dc:title>No Slide Title</dc:title>
</cp:coreProperties>
</file>