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A75-8B7F-48C9-A089-E9D28704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745-1D71-4B9D-8529-FE088B4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4E5-7DDF-4EF1-9179-820806C7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D01-9D11-4651-926D-00D7DC32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749-7E78-4292-BE5C-34B6218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F2E-4029-4A52-9DA1-1E09A67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CAA-F143-4A97-9F2D-7D01737C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7CA-43CD-41E6-84DF-EADDC5A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49B-A60B-4C9E-97F7-607CEE4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EAB-0741-4B67-8C44-7D45438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83A-AB1B-43A9-B3F0-3B5D850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BAA-7B25-44AF-9C64-CB11489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AD5-8619-4267-9696-ED72A9B0AD0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8:00:12Z</dcterms:modified>
  <cp:revision>280</cp:revision>
  <dc:subject/>
  <dc:title>No Slide Title</dc:title>
</cp:coreProperties>
</file>