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8B8-F47B-407C-8069-AFB0B322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6F5-5B0F-4AD3-B3C1-4DAB24C8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E01-EF51-43F4-BA17-4C5423B8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F10-CD65-4909-A4D1-0FC41F6B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115-6EB5-43B9-BE77-C7713F81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FAC-72DE-4C6F-B244-73D16BC9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D8C-0137-43C7-9380-4036A16E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C9B-7EEF-4648-958E-AD096FF0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8FD-C9F3-495B-9694-74F4F1A2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DEC-52D9-4E8D-9D6E-FA7551DA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75B-0F0C-4E6E-BD70-B56D5353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62D-46FA-4F14-AEFE-8815E930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0ADC-F8FC-45C5-BEE0-165A5476A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03240" y="684360"/>
          <a:ext cx="553896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684360"/>
                    <a:ext cx="553896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803240" y="684360"/>
          <a:ext cx="55389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684360"/>
                    <a:ext cx="55389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20:30:40Z</dcterms:created>
  <dc:creator>Kwang Jin Koh</dc:creator>
  <dc:description/>
  <dc:language>en-US</dc:language>
  <cp:lastModifiedBy>Kwang Jin Koh</cp:lastModifiedBy>
  <dcterms:modified xsi:type="dcterms:W3CDTF">2008-08-10T20:32:59Z</dcterms:modified>
  <cp:revision>2</cp:revision>
  <dc:subject/>
  <dc:title>Slide 1</dc:title>
</cp:coreProperties>
</file>