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859-E3A6-4A39-BDD9-4255E167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5E6-6ED4-4569-98AB-ACEC8AAA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E8A-AF99-4F51-A7AF-118C080D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354-09BA-4F34-9195-1B2C1BE4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3D7-D36F-4EBA-AC96-439CD398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670-7D0F-4E92-95C1-C1ACE6C8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CE46-77A5-49E2-8C71-19D7CAAC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63D7-0541-4BC3-8425-38900AB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A525-6772-4FA0-884C-BF81252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0036-CBE3-4B24-AD43-AA0BCB4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CDB-A2F3-4352-B136-1BFF5106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12F-AC54-4869-B331-2E643C0B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B0B0-37B1-4734-B140-D0748AF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9E36-BA33-4A96-BE61-083961E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09EC-295A-4BF4-97C1-E47D7425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B5C6-6146-497C-AC9A-96D52DF7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35BA-050E-4E49-91FF-CFAD9C09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E77-CAD0-4984-BC87-F0D70C3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C8F-CE49-4CF5-876A-E59702B2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1B3-16F1-414B-A691-484B34ED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A44-0F37-4BC5-BB1B-4064146E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B5A-A5C2-4C2C-B268-2582E85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6DB-0357-4FD7-8030-FE997E9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36D-8603-4CC1-8D18-F457C27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D436-4689-45A2-9863-E16F442010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4603-B287-4F20-A4FF-9B41793CF0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upling Element and Coupled circui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upled indu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deal transfor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ntrolled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1600200"/>
          <a:ext cx="90324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903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200400" y="1981080"/>
          <a:ext cx="79380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981080"/>
                    <a:ext cx="793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66880" y="2514600"/>
          <a:ext cx="19432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14600"/>
                    <a:ext cx="1943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10120" y="1154160"/>
            <a:ext cx="58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define a reciprocal inductanc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080" y="20574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38440" y="2895480"/>
          <a:ext cx="1933560" cy="3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8440" y="2895480"/>
                    <a:ext cx="19335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057400" y="3429000"/>
          <a:ext cx="475776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3429000"/>
                    <a:ext cx="4757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20200" y="33894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800" y="42274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 the curren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905120" y="4495680"/>
          <a:ext cx="4529160" cy="97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4495680"/>
                    <a:ext cx="4529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828800" y="5257800"/>
          <a:ext cx="4635360" cy="97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257800"/>
                    <a:ext cx="4635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usoid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30440" y="1905120"/>
          <a:ext cx="221616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1905120"/>
                    <a:ext cx="22161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514600" y="2612880"/>
          <a:ext cx="22860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12880"/>
                    <a:ext cx="2286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0480" y="3440160"/>
            <a:ext cx="607104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and parallel connections of coupled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114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of series and parallel connections of coupled inductors can be determined as shown in the examp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3880" y="2590920"/>
          <a:ext cx="2583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2583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800600" y="2514600"/>
          <a:ext cx="308628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0862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952880" y="3505320"/>
          <a:ext cx="25909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505320"/>
                    <a:ext cx="2590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4360" y="130644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120" y="18399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5 shows two coupled inductors connected in series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between the input term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0920" y="3962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3886200"/>
          <a:ext cx="236196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886200"/>
                    <a:ext cx="23619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7847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5200" y="403848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6" name=""/>
          <p:cNvGraphicFramePr/>
          <p:nvPr/>
        </p:nvGraphicFramePr>
        <p:xfrm>
          <a:off x="4876920" y="4648320"/>
          <a:ext cx="32590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3259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800600" y="5029200"/>
                <a:ext cx="1523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6326280" y="519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19320" y="2427120"/>
          <a:ext cx="30477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27120"/>
                    <a:ext cx="3047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816440" y="2351160"/>
          <a:ext cx="308628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6440" y="2351160"/>
                    <a:ext cx="30862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875120" y="3341520"/>
          <a:ext cx="27781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3341520"/>
                    <a:ext cx="27781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610200" y="114300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7960" y="167652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6 shows two coupled inductors connected in series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between the input term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6760" y="3798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64160" y="3722760"/>
          <a:ext cx="236196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4160" y="3722760"/>
                    <a:ext cx="23619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800600" y="444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331040" y="387504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084640" y="4484520"/>
          <a:ext cx="287352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4640" y="4484520"/>
                    <a:ext cx="2873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898880" y="4865760"/>
          <a:ext cx="135756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98880" y="4865760"/>
                    <a:ext cx="13575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342480" y="503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8080" y="5675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828800" y="5715000"/>
          <a:ext cx="242568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715000"/>
                    <a:ext cx="24256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498560" y="57150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ries i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38080" y="2666880"/>
          <a:ext cx="342900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6880"/>
                    <a:ext cx="342900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029200" y="2514600"/>
                <a:ext cx="3124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5029200" y="4876920"/>
          <a:ext cx="32004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876920"/>
                    <a:ext cx="32004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91600" y="1332000"/>
            <a:ext cx="125820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8320" y="1916280"/>
            <a:ext cx="82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upled inductors are connected in parallel in Fig 6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60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029200" y="3657600"/>
          <a:ext cx="320040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657600"/>
                    <a:ext cx="3200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05120" y="2666880"/>
          <a:ext cx="48006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666880"/>
                    <a:ext cx="48006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76720" y="3505320"/>
          <a:ext cx="190476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1904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971800" y="4267080"/>
          <a:ext cx="373392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267080"/>
                    <a:ext cx="37339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4800" y="11541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743200" y="1371600"/>
          <a:ext cx="43434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371600"/>
                    <a:ext cx="43434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819520" y="2057400"/>
          <a:ext cx="403848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2057400"/>
                    <a:ext cx="4038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95440" y="262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6880" y="32367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tegration of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8800" y="4303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819520" y="4800600"/>
          <a:ext cx="152388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800600"/>
                    <a:ext cx="15238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9748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8080" y="5675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40160" y="5715000"/>
          <a:ext cx="2373120" cy="37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0160" y="5715000"/>
                    <a:ext cx="2373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22240" y="56754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rallel i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366840" y="1066680"/>
            <a:ext cx="81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transformer is very useful for circuit calculation. Ideal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upled inductor with th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36520" y="1905120"/>
            <a:ext cx="625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 n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eakage flux and the coupling coefficient is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e self induc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360" y="3048120"/>
            <a:ext cx="359280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winding ideal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981080" y="3809880"/>
          <a:ext cx="4624560" cy="17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9880"/>
                    <a:ext cx="4624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747720" y="4456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85800" y="1981080"/>
                <a:ext cx="306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5" name=""/>
          <p:cNvGraphicFramePr/>
          <p:nvPr/>
        </p:nvGraphicFramePr>
        <p:xfrm>
          <a:off x="2743200" y="2362320"/>
          <a:ext cx="317016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170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95280" y="2743200"/>
          <a:ext cx="129564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743200"/>
                    <a:ext cx="1295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2200" y="1219320"/>
            <a:ext cx="85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7 shows an ideal two-winding transformer. Coils are wound on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core to produce flux. Voltages is Induced on each w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600" y="198108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is the flux of a one-turn coil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1520" y="30481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                          and                          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276720" y="2766960"/>
          <a:ext cx="1295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66960"/>
                    <a:ext cx="12952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362320" y="3581280"/>
          <a:ext cx="423864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581280"/>
                    <a:ext cx="42386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519480" y="4608360"/>
            <a:ext cx="72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rms of magnetomotive force (mmf) and magnetic reluctance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7162920" y="4572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2787480" y="5105520"/>
          <a:ext cx="2095560" cy="92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87480" y="5105520"/>
                    <a:ext cx="2095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114800" y="1523880"/>
                <a:ext cx="407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2" name=""/>
          <p:cNvGraphicFramePr/>
          <p:nvPr/>
        </p:nvGraphicFramePr>
        <p:xfrm>
          <a:off x="2590920" y="1600200"/>
          <a:ext cx="3744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74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666880" y="2057400"/>
          <a:ext cx="187344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057400"/>
                    <a:ext cx="187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09760" y="1535040"/>
            <a:ext cx="63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ermeability      is infinite         becomes zer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14600" y="2743200"/>
          <a:ext cx="4572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743200"/>
                    <a:ext cx="4572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518400" y="2982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9480" y="38466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1) and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209680" y="4267080"/>
          <a:ext cx="484344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267080"/>
                    <a:ext cx="48434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2720" y="5013360"/>
            <a:ext cx="78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    does not depend on     or       but it depends only 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969920" y="4952880"/>
                <a:ext cx="392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35" name=""/>
          <p:cNvGraphicFramePr/>
          <p:nvPr/>
        </p:nvGraphicFramePr>
        <p:xfrm>
          <a:off x="4572000" y="4952880"/>
          <a:ext cx="2858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285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05240" y="4952880"/>
          <a:ext cx="3574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05240" y="4952880"/>
                    <a:ext cx="357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8077320" y="4952880"/>
          <a:ext cx="4284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77320" y="4952880"/>
                    <a:ext cx="42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ultiple w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09480" y="1905120"/>
          <a:ext cx="25527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2552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648320" y="2362320"/>
                <a:ext cx="328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6" name=""/>
          <p:cNvGraphicFramePr/>
          <p:nvPr/>
        </p:nvGraphicFramePr>
        <p:xfrm>
          <a:off x="4724280" y="2971800"/>
          <a:ext cx="20401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971800"/>
                    <a:ext cx="20401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7089480" y="32004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qual volt/ 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14600" y="5573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upling Element and Coupled circui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 elements have more that one branch and branch voltages or branch currents depend on other branches. The characteristics and properties of coupling element will be consi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960" y="2438280"/>
            <a:ext cx="24818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i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600" y="2982960"/>
            <a:ext cx="54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ils in a close proximity is shown in Fig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33720" y="3352680"/>
          <a:ext cx="3504960" cy="20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350496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834920" y="556272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1 Coupled coil and referenc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3520" y="2209680"/>
          <a:ext cx="42670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267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33520" y="4191120"/>
                <a:ext cx="45720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486400" y="44956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56" name=""/>
          <p:cNvGraphicFramePr/>
          <p:nvPr/>
        </p:nvGraphicFramePr>
        <p:xfrm>
          <a:off x="457200" y="5257800"/>
          <a:ext cx="194472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1944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mpedance transforma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43000" y="4343400"/>
          <a:ext cx="556272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343400"/>
                    <a:ext cx="5562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17680" y="1230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5160" y="123048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inusoid stea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43000" y="1738440"/>
          <a:ext cx="4724280" cy="22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38440"/>
                    <a:ext cx="472428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310080" y="313524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"/>
          <p:cNvSpPr/>
          <p:nvPr/>
        </p:nvSpPr>
        <p:spPr>
          <a:xfrm>
            <a:off x="466560" y="1066680"/>
            <a:ext cx="86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sources are used in electronic device modeling. There four k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ntrolled sourc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29040" y="1828800"/>
            <a:ext cx="424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cur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cur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volt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volt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914400" y="2971800"/>
          <a:ext cx="647712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64771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757640" y="54212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586080" y="16113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current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391520" y="137160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4723200" y="16002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3720" y="259092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current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315200" y="2209680"/>
          <a:ext cx="121932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797720" y="259092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onduc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5160" y="373392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voltage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589880" y="3505320"/>
          <a:ext cx="8683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9880" y="3505320"/>
                    <a:ext cx="868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4953240" y="3733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9680" y="487692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voltage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7626240" y="4648320"/>
          <a:ext cx="9493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6240" y="4648320"/>
                    <a:ext cx="94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5026680" y="487692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962520" y="2209680"/>
          <a:ext cx="50274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50274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600200" y="2666880"/>
                <a:ext cx="18511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92" name=""/>
          <p:cNvGraphicFramePr/>
          <p:nvPr/>
        </p:nvGraphicFramePr>
        <p:xfrm>
          <a:off x="1523880" y="3124080"/>
          <a:ext cx="24386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2438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442080" y="1230480"/>
            <a:ext cx="13129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3800" y="1687680"/>
            <a:ext cx="62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output voltage from the circuit of Fig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6640" y="4191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360" y="23734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4343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676520" y="4214880"/>
          <a:ext cx="4647960" cy="17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214880"/>
                    <a:ext cx="46479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38080" y="2286000"/>
          <a:ext cx="518184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51818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219320" y="4448160"/>
          <a:ext cx="54864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48160"/>
                    <a:ext cx="5486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7560" y="137160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0000" y="182880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ode voltage from the circuit of Fig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49960" y="3048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2800" y="4049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95280" y="5181480"/>
          <a:ext cx="342900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34290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981080" y="1219320"/>
          <a:ext cx="57913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7913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9480" y="1752480"/>
                <a:ext cx="978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6" name=""/>
          <p:cNvGraphicFramePr/>
          <p:nvPr/>
        </p:nvGraphicFramePr>
        <p:xfrm>
          <a:off x="1828800" y="2057400"/>
          <a:ext cx="594360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57400"/>
                    <a:ext cx="59436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517680" y="29829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.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28800" y="2819520"/>
          <a:ext cx="594360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19520"/>
                    <a:ext cx="59436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608400" y="3886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752480" y="3809880"/>
          <a:ext cx="50292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80988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22280" y="4876920"/>
          <a:ext cx="8928000" cy="96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2280" y="4876920"/>
                    <a:ext cx="8928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7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971800" y="4343400"/>
          <a:ext cx="762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286000" y="182880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31" name=""/>
          <p:cNvGraphicFramePr/>
          <p:nvPr/>
        </p:nvGraphicFramePr>
        <p:xfrm>
          <a:off x="1905120" y="3200400"/>
          <a:ext cx="57610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0400"/>
                    <a:ext cx="5761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670320" y="130644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8880" y="2602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6000" y="434340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5) and (6)          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6720" y="43434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0" y="4343400"/>
          <a:ext cx="76032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343400"/>
                    <a:ext cx="7603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380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971800" y="2514600"/>
                <a:ext cx="3886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586440" y="213372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power entering the two por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3840" y="313524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either          or           is zero t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133720" y="3124080"/>
                <a:ext cx="68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45" name=""/>
          <p:cNvGraphicFramePr/>
          <p:nvPr/>
        </p:nvGraphicFramePr>
        <p:xfrm>
          <a:off x="3200400" y="3124080"/>
          <a:ext cx="6224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124080"/>
                    <a:ext cx="6224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971800" y="3581280"/>
          <a:ext cx="232560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23256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41960" y="412596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is connected at po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11240" y="4114800"/>
          <a:ext cx="43668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1240" y="4114800"/>
                    <a:ext cx="436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114800" y="4114800"/>
          <a:ext cx="140184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114800"/>
                    <a:ext cx="1401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745560" y="4659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14600" y="4572000"/>
          <a:ext cx="1755720" cy="55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572000"/>
                    <a:ext cx="1755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664200" y="5192640"/>
            <a:ext cx="52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entering a two port is always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289440" y="130644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60" y="199224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circuit of Fig. 13 in sinusoid steady-state. Find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of the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754280" y="2895480"/>
          <a:ext cx="40370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2895480"/>
                    <a:ext cx="40370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201480" y="53341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flux is produced by each coil by th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2057400"/>
                <a:ext cx="197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3886200" y="2057400"/>
          <a:ext cx="19810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1981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13720" y="2703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    and          are nonlinear function of         and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47920" y="2666880"/>
          <a:ext cx="334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666880"/>
                    <a:ext cx="33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38280" y="2666880"/>
          <a:ext cx="3970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666880"/>
                    <a:ext cx="39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86400" y="2666880"/>
          <a:ext cx="243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2666880"/>
                    <a:ext cx="24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324480" y="2666880"/>
          <a:ext cx="3049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26668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44240" y="3313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araday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3809880"/>
          <a:ext cx="358164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3809880"/>
                    <a:ext cx="35816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22840" y="3886200"/>
          <a:ext cx="3738600" cy="94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2840" y="3886200"/>
                    <a:ext cx="3738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209680" y="990720"/>
                <a:ext cx="18655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752480" y="2895480"/>
                <a:ext cx="40388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07600" y="4354560"/>
            <a:ext cx="79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 if             the input impedance can be negative and this two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becomes a negative impedance conver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523880" y="434340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time-invariant coupled i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24280" y="2590920"/>
          <a:ext cx="30164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90920"/>
                    <a:ext cx="30164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916920" y="205740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lux is a linear function of cur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76480" y="2590920"/>
          <a:ext cx="2984400" cy="47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6480" y="2590920"/>
                    <a:ext cx="29844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2880" y="3232080"/>
          <a:ext cx="260676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2880" y="3232080"/>
                    <a:ext cx="26067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952880" y="3200400"/>
          <a:ext cx="2702160" cy="8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200400"/>
                    <a:ext cx="27021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2480" y="308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2720" y="419112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usoid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4749840"/>
          <a:ext cx="295272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749840"/>
                    <a:ext cx="2952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724280" y="4724280"/>
          <a:ext cx="2921040" cy="47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4724280"/>
                    <a:ext cx="2921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93640" y="559908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signs of        and           are positive but the sign for M ca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95480" y="55627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3795840" y="5562720"/>
          <a:ext cx="48708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95840" y="5562720"/>
                    <a:ext cx="48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229600" y="5638680"/>
          <a:ext cx="852480" cy="39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29600" y="5638680"/>
                    <a:ext cx="852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661680" y="1077840"/>
            <a:ext cx="65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s are often used in the circuit to indicate the sig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1922400"/>
          <a:ext cx="547524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22400"/>
                    <a:ext cx="547524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745360" y="43434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 Positive value of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of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920" y="17892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upling coefficien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895480" y="2209680"/>
          <a:ext cx="182880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09680"/>
                    <a:ext cx="18288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96520" y="350532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oils are distance away  k is very small and close to zero and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1 for a very tight coupling such for a transfo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380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winding Inductors and induct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7400" y="2505240"/>
          <a:ext cx="3886200" cy="51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05240"/>
                    <a:ext cx="38862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67160" y="213372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windings the flux in each coi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57400" y="2971800"/>
          <a:ext cx="38926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971800"/>
                    <a:ext cx="389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057400" y="3429000"/>
          <a:ext cx="38656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429000"/>
                    <a:ext cx="3865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441520" y="41911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  self inductanc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4114800"/>
          <a:ext cx="16178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114800"/>
                    <a:ext cx="161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838080" y="4724280"/>
          <a:ext cx="34290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724280"/>
                    <a:ext cx="3429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423680" y="48006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mutual induc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080" y="51418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trix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68600" y="5486400"/>
          <a:ext cx="1312920" cy="61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68600" y="5486400"/>
                    <a:ext cx="13129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66680" y="1219320"/>
                <a:ext cx="106992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1295280"/>
          <a:ext cx="92880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92880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1219320"/>
                <a:ext cx="28191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1981080" y="2685960"/>
          <a:ext cx="3810240" cy="34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685960"/>
                    <a:ext cx="381024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91080" y="457200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3 Three-winding i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21004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981080"/>
                <a:ext cx="1504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44240" y="1752480"/>
            <a:ext cx="81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ced voltage in term current vector and the inductance matrix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040" y="2666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" y="2971800"/>
            <a:ext cx="851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4 shows 3 coils wound on a common core. The reference dir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nd voltage are as shown in the figure. Since     and        ha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irection but        are not therefore         is positive while        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05720" y="3276720"/>
          <a:ext cx="35064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276720"/>
                    <a:ext cx="350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43800" y="3276720"/>
          <a:ext cx="37620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276720"/>
                    <a:ext cx="376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976480" y="3581280"/>
          <a:ext cx="37620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3581280"/>
                    <a:ext cx="376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3657600"/>
          <a:ext cx="4003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3657600"/>
                    <a:ext cx="400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696080" y="3586320"/>
          <a:ext cx="374760" cy="37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6080" y="3586320"/>
                    <a:ext cx="374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49160" y="3962520"/>
          <a:ext cx="400320" cy="37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9160" y="3962520"/>
                    <a:ext cx="400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130040" y="39988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76720" y="3809880"/>
          <a:ext cx="28051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3809880"/>
                    <a:ext cx="2805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128600" y="5446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02:09Z</dcterms:created>
  <dc:creator>KKU2</dc:creator>
  <dc:description/>
  <dc:language>en-US</dc:language>
  <cp:lastModifiedBy>Black Perls</cp:lastModifiedBy>
  <dcterms:modified xsi:type="dcterms:W3CDTF">2009-11-13T02:44:24Z</dcterms:modified>
  <cp:revision>55</cp:revision>
  <dc:subject/>
  <dc:title>Coupling Element and Coupled circuits</dc:title>
</cp:coreProperties>
</file>