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0C47FF-4FAE-47AC-9F32-1A0FC815B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8DABB0-1EA9-46A0-ACF3-89314C3F1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2600" y="69372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920" y="440496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17136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4284000" y="6598800"/>
            <a:ext cx="56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864B-0F03-4B6E-A220-B1EEE130B80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60640"/>
            <a:ext cx="83631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243920" y="120600"/>
            <a:ext cx="825120" cy="869760"/>
            <a:chOff x="7243920" y="120600"/>
            <a:chExt cx="825120" cy="869760"/>
          </a:xfrm>
        </p:grpSpPr>
        <p:sp>
          <p:nvSpPr>
            <p:cNvPr id="5" name=""/>
            <p:cNvSpPr/>
            <p:nvPr/>
          </p:nvSpPr>
          <p:spPr>
            <a:xfrm>
              <a:off x="7243920" y="276840"/>
              <a:ext cx="686520" cy="713520"/>
            </a:xfrm>
            <a:custGeom>
              <a:avLst/>
              <a:gdLst/>
              <a:ahLst/>
              <a:rect l="l" t="t" r="r" b="b"/>
              <a:pathLst>
                <a:path w="11406" h="11147">
                  <a:moveTo>
                    <a:pt x="6784" y="3484"/>
                  </a:moveTo>
                  <a:lnTo>
                    <a:pt x="6784" y="7444"/>
                  </a:lnTo>
                  <a:lnTo>
                    <a:pt x="6786" y="7462"/>
                  </a:lnTo>
                  <a:lnTo>
                    <a:pt x="6787" y="7482"/>
                  </a:lnTo>
                  <a:lnTo>
                    <a:pt x="6786" y="7502"/>
                  </a:lnTo>
                  <a:lnTo>
                    <a:pt x="6784" y="7523"/>
                  </a:lnTo>
                  <a:lnTo>
                    <a:pt x="6781" y="7544"/>
                  </a:lnTo>
                  <a:lnTo>
                    <a:pt x="6777" y="7565"/>
                  </a:lnTo>
                  <a:lnTo>
                    <a:pt x="6771" y="7587"/>
                  </a:lnTo>
                  <a:lnTo>
                    <a:pt x="6765" y="7609"/>
                  </a:lnTo>
                  <a:lnTo>
                    <a:pt x="6757" y="7632"/>
                  </a:lnTo>
                  <a:lnTo>
                    <a:pt x="6747" y="7654"/>
                  </a:lnTo>
                  <a:lnTo>
                    <a:pt x="6736" y="7676"/>
                  </a:lnTo>
                  <a:lnTo>
                    <a:pt x="6725" y="7698"/>
                  </a:lnTo>
                  <a:lnTo>
                    <a:pt x="6712" y="7719"/>
                  </a:lnTo>
                  <a:lnTo>
                    <a:pt x="6699" y="7740"/>
                  </a:lnTo>
                  <a:lnTo>
                    <a:pt x="6684" y="7761"/>
                  </a:lnTo>
                  <a:lnTo>
                    <a:pt x="6668" y="7780"/>
                  </a:lnTo>
                  <a:lnTo>
                    <a:pt x="6651" y="7800"/>
                  </a:lnTo>
                  <a:lnTo>
                    <a:pt x="6633" y="7818"/>
                  </a:lnTo>
                  <a:lnTo>
                    <a:pt x="6614" y="7836"/>
                  </a:lnTo>
                  <a:lnTo>
                    <a:pt x="6594" y="7853"/>
                  </a:lnTo>
                  <a:lnTo>
                    <a:pt x="6573" y="7869"/>
                  </a:lnTo>
                  <a:lnTo>
                    <a:pt x="6551" y="7883"/>
                  </a:lnTo>
                  <a:lnTo>
                    <a:pt x="6528" y="7897"/>
                  </a:lnTo>
                  <a:lnTo>
                    <a:pt x="6504" y="7909"/>
                  </a:lnTo>
                  <a:lnTo>
                    <a:pt x="6478" y="7921"/>
                  </a:lnTo>
                  <a:lnTo>
                    <a:pt x="6452" y="7930"/>
                  </a:lnTo>
                  <a:lnTo>
                    <a:pt x="6425" y="7938"/>
                  </a:lnTo>
                  <a:lnTo>
                    <a:pt x="6398" y="7944"/>
                  </a:lnTo>
                  <a:lnTo>
                    <a:pt x="6369" y="7948"/>
                  </a:lnTo>
                  <a:lnTo>
                    <a:pt x="6340" y="7951"/>
                  </a:lnTo>
                  <a:lnTo>
                    <a:pt x="6310" y="7951"/>
                  </a:lnTo>
                  <a:lnTo>
                    <a:pt x="6279" y="7949"/>
                  </a:lnTo>
                  <a:lnTo>
                    <a:pt x="6242" y="7943"/>
                  </a:lnTo>
                  <a:lnTo>
                    <a:pt x="6205" y="7933"/>
                  </a:lnTo>
                  <a:lnTo>
                    <a:pt x="6170" y="7918"/>
                  </a:lnTo>
                  <a:lnTo>
                    <a:pt x="6137" y="7901"/>
                  </a:lnTo>
                  <a:lnTo>
                    <a:pt x="6104" y="7880"/>
                  </a:lnTo>
                  <a:lnTo>
                    <a:pt x="6072" y="7856"/>
                  </a:lnTo>
                  <a:lnTo>
                    <a:pt x="6042" y="7828"/>
                  </a:lnTo>
                  <a:lnTo>
                    <a:pt x="6012" y="7796"/>
                  </a:lnTo>
                  <a:lnTo>
                    <a:pt x="5983" y="7760"/>
                  </a:lnTo>
                  <a:lnTo>
                    <a:pt x="5956" y="7721"/>
                  </a:lnTo>
                  <a:lnTo>
                    <a:pt x="5930" y="7678"/>
                  </a:lnTo>
                  <a:lnTo>
                    <a:pt x="5905" y="7631"/>
                  </a:lnTo>
                  <a:lnTo>
                    <a:pt x="5882" y="7579"/>
                  </a:lnTo>
                  <a:lnTo>
                    <a:pt x="5860" y="7524"/>
                  </a:lnTo>
                  <a:lnTo>
                    <a:pt x="5839" y="7465"/>
                  </a:lnTo>
                  <a:lnTo>
                    <a:pt x="5819" y="7401"/>
                  </a:lnTo>
                  <a:lnTo>
                    <a:pt x="5801" y="7333"/>
                  </a:lnTo>
                  <a:lnTo>
                    <a:pt x="5785" y="7261"/>
                  </a:lnTo>
                  <a:lnTo>
                    <a:pt x="5770" y="7186"/>
                  </a:lnTo>
                  <a:lnTo>
                    <a:pt x="5756" y="7105"/>
                  </a:lnTo>
                  <a:lnTo>
                    <a:pt x="5744" y="7020"/>
                  </a:lnTo>
                  <a:lnTo>
                    <a:pt x="5732" y="6931"/>
                  </a:lnTo>
                  <a:lnTo>
                    <a:pt x="5723" y="6838"/>
                  </a:lnTo>
                  <a:lnTo>
                    <a:pt x="5715" y="6739"/>
                  </a:lnTo>
                  <a:lnTo>
                    <a:pt x="5709" y="6637"/>
                  </a:lnTo>
                  <a:lnTo>
                    <a:pt x="5705" y="6530"/>
                  </a:lnTo>
                  <a:lnTo>
                    <a:pt x="5703" y="6417"/>
                  </a:lnTo>
                  <a:lnTo>
                    <a:pt x="5702" y="6301"/>
                  </a:lnTo>
                  <a:lnTo>
                    <a:pt x="5703" y="6180"/>
                  </a:lnTo>
                  <a:lnTo>
                    <a:pt x="5705" y="6054"/>
                  </a:lnTo>
                  <a:lnTo>
                    <a:pt x="5710" y="5923"/>
                  </a:lnTo>
                  <a:lnTo>
                    <a:pt x="5716" y="5787"/>
                  </a:lnTo>
                  <a:lnTo>
                    <a:pt x="5724" y="5651"/>
                  </a:lnTo>
                  <a:lnTo>
                    <a:pt x="5735" y="5518"/>
                  </a:lnTo>
                  <a:lnTo>
                    <a:pt x="5748" y="5392"/>
                  </a:lnTo>
                  <a:lnTo>
                    <a:pt x="5762" y="5270"/>
                  </a:lnTo>
                  <a:lnTo>
                    <a:pt x="5778" y="5153"/>
                  </a:lnTo>
                  <a:lnTo>
                    <a:pt x="5797" y="5041"/>
                  </a:lnTo>
                  <a:lnTo>
                    <a:pt x="5817" y="4933"/>
                  </a:lnTo>
                  <a:lnTo>
                    <a:pt x="5838" y="4830"/>
                  </a:lnTo>
                  <a:lnTo>
                    <a:pt x="5862" y="4732"/>
                  </a:lnTo>
                  <a:lnTo>
                    <a:pt x="5887" y="4637"/>
                  </a:lnTo>
                  <a:lnTo>
                    <a:pt x="5914" y="4547"/>
                  </a:lnTo>
                  <a:lnTo>
                    <a:pt x="5942" y="4462"/>
                  </a:lnTo>
                  <a:lnTo>
                    <a:pt x="5972" y="4379"/>
                  </a:lnTo>
                  <a:lnTo>
                    <a:pt x="6005" y="4301"/>
                  </a:lnTo>
                  <a:lnTo>
                    <a:pt x="6038" y="4228"/>
                  </a:lnTo>
                  <a:lnTo>
                    <a:pt x="6072" y="4158"/>
                  </a:lnTo>
                  <a:lnTo>
                    <a:pt x="6108" y="4091"/>
                  </a:lnTo>
                  <a:lnTo>
                    <a:pt x="6145" y="4028"/>
                  </a:lnTo>
                  <a:lnTo>
                    <a:pt x="6184" y="3970"/>
                  </a:lnTo>
                  <a:lnTo>
                    <a:pt x="6223" y="3914"/>
                  </a:lnTo>
                  <a:lnTo>
                    <a:pt x="6265" y="3862"/>
                  </a:lnTo>
                  <a:lnTo>
                    <a:pt x="6307" y="3812"/>
                  </a:lnTo>
                  <a:lnTo>
                    <a:pt x="6351" y="3767"/>
                  </a:lnTo>
                  <a:lnTo>
                    <a:pt x="6395" y="3724"/>
                  </a:lnTo>
                  <a:lnTo>
                    <a:pt x="6440" y="3685"/>
                  </a:lnTo>
                  <a:lnTo>
                    <a:pt x="6486" y="3648"/>
                  </a:lnTo>
                  <a:lnTo>
                    <a:pt x="6535" y="3614"/>
                  </a:lnTo>
                  <a:lnTo>
                    <a:pt x="6583" y="3583"/>
                  </a:lnTo>
                  <a:lnTo>
                    <a:pt x="6632" y="3555"/>
                  </a:lnTo>
                  <a:lnTo>
                    <a:pt x="6682" y="3528"/>
                  </a:lnTo>
                  <a:lnTo>
                    <a:pt x="6732" y="3505"/>
                  </a:lnTo>
                  <a:lnTo>
                    <a:pt x="6784" y="3484"/>
                  </a:lnTo>
                  <a:close/>
                  <a:moveTo>
                    <a:pt x="0" y="11046"/>
                  </a:moveTo>
                  <a:lnTo>
                    <a:pt x="232" y="10043"/>
                  </a:lnTo>
                  <a:lnTo>
                    <a:pt x="374" y="10066"/>
                  </a:lnTo>
                  <a:lnTo>
                    <a:pt x="504" y="10083"/>
                  </a:lnTo>
                  <a:lnTo>
                    <a:pt x="627" y="10091"/>
                  </a:lnTo>
                  <a:lnTo>
                    <a:pt x="741" y="10093"/>
                  </a:lnTo>
                  <a:lnTo>
                    <a:pt x="847" y="10087"/>
                  </a:lnTo>
                  <a:lnTo>
                    <a:pt x="945" y="10074"/>
                  </a:lnTo>
                  <a:lnTo>
                    <a:pt x="1036" y="10054"/>
                  </a:lnTo>
                  <a:lnTo>
                    <a:pt x="1120" y="10028"/>
                  </a:lnTo>
                  <a:lnTo>
                    <a:pt x="1196" y="9995"/>
                  </a:lnTo>
                  <a:lnTo>
                    <a:pt x="1268" y="9955"/>
                  </a:lnTo>
                  <a:lnTo>
                    <a:pt x="1332" y="9910"/>
                  </a:lnTo>
                  <a:lnTo>
                    <a:pt x="1392" y="9859"/>
                  </a:lnTo>
                  <a:lnTo>
                    <a:pt x="1446" y="9801"/>
                  </a:lnTo>
                  <a:lnTo>
                    <a:pt x="1495" y="9738"/>
                  </a:lnTo>
                  <a:lnTo>
                    <a:pt x="1541" y="9669"/>
                  </a:lnTo>
                  <a:lnTo>
                    <a:pt x="1583" y="9595"/>
                  </a:lnTo>
                  <a:lnTo>
                    <a:pt x="1620" y="9516"/>
                  </a:lnTo>
                  <a:lnTo>
                    <a:pt x="1655" y="9432"/>
                  </a:lnTo>
                  <a:lnTo>
                    <a:pt x="1686" y="9342"/>
                  </a:lnTo>
                  <a:lnTo>
                    <a:pt x="1716" y="9249"/>
                  </a:lnTo>
                  <a:lnTo>
                    <a:pt x="1743" y="9151"/>
                  </a:lnTo>
                  <a:lnTo>
                    <a:pt x="1770" y="9047"/>
                  </a:lnTo>
                  <a:lnTo>
                    <a:pt x="1794" y="8940"/>
                  </a:lnTo>
                  <a:lnTo>
                    <a:pt x="1817" y="8830"/>
                  </a:lnTo>
                  <a:lnTo>
                    <a:pt x="1863" y="8596"/>
                  </a:lnTo>
                  <a:lnTo>
                    <a:pt x="1910" y="8347"/>
                  </a:lnTo>
                  <a:lnTo>
                    <a:pt x="1935" y="8219"/>
                  </a:lnTo>
                  <a:lnTo>
                    <a:pt x="1961" y="8086"/>
                  </a:lnTo>
                  <a:lnTo>
                    <a:pt x="1989" y="7951"/>
                  </a:lnTo>
                  <a:lnTo>
                    <a:pt x="2020" y="7813"/>
                  </a:lnTo>
                  <a:lnTo>
                    <a:pt x="3789" y="0"/>
                  </a:lnTo>
                  <a:lnTo>
                    <a:pt x="6047" y="0"/>
                  </a:lnTo>
                  <a:lnTo>
                    <a:pt x="6140" y="4"/>
                  </a:lnTo>
                  <a:lnTo>
                    <a:pt x="6232" y="12"/>
                  </a:lnTo>
                  <a:lnTo>
                    <a:pt x="6324" y="24"/>
                  </a:lnTo>
                  <a:lnTo>
                    <a:pt x="6414" y="41"/>
                  </a:lnTo>
                  <a:lnTo>
                    <a:pt x="6503" y="62"/>
                  </a:lnTo>
                  <a:lnTo>
                    <a:pt x="6589" y="87"/>
                  </a:lnTo>
                  <a:lnTo>
                    <a:pt x="6674" y="115"/>
                  </a:lnTo>
                  <a:lnTo>
                    <a:pt x="6758" y="146"/>
                  </a:lnTo>
                  <a:lnTo>
                    <a:pt x="6839" y="182"/>
                  </a:lnTo>
                  <a:lnTo>
                    <a:pt x="6918" y="220"/>
                  </a:lnTo>
                  <a:lnTo>
                    <a:pt x="6996" y="261"/>
                  </a:lnTo>
                  <a:lnTo>
                    <a:pt x="7071" y="305"/>
                  </a:lnTo>
                  <a:lnTo>
                    <a:pt x="7143" y="353"/>
                  </a:lnTo>
                  <a:lnTo>
                    <a:pt x="7213" y="402"/>
                  </a:lnTo>
                  <a:lnTo>
                    <a:pt x="7280" y="453"/>
                  </a:lnTo>
                  <a:lnTo>
                    <a:pt x="7345" y="507"/>
                  </a:lnTo>
                  <a:lnTo>
                    <a:pt x="7406" y="562"/>
                  </a:lnTo>
                  <a:lnTo>
                    <a:pt x="7464" y="620"/>
                  </a:lnTo>
                  <a:lnTo>
                    <a:pt x="7520" y="679"/>
                  </a:lnTo>
                  <a:lnTo>
                    <a:pt x="7572" y="739"/>
                  </a:lnTo>
                  <a:lnTo>
                    <a:pt x="7620" y="801"/>
                  </a:lnTo>
                  <a:lnTo>
                    <a:pt x="7665" y="863"/>
                  </a:lnTo>
                  <a:lnTo>
                    <a:pt x="7706" y="927"/>
                  </a:lnTo>
                  <a:lnTo>
                    <a:pt x="7744" y="991"/>
                  </a:lnTo>
                  <a:lnTo>
                    <a:pt x="7777" y="1056"/>
                  </a:lnTo>
                  <a:lnTo>
                    <a:pt x="7806" y="1120"/>
                  </a:lnTo>
                  <a:lnTo>
                    <a:pt x="7832" y="1185"/>
                  </a:lnTo>
                  <a:lnTo>
                    <a:pt x="7852" y="1251"/>
                  </a:lnTo>
                  <a:lnTo>
                    <a:pt x="7869" y="1316"/>
                  </a:lnTo>
                  <a:lnTo>
                    <a:pt x="7881" y="1380"/>
                  </a:lnTo>
                  <a:lnTo>
                    <a:pt x="7888" y="1443"/>
                  </a:lnTo>
                  <a:lnTo>
                    <a:pt x="7890" y="1507"/>
                  </a:lnTo>
                  <a:lnTo>
                    <a:pt x="7890" y="2241"/>
                  </a:lnTo>
                  <a:lnTo>
                    <a:pt x="11184" y="2241"/>
                  </a:lnTo>
                  <a:lnTo>
                    <a:pt x="9382" y="10043"/>
                  </a:lnTo>
                  <a:lnTo>
                    <a:pt x="11406" y="10043"/>
                  </a:lnTo>
                  <a:lnTo>
                    <a:pt x="11174" y="11046"/>
                  </a:lnTo>
                  <a:lnTo>
                    <a:pt x="7955" y="11046"/>
                  </a:lnTo>
                  <a:lnTo>
                    <a:pt x="9749" y="3284"/>
                  </a:lnTo>
                  <a:lnTo>
                    <a:pt x="7890" y="3284"/>
                  </a:lnTo>
                  <a:lnTo>
                    <a:pt x="7890" y="8807"/>
                  </a:lnTo>
                  <a:lnTo>
                    <a:pt x="6809" y="8845"/>
                  </a:lnTo>
                  <a:lnTo>
                    <a:pt x="6805" y="8451"/>
                  </a:lnTo>
                  <a:lnTo>
                    <a:pt x="6785" y="8488"/>
                  </a:lnTo>
                  <a:lnTo>
                    <a:pt x="6765" y="8525"/>
                  </a:lnTo>
                  <a:lnTo>
                    <a:pt x="6743" y="8559"/>
                  </a:lnTo>
                  <a:lnTo>
                    <a:pt x="6720" y="8591"/>
                  </a:lnTo>
                  <a:lnTo>
                    <a:pt x="6697" y="8621"/>
                  </a:lnTo>
                  <a:lnTo>
                    <a:pt x="6674" y="8650"/>
                  </a:lnTo>
                  <a:lnTo>
                    <a:pt x="6650" y="8678"/>
                  </a:lnTo>
                  <a:lnTo>
                    <a:pt x="6625" y="8704"/>
                  </a:lnTo>
                  <a:lnTo>
                    <a:pt x="6600" y="8729"/>
                  </a:lnTo>
                  <a:lnTo>
                    <a:pt x="6574" y="8752"/>
                  </a:lnTo>
                  <a:lnTo>
                    <a:pt x="6547" y="8774"/>
                  </a:lnTo>
                  <a:lnTo>
                    <a:pt x="6520" y="8796"/>
                  </a:lnTo>
                  <a:lnTo>
                    <a:pt x="6492" y="8815"/>
                  </a:lnTo>
                  <a:lnTo>
                    <a:pt x="6462" y="8833"/>
                  </a:lnTo>
                  <a:lnTo>
                    <a:pt x="6433" y="8849"/>
                  </a:lnTo>
                  <a:lnTo>
                    <a:pt x="6403" y="8865"/>
                  </a:lnTo>
                  <a:lnTo>
                    <a:pt x="6372" y="8879"/>
                  </a:lnTo>
                  <a:lnTo>
                    <a:pt x="6341" y="8892"/>
                  </a:lnTo>
                  <a:lnTo>
                    <a:pt x="6309" y="8903"/>
                  </a:lnTo>
                  <a:lnTo>
                    <a:pt x="6277" y="8914"/>
                  </a:lnTo>
                  <a:lnTo>
                    <a:pt x="6244" y="8923"/>
                  </a:lnTo>
                  <a:lnTo>
                    <a:pt x="6209" y="8932"/>
                  </a:lnTo>
                  <a:lnTo>
                    <a:pt x="6175" y="8939"/>
                  </a:lnTo>
                  <a:lnTo>
                    <a:pt x="6141" y="8945"/>
                  </a:lnTo>
                  <a:lnTo>
                    <a:pt x="6105" y="8951"/>
                  </a:lnTo>
                  <a:lnTo>
                    <a:pt x="6070" y="8955"/>
                  </a:lnTo>
                  <a:lnTo>
                    <a:pt x="6033" y="8958"/>
                  </a:lnTo>
                  <a:lnTo>
                    <a:pt x="5996" y="8960"/>
                  </a:lnTo>
                  <a:lnTo>
                    <a:pt x="5958" y="8962"/>
                  </a:lnTo>
                  <a:lnTo>
                    <a:pt x="5920" y="8962"/>
                  </a:lnTo>
                  <a:lnTo>
                    <a:pt x="5881" y="8962"/>
                  </a:lnTo>
                  <a:lnTo>
                    <a:pt x="5842" y="8961"/>
                  </a:lnTo>
                  <a:lnTo>
                    <a:pt x="5763" y="8954"/>
                  </a:lnTo>
                  <a:lnTo>
                    <a:pt x="5684" y="8941"/>
                  </a:lnTo>
                  <a:lnTo>
                    <a:pt x="5609" y="8920"/>
                  </a:lnTo>
                  <a:lnTo>
                    <a:pt x="5535" y="8893"/>
                  </a:lnTo>
                  <a:lnTo>
                    <a:pt x="5462" y="8859"/>
                  </a:lnTo>
                  <a:lnTo>
                    <a:pt x="5393" y="8818"/>
                  </a:lnTo>
                  <a:lnTo>
                    <a:pt x="5326" y="8769"/>
                  </a:lnTo>
                  <a:lnTo>
                    <a:pt x="5261" y="8715"/>
                  </a:lnTo>
                  <a:lnTo>
                    <a:pt x="5197" y="8654"/>
                  </a:lnTo>
                  <a:lnTo>
                    <a:pt x="5137" y="8587"/>
                  </a:lnTo>
                  <a:lnTo>
                    <a:pt x="5079" y="8513"/>
                  </a:lnTo>
                  <a:lnTo>
                    <a:pt x="5024" y="8432"/>
                  </a:lnTo>
                  <a:lnTo>
                    <a:pt x="4971" y="8345"/>
                  </a:lnTo>
                  <a:lnTo>
                    <a:pt x="4920" y="8252"/>
                  </a:lnTo>
                  <a:lnTo>
                    <a:pt x="4873" y="8151"/>
                  </a:lnTo>
                  <a:lnTo>
                    <a:pt x="4828" y="8045"/>
                  </a:lnTo>
                  <a:lnTo>
                    <a:pt x="4786" y="7933"/>
                  </a:lnTo>
                  <a:lnTo>
                    <a:pt x="4747" y="7814"/>
                  </a:lnTo>
                  <a:lnTo>
                    <a:pt x="4710" y="7689"/>
                  </a:lnTo>
                  <a:lnTo>
                    <a:pt x="4677" y="7558"/>
                  </a:lnTo>
                  <a:lnTo>
                    <a:pt x="4647" y="7421"/>
                  </a:lnTo>
                  <a:lnTo>
                    <a:pt x="4620" y="7277"/>
                  </a:lnTo>
                  <a:lnTo>
                    <a:pt x="4596" y="7129"/>
                  </a:lnTo>
                  <a:lnTo>
                    <a:pt x="4575" y="6973"/>
                  </a:lnTo>
                  <a:lnTo>
                    <a:pt x="4557" y="6813"/>
                  </a:lnTo>
                  <a:lnTo>
                    <a:pt x="4543" y="6645"/>
                  </a:lnTo>
                  <a:lnTo>
                    <a:pt x="4532" y="6473"/>
                  </a:lnTo>
                  <a:lnTo>
                    <a:pt x="4524" y="6294"/>
                  </a:lnTo>
                  <a:lnTo>
                    <a:pt x="4520" y="6110"/>
                  </a:lnTo>
                  <a:lnTo>
                    <a:pt x="4519" y="5921"/>
                  </a:lnTo>
                  <a:lnTo>
                    <a:pt x="4522" y="5725"/>
                  </a:lnTo>
                  <a:lnTo>
                    <a:pt x="4529" y="5523"/>
                  </a:lnTo>
                  <a:lnTo>
                    <a:pt x="4537" y="5379"/>
                  </a:lnTo>
                  <a:lnTo>
                    <a:pt x="4549" y="5237"/>
                  </a:lnTo>
                  <a:lnTo>
                    <a:pt x="4566" y="5098"/>
                  </a:lnTo>
                  <a:lnTo>
                    <a:pt x="4586" y="4961"/>
                  </a:lnTo>
                  <a:lnTo>
                    <a:pt x="4611" y="4827"/>
                  </a:lnTo>
                  <a:lnTo>
                    <a:pt x="4640" y="4695"/>
                  </a:lnTo>
                  <a:lnTo>
                    <a:pt x="4673" y="4567"/>
                  </a:lnTo>
                  <a:lnTo>
                    <a:pt x="4711" y="4442"/>
                  </a:lnTo>
                  <a:lnTo>
                    <a:pt x="4753" y="4319"/>
                  </a:lnTo>
                  <a:lnTo>
                    <a:pt x="4798" y="4199"/>
                  </a:lnTo>
                  <a:lnTo>
                    <a:pt x="4848" y="4081"/>
                  </a:lnTo>
                  <a:lnTo>
                    <a:pt x="4901" y="3966"/>
                  </a:lnTo>
                  <a:lnTo>
                    <a:pt x="4959" y="3855"/>
                  </a:lnTo>
                  <a:lnTo>
                    <a:pt x="5021" y="3745"/>
                  </a:lnTo>
                  <a:lnTo>
                    <a:pt x="5087" y="3638"/>
                  </a:lnTo>
                  <a:lnTo>
                    <a:pt x="5156" y="3534"/>
                  </a:lnTo>
                  <a:lnTo>
                    <a:pt x="5230" y="3433"/>
                  </a:lnTo>
                  <a:lnTo>
                    <a:pt x="5308" y="3335"/>
                  </a:lnTo>
                  <a:lnTo>
                    <a:pt x="5390" y="3238"/>
                  </a:lnTo>
                  <a:lnTo>
                    <a:pt x="5475" y="3146"/>
                  </a:lnTo>
                  <a:lnTo>
                    <a:pt x="5566" y="3056"/>
                  </a:lnTo>
                  <a:lnTo>
                    <a:pt x="5659" y="2968"/>
                  </a:lnTo>
                  <a:lnTo>
                    <a:pt x="5757" y="2883"/>
                  </a:lnTo>
                  <a:lnTo>
                    <a:pt x="5858" y="2801"/>
                  </a:lnTo>
                  <a:lnTo>
                    <a:pt x="5963" y="2722"/>
                  </a:lnTo>
                  <a:lnTo>
                    <a:pt x="6073" y="2644"/>
                  </a:lnTo>
                  <a:lnTo>
                    <a:pt x="6185" y="2570"/>
                  </a:lnTo>
                  <a:lnTo>
                    <a:pt x="6303" y="2499"/>
                  </a:lnTo>
                  <a:lnTo>
                    <a:pt x="6423" y="2431"/>
                  </a:lnTo>
                  <a:lnTo>
                    <a:pt x="6548" y="2364"/>
                  </a:lnTo>
                  <a:lnTo>
                    <a:pt x="6676" y="2301"/>
                  </a:lnTo>
                  <a:lnTo>
                    <a:pt x="6809" y="2241"/>
                  </a:lnTo>
                  <a:lnTo>
                    <a:pt x="6804" y="1745"/>
                  </a:lnTo>
                  <a:lnTo>
                    <a:pt x="6804" y="1715"/>
                  </a:lnTo>
                  <a:lnTo>
                    <a:pt x="6802" y="1685"/>
                  </a:lnTo>
                  <a:lnTo>
                    <a:pt x="6798" y="1654"/>
                  </a:lnTo>
                  <a:lnTo>
                    <a:pt x="6792" y="1624"/>
                  </a:lnTo>
                  <a:lnTo>
                    <a:pt x="6783" y="1593"/>
                  </a:lnTo>
                  <a:lnTo>
                    <a:pt x="6773" y="1563"/>
                  </a:lnTo>
                  <a:lnTo>
                    <a:pt x="6761" y="1532"/>
                  </a:lnTo>
                  <a:lnTo>
                    <a:pt x="6747" y="1502"/>
                  </a:lnTo>
                  <a:lnTo>
                    <a:pt x="6730" y="1471"/>
                  </a:lnTo>
                  <a:lnTo>
                    <a:pt x="6713" y="1442"/>
                  </a:lnTo>
                  <a:lnTo>
                    <a:pt x="6693" y="1413"/>
                  </a:lnTo>
                  <a:lnTo>
                    <a:pt x="6672" y="1384"/>
                  </a:lnTo>
                  <a:lnTo>
                    <a:pt x="6649" y="1356"/>
                  </a:lnTo>
                  <a:lnTo>
                    <a:pt x="6624" y="1329"/>
                  </a:lnTo>
                  <a:lnTo>
                    <a:pt x="6598" y="1302"/>
                  </a:lnTo>
                  <a:lnTo>
                    <a:pt x="6569" y="1277"/>
                  </a:lnTo>
                  <a:lnTo>
                    <a:pt x="6539" y="1252"/>
                  </a:lnTo>
                  <a:lnTo>
                    <a:pt x="6508" y="1228"/>
                  </a:lnTo>
                  <a:lnTo>
                    <a:pt x="6474" y="1205"/>
                  </a:lnTo>
                  <a:lnTo>
                    <a:pt x="6439" y="1183"/>
                  </a:lnTo>
                  <a:lnTo>
                    <a:pt x="6403" y="1163"/>
                  </a:lnTo>
                  <a:lnTo>
                    <a:pt x="6365" y="1144"/>
                  </a:lnTo>
                  <a:lnTo>
                    <a:pt x="6326" y="1126"/>
                  </a:lnTo>
                  <a:lnTo>
                    <a:pt x="6285" y="1110"/>
                  </a:lnTo>
                  <a:lnTo>
                    <a:pt x="6243" y="1095"/>
                  </a:lnTo>
                  <a:lnTo>
                    <a:pt x="6198" y="1082"/>
                  </a:lnTo>
                  <a:lnTo>
                    <a:pt x="6154" y="1071"/>
                  </a:lnTo>
                  <a:lnTo>
                    <a:pt x="6107" y="1062"/>
                  </a:lnTo>
                  <a:lnTo>
                    <a:pt x="6060" y="1054"/>
                  </a:lnTo>
                  <a:lnTo>
                    <a:pt x="6011" y="1049"/>
                  </a:lnTo>
                  <a:lnTo>
                    <a:pt x="5959" y="1045"/>
                  </a:lnTo>
                  <a:lnTo>
                    <a:pt x="5908" y="1044"/>
                  </a:lnTo>
                  <a:lnTo>
                    <a:pt x="4764" y="1044"/>
                  </a:lnTo>
                  <a:lnTo>
                    <a:pt x="2978" y="8826"/>
                  </a:lnTo>
                  <a:lnTo>
                    <a:pt x="2944" y="9016"/>
                  </a:lnTo>
                  <a:lnTo>
                    <a:pt x="2905" y="9198"/>
                  </a:lnTo>
                  <a:lnTo>
                    <a:pt x="2860" y="9370"/>
                  </a:lnTo>
                  <a:lnTo>
                    <a:pt x="2811" y="9533"/>
                  </a:lnTo>
                  <a:lnTo>
                    <a:pt x="2758" y="9688"/>
                  </a:lnTo>
                  <a:lnTo>
                    <a:pt x="2698" y="9834"/>
                  </a:lnTo>
                  <a:lnTo>
                    <a:pt x="2636" y="9971"/>
                  </a:lnTo>
                  <a:lnTo>
                    <a:pt x="2569" y="10100"/>
                  </a:lnTo>
                  <a:lnTo>
                    <a:pt x="2496" y="10220"/>
                  </a:lnTo>
                  <a:lnTo>
                    <a:pt x="2421" y="10333"/>
                  </a:lnTo>
                  <a:lnTo>
                    <a:pt x="2342" y="10437"/>
                  </a:lnTo>
                  <a:lnTo>
                    <a:pt x="2260" y="10534"/>
                  </a:lnTo>
                  <a:lnTo>
                    <a:pt x="2172" y="10623"/>
                  </a:lnTo>
                  <a:lnTo>
                    <a:pt x="2082" y="10705"/>
                  </a:lnTo>
                  <a:lnTo>
                    <a:pt x="1988" y="10778"/>
                  </a:lnTo>
                  <a:lnTo>
                    <a:pt x="1891" y="10846"/>
                  </a:lnTo>
                  <a:lnTo>
                    <a:pt x="1791" y="10906"/>
                  </a:lnTo>
                  <a:lnTo>
                    <a:pt x="1688" y="10958"/>
                  </a:lnTo>
                  <a:lnTo>
                    <a:pt x="1582" y="11004"/>
                  </a:lnTo>
                  <a:lnTo>
                    <a:pt x="1473" y="11043"/>
                  </a:lnTo>
                  <a:lnTo>
                    <a:pt x="1362" y="11076"/>
                  </a:lnTo>
                  <a:lnTo>
                    <a:pt x="1247" y="11102"/>
                  </a:lnTo>
                  <a:lnTo>
                    <a:pt x="1132" y="11122"/>
                  </a:lnTo>
                  <a:lnTo>
                    <a:pt x="1014" y="11137"/>
                  </a:lnTo>
                  <a:lnTo>
                    <a:pt x="893" y="11145"/>
                  </a:lnTo>
                  <a:lnTo>
                    <a:pt x="771" y="11147"/>
                  </a:lnTo>
                  <a:lnTo>
                    <a:pt x="646" y="11144"/>
                  </a:lnTo>
                  <a:lnTo>
                    <a:pt x="520" y="11135"/>
                  </a:lnTo>
                  <a:lnTo>
                    <a:pt x="392" y="11120"/>
                  </a:lnTo>
                  <a:lnTo>
                    <a:pt x="262" y="11100"/>
                  </a:lnTo>
                  <a:lnTo>
                    <a:pt x="133" y="11076"/>
                  </a:lnTo>
                  <a:lnTo>
                    <a:pt x="0" y="1104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91240" y="120600"/>
              <a:ext cx="79560" cy="86760"/>
            </a:xfrm>
            <a:custGeom>
              <a:avLst/>
              <a:gdLst/>
              <a:ahLst/>
              <a:rect l="l" t="t" r="r" b="b"/>
              <a:pathLst>
                <a:path w="1320" h="1354">
                  <a:moveTo>
                    <a:pt x="187" y="280"/>
                  </a:moveTo>
                  <a:lnTo>
                    <a:pt x="211" y="252"/>
                  </a:lnTo>
                  <a:lnTo>
                    <a:pt x="236" y="226"/>
                  </a:lnTo>
                  <a:lnTo>
                    <a:pt x="262" y="201"/>
                  </a:lnTo>
                  <a:lnTo>
                    <a:pt x="289" y="178"/>
                  </a:lnTo>
                  <a:lnTo>
                    <a:pt x="316" y="156"/>
                  </a:lnTo>
                  <a:lnTo>
                    <a:pt x="344" y="134"/>
                  </a:lnTo>
                  <a:lnTo>
                    <a:pt x="373" y="115"/>
                  </a:lnTo>
                  <a:lnTo>
                    <a:pt x="403" y="97"/>
                  </a:lnTo>
                  <a:lnTo>
                    <a:pt x="433" y="81"/>
                  </a:lnTo>
                  <a:lnTo>
                    <a:pt x="463" y="66"/>
                  </a:lnTo>
                  <a:lnTo>
                    <a:pt x="494" y="53"/>
                  </a:lnTo>
                  <a:lnTo>
                    <a:pt x="525" y="41"/>
                  </a:lnTo>
                  <a:lnTo>
                    <a:pt x="556" y="31"/>
                  </a:lnTo>
                  <a:lnTo>
                    <a:pt x="587" y="22"/>
                  </a:lnTo>
                  <a:lnTo>
                    <a:pt x="619" y="14"/>
                  </a:lnTo>
                  <a:lnTo>
                    <a:pt x="651" y="8"/>
                  </a:lnTo>
                  <a:lnTo>
                    <a:pt x="683" y="4"/>
                  </a:lnTo>
                  <a:lnTo>
                    <a:pt x="715" y="1"/>
                  </a:lnTo>
                  <a:lnTo>
                    <a:pt x="746" y="0"/>
                  </a:lnTo>
                  <a:lnTo>
                    <a:pt x="777" y="0"/>
                  </a:lnTo>
                  <a:lnTo>
                    <a:pt x="808" y="2"/>
                  </a:lnTo>
                  <a:lnTo>
                    <a:pt x="839" y="5"/>
                  </a:lnTo>
                  <a:lnTo>
                    <a:pt x="870" y="10"/>
                  </a:lnTo>
                  <a:lnTo>
                    <a:pt x="901" y="17"/>
                  </a:lnTo>
                  <a:lnTo>
                    <a:pt x="930" y="25"/>
                  </a:lnTo>
                  <a:lnTo>
                    <a:pt x="960" y="35"/>
                  </a:lnTo>
                  <a:lnTo>
                    <a:pt x="988" y="46"/>
                  </a:lnTo>
                  <a:lnTo>
                    <a:pt x="1016" y="59"/>
                  </a:lnTo>
                  <a:lnTo>
                    <a:pt x="1043" y="74"/>
                  </a:lnTo>
                  <a:lnTo>
                    <a:pt x="1070" y="90"/>
                  </a:lnTo>
                  <a:lnTo>
                    <a:pt x="1095" y="108"/>
                  </a:lnTo>
                  <a:lnTo>
                    <a:pt x="1120" y="128"/>
                  </a:lnTo>
                  <a:lnTo>
                    <a:pt x="1145" y="150"/>
                  </a:lnTo>
                  <a:lnTo>
                    <a:pt x="1167" y="172"/>
                  </a:lnTo>
                  <a:lnTo>
                    <a:pt x="1188" y="195"/>
                  </a:lnTo>
                  <a:lnTo>
                    <a:pt x="1207" y="219"/>
                  </a:lnTo>
                  <a:lnTo>
                    <a:pt x="1224" y="245"/>
                  </a:lnTo>
                  <a:lnTo>
                    <a:pt x="1240" y="271"/>
                  </a:lnTo>
                  <a:lnTo>
                    <a:pt x="1255" y="298"/>
                  </a:lnTo>
                  <a:lnTo>
                    <a:pt x="1268" y="326"/>
                  </a:lnTo>
                  <a:lnTo>
                    <a:pt x="1280" y="354"/>
                  </a:lnTo>
                  <a:lnTo>
                    <a:pt x="1290" y="383"/>
                  </a:lnTo>
                  <a:lnTo>
                    <a:pt x="1299" y="413"/>
                  </a:lnTo>
                  <a:lnTo>
                    <a:pt x="1306" y="444"/>
                  </a:lnTo>
                  <a:lnTo>
                    <a:pt x="1312" y="475"/>
                  </a:lnTo>
                  <a:lnTo>
                    <a:pt x="1316" y="506"/>
                  </a:lnTo>
                  <a:lnTo>
                    <a:pt x="1319" y="538"/>
                  </a:lnTo>
                  <a:lnTo>
                    <a:pt x="1320" y="570"/>
                  </a:lnTo>
                  <a:lnTo>
                    <a:pt x="1319" y="602"/>
                  </a:lnTo>
                  <a:lnTo>
                    <a:pt x="1318" y="634"/>
                  </a:lnTo>
                  <a:lnTo>
                    <a:pt x="1314" y="667"/>
                  </a:lnTo>
                  <a:lnTo>
                    <a:pt x="1310" y="699"/>
                  </a:lnTo>
                  <a:lnTo>
                    <a:pt x="1303" y="733"/>
                  </a:lnTo>
                  <a:lnTo>
                    <a:pt x="1295" y="765"/>
                  </a:lnTo>
                  <a:lnTo>
                    <a:pt x="1286" y="797"/>
                  </a:lnTo>
                  <a:lnTo>
                    <a:pt x="1275" y="829"/>
                  </a:lnTo>
                  <a:lnTo>
                    <a:pt x="1263" y="861"/>
                  </a:lnTo>
                  <a:lnTo>
                    <a:pt x="1249" y="893"/>
                  </a:lnTo>
                  <a:lnTo>
                    <a:pt x="1234" y="924"/>
                  </a:lnTo>
                  <a:lnTo>
                    <a:pt x="1217" y="955"/>
                  </a:lnTo>
                  <a:lnTo>
                    <a:pt x="1198" y="985"/>
                  </a:lnTo>
                  <a:lnTo>
                    <a:pt x="1178" y="1015"/>
                  </a:lnTo>
                  <a:lnTo>
                    <a:pt x="1157" y="1045"/>
                  </a:lnTo>
                  <a:lnTo>
                    <a:pt x="1134" y="1074"/>
                  </a:lnTo>
                  <a:lnTo>
                    <a:pt x="1109" y="1102"/>
                  </a:lnTo>
                  <a:lnTo>
                    <a:pt x="1084" y="1128"/>
                  </a:lnTo>
                  <a:lnTo>
                    <a:pt x="1058" y="1153"/>
                  </a:lnTo>
                  <a:lnTo>
                    <a:pt x="1031" y="1176"/>
                  </a:lnTo>
                  <a:lnTo>
                    <a:pt x="1004" y="1198"/>
                  </a:lnTo>
                  <a:lnTo>
                    <a:pt x="976" y="1218"/>
                  </a:lnTo>
                  <a:lnTo>
                    <a:pt x="947" y="1238"/>
                  </a:lnTo>
                  <a:lnTo>
                    <a:pt x="918" y="1255"/>
                  </a:lnTo>
                  <a:lnTo>
                    <a:pt x="888" y="1272"/>
                  </a:lnTo>
                  <a:lnTo>
                    <a:pt x="857" y="1286"/>
                  </a:lnTo>
                  <a:lnTo>
                    <a:pt x="826" y="1300"/>
                  </a:lnTo>
                  <a:lnTo>
                    <a:pt x="795" y="1312"/>
                  </a:lnTo>
                  <a:lnTo>
                    <a:pt x="764" y="1323"/>
                  </a:lnTo>
                  <a:lnTo>
                    <a:pt x="733" y="1332"/>
                  </a:lnTo>
                  <a:lnTo>
                    <a:pt x="701" y="1339"/>
                  </a:lnTo>
                  <a:lnTo>
                    <a:pt x="670" y="1345"/>
                  </a:lnTo>
                  <a:lnTo>
                    <a:pt x="638" y="1349"/>
                  </a:lnTo>
                  <a:lnTo>
                    <a:pt x="606" y="1352"/>
                  </a:lnTo>
                  <a:lnTo>
                    <a:pt x="574" y="1354"/>
                  </a:lnTo>
                  <a:lnTo>
                    <a:pt x="543" y="1353"/>
                  </a:lnTo>
                  <a:lnTo>
                    <a:pt x="512" y="1352"/>
                  </a:lnTo>
                  <a:lnTo>
                    <a:pt x="481" y="1348"/>
                  </a:lnTo>
                  <a:lnTo>
                    <a:pt x="450" y="1343"/>
                  </a:lnTo>
                  <a:lnTo>
                    <a:pt x="420" y="1337"/>
                  </a:lnTo>
                  <a:lnTo>
                    <a:pt x="391" y="1329"/>
                  </a:lnTo>
                  <a:lnTo>
                    <a:pt x="361" y="1319"/>
                  </a:lnTo>
                  <a:lnTo>
                    <a:pt x="332" y="1306"/>
                  </a:lnTo>
                  <a:lnTo>
                    <a:pt x="304" y="1293"/>
                  </a:lnTo>
                  <a:lnTo>
                    <a:pt x="277" y="1279"/>
                  </a:lnTo>
                  <a:lnTo>
                    <a:pt x="250" y="1262"/>
                  </a:lnTo>
                  <a:lnTo>
                    <a:pt x="225" y="1245"/>
                  </a:lnTo>
                  <a:lnTo>
                    <a:pt x="200" y="1225"/>
                  </a:lnTo>
                  <a:lnTo>
                    <a:pt x="176" y="1204"/>
                  </a:lnTo>
                  <a:lnTo>
                    <a:pt x="154" y="1182"/>
                  </a:lnTo>
                  <a:lnTo>
                    <a:pt x="134" y="1159"/>
                  </a:lnTo>
                  <a:lnTo>
                    <a:pt x="113" y="1134"/>
                  </a:lnTo>
                  <a:lnTo>
                    <a:pt x="96" y="1109"/>
                  </a:lnTo>
                  <a:lnTo>
                    <a:pt x="80" y="1083"/>
                  </a:lnTo>
                  <a:lnTo>
                    <a:pt x="65" y="1056"/>
                  </a:lnTo>
                  <a:lnTo>
                    <a:pt x="52" y="1028"/>
                  </a:lnTo>
                  <a:lnTo>
                    <a:pt x="40" y="999"/>
                  </a:lnTo>
                  <a:lnTo>
                    <a:pt x="30" y="969"/>
                  </a:lnTo>
                  <a:lnTo>
                    <a:pt x="21" y="940"/>
                  </a:lnTo>
                  <a:lnTo>
                    <a:pt x="14" y="909"/>
                  </a:lnTo>
                  <a:lnTo>
                    <a:pt x="8" y="879"/>
                  </a:lnTo>
                  <a:lnTo>
                    <a:pt x="4" y="847"/>
                  </a:lnTo>
                  <a:lnTo>
                    <a:pt x="1" y="816"/>
                  </a:lnTo>
                  <a:lnTo>
                    <a:pt x="0" y="784"/>
                  </a:lnTo>
                  <a:lnTo>
                    <a:pt x="1" y="752"/>
                  </a:lnTo>
                  <a:lnTo>
                    <a:pt x="2" y="719"/>
                  </a:lnTo>
                  <a:lnTo>
                    <a:pt x="6" y="686"/>
                  </a:lnTo>
                  <a:lnTo>
                    <a:pt x="11" y="654"/>
                  </a:lnTo>
                  <a:lnTo>
                    <a:pt x="17" y="621"/>
                  </a:lnTo>
                  <a:lnTo>
                    <a:pt x="25" y="589"/>
                  </a:lnTo>
                  <a:lnTo>
                    <a:pt x="34" y="556"/>
                  </a:lnTo>
                  <a:lnTo>
                    <a:pt x="45" y="524"/>
                  </a:lnTo>
                  <a:lnTo>
                    <a:pt x="57" y="492"/>
                  </a:lnTo>
                  <a:lnTo>
                    <a:pt x="71" y="461"/>
                  </a:lnTo>
                  <a:lnTo>
                    <a:pt x="86" y="428"/>
                  </a:lnTo>
                  <a:lnTo>
                    <a:pt x="103" y="398"/>
                  </a:lnTo>
                  <a:lnTo>
                    <a:pt x="122" y="367"/>
                  </a:lnTo>
                  <a:lnTo>
                    <a:pt x="143" y="337"/>
                  </a:lnTo>
                  <a:lnTo>
                    <a:pt x="164" y="308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61320" y="276840"/>
              <a:ext cx="207720" cy="563040"/>
            </a:xfrm>
            <a:custGeom>
              <a:avLst/>
              <a:gdLst/>
              <a:ahLst/>
              <a:rect l="l" t="t" r="r" b="b"/>
              <a:pathLst>
                <a:path w="3461" h="8807">
                  <a:moveTo>
                    <a:pt x="0" y="1044"/>
                  </a:moveTo>
                  <a:lnTo>
                    <a:pt x="241" y="0"/>
                  </a:lnTo>
                  <a:lnTo>
                    <a:pt x="3461" y="0"/>
                  </a:lnTo>
                  <a:lnTo>
                    <a:pt x="1658" y="7802"/>
                  </a:lnTo>
                  <a:lnTo>
                    <a:pt x="3414" y="7802"/>
                  </a:lnTo>
                  <a:lnTo>
                    <a:pt x="3150" y="8807"/>
                  </a:lnTo>
                  <a:lnTo>
                    <a:pt x="160" y="8807"/>
                  </a:lnTo>
                  <a:lnTo>
                    <a:pt x="1954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8080560" y="371520"/>
            <a:ext cx="7614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Innov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48520" y="501480"/>
            <a:ext cx="9334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Manufactu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805040" y="6583320"/>
            <a:ext cx="8143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540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5748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6002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SiGe Qualification – Vendor Perspective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5574960"/>
            <a:ext cx="780732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huck Tabbert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Director, Aerospace &amp; Defense Services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505-823-1293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tabbert@jazzsemi.com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1279440"/>
            <a:ext cx="914400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8320" y="523800"/>
            <a:ext cx="716436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lementary BiCMOS – Vertical PN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3821040" y="1528920"/>
            <a:ext cx="52387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21040" y="1523880"/>
            <a:ext cx="5238720" cy="3495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71360" y="1454040"/>
            <a:ext cx="37688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sh/Pull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d Disk Drive (HDD) Pre-Amp and Driver 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-Performance Data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VPNP Module Integrated with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35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RF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203720" y="4730760"/>
          <a:ext cx="4467240" cy="1387440"/>
        </p:xfrm>
        <a:graphic>
          <a:graphicData uri="http://schemas.openxmlformats.org/drawingml/2006/table">
            <a:tbl>
              <a:tblPr/>
              <a:tblGrid>
                <a:gridCol w="1289160"/>
                <a:gridCol w="1287360"/>
                <a:gridCol w="1289160"/>
                <a:gridCol w="60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35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18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eak 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t (Vce = -5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Vc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High Volume Production &amp; Increasing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190840" y="3598920"/>
            <a:ext cx="3352680" cy="21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ource: Semico Research Corp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85840" y="1293840"/>
          <a:ext cx="8267400" cy="2276280"/>
        </p:xfrm>
        <a:graphic>
          <a:graphicData uri="http://schemas.openxmlformats.org/drawingml/2006/table">
            <a:tbl>
              <a:tblPr/>
              <a:tblGrid>
                <a:gridCol w="1033560"/>
                <a:gridCol w="1033560"/>
                <a:gridCol w="1032840"/>
                <a:gridCol w="1033560"/>
                <a:gridCol w="1033560"/>
                <a:gridCol w="1033200"/>
                <a:gridCol w="1033560"/>
                <a:gridCol w="103356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M, Units=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GR 02-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,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,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3,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its Ship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324000" y="38656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tween 2003 &amp; 2007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ustry shows a 5X increase in  unit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azz has seen a 15X increase in wafer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9150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ems like SiGe is a worldwide accepted technology qualified for commercial &amp; industrial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question here is – is this technology ready for use in the harsh environments of military and space applica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ended Temperature, Long Term Reliability, Radiation Ef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Where’s It Being Used Now?  Radios -  Of Course!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29200" y="1245960"/>
            <a:ext cx="390528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ell Phones - SiGe in the RF Transceiver front-end IC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Fiber optics components (receivers, transmitters, transceivers and amplifiers)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DD -  SiGe technology has a benefit in the read/write channels and the preamplifiers in HDD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WLAN - More range and higher frequencies for 802.11 modules means that more power will be needed and that the frequency capabilities of RF CMOS will be exceeded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PS - SiGe can provide a cleaner signal and, most importantly, lower power consumption than other GPS integrated receiver solutio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rdless Phones:   frequency requirements and power levels are too low to force non-silicon solution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luetooth -  modules are low power modules operating at a frequency low enough that silicon technology is adequat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gital STB -Amplifier and VCO (Voltage Controlled Oscillator) – Lower noise &amp; better gai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19160" y="1257480"/>
            <a:ext cx="4133880" cy="29304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89000" y="4248000"/>
            <a:ext cx="3354480" cy="2581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590920" y="5951520"/>
            <a:ext cx="52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otice: Two Generation Bump In Performance from RFCMOS to Si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BC18HX Process Reliability Tes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19160" y="13507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cess Tests 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mig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t Carrier Inj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te Oxide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shold Voltage Stabi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JT Reverse St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sivation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duct Tests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66880" y="4343400"/>
            <a:ext cx="50576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pecific Radiation / Temperature Dat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1407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ton Testing – 62.5MeV @1E12-2E13 fluences – 2006 tests by Univ of Wisconsin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C results – slight degradation in base curr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mall-Signal AC resul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power gai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Fma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nearity – better linearity – increased IIP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arge signal high-power - .0.3dB degradation in Pout, &lt;2%PAE degrad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yogenic (77K) &amp; High Temperature (160C) Data showed minor fluxuation in RF Power Performance (Univ of Wisconsin/NASA-GRC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H SiGe Efforts at Jazz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440" y="1341360"/>
            <a:ext cx="817236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AR program developed Rad-Aware models for Jazz SBC18 process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sign teams designing circuits and rad testing –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ck-Film SOI process integration completed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ation of 0.13 SiGe circuits (SBC13) on SOI proceeding-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MOS library adding deep-trench isol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ummary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1731600"/>
            <a:ext cx="6858000" cy="46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Ge is a mainstream commercial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dustry push to integrated low power RF transceivers will require SiGe integration into Military &amp; Space technology portfoli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diation effects and temperature effects seem very manageable due to robustness of base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zz is prepared to exploit this technology for Military &amp; Spac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6764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emiconductor 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45080" y="3871800"/>
            <a:ext cx="3481560" cy="2266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9160" y="1346040"/>
            <a:ext cx="902484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 Narrow"/>
              </a:rPr>
              <a:t>A Leading Pure-Play Silicon Wafer Foundry With On-Shore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med in 2002 from Conexant Systems (formerly part of Rockwell Internatio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vate but announced plan to merge with Acquicor which will make the combined entity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7k wpm 8-inch Si wafer Fab in Newport Beach with &gt;15-Year Track Record, &gt;$1B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-Shore found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venue of ~200M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AR Registered, NSA Sponsorship for Trusted Fo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cus on Specialty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5-micron to 0.13-mic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alog/RF: CMOS, SiGe BiCMOS,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ther: High Q Passives, MEMs, Im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/D Specific: Stitching, foundry for Rad-Har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6130800"/>
            <a:ext cx="8167680" cy="47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9400" y="6167520"/>
            <a:ext cx="76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stablished as a Trusted Partner Throughout Commercial and Do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Trusted Foundry Initiativ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82600"/>
            <a:ext cx="8610480" cy="532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zz is aggressively pursing trusted foundry status to serve CAT 1 program (classified &amp; ITAR) need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zz is first US semiconductor company to achieve ISO/IEC 27001:2005 certification for Information Securit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ree parallel efforts underwa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esktop accreditation  through TAPO and future accreditations through DME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dures provided to TAPO/DMEA for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SS Facilities Clearance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ployee Clearances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Accreditation probable within 3 months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320" y="323640"/>
            <a:ext cx="64040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Process Technology Spectru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9604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731960"/>
            <a:ext cx="0" cy="152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05640" y="1731960"/>
            <a:ext cx="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6040" y="173196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5640" y="20304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05640" y="2332080"/>
            <a:ext cx="0" cy="33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5640" y="266868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05640" y="2960640"/>
            <a:ext cx="0" cy="6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260880"/>
            <a:ext cx="0" cy="12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05640" y="3562200"/>
            <a:ext cx="0" cy="60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05640" y="416232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464000"/>
            <a:ext cx="0" cy="183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05640" y="446400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05640" y="4764240"/>
            <a:ext cx="0" cy="30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05640" y="506556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05640" y="53658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05640" y="599436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6040" y="629604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81440" y="629604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84560" y="629604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70320" y="629604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2780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73196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1440" y="173196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4560" y="173196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70320" y="173196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2780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5640" y="5667480"/>
            <a:ext cx="0" cy="32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653724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960" y="1862280"/>
            <a:ext cx="0" cy="147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9920" y="186228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5720" y="186228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9920" y="213516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59920" y="2427120"/>
            <a:ext cx="0" cy="325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9920" y="275256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9920" y="304488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960" y="3335400"/>
            <a:ext cx="0" cy="116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9920" y="3625920"/>
            <a:ext cx="0" cy="58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59920" y="4208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7960" y="4498920"/>
            <a:ext cx="0" cy="203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59920" y="449892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59920" y="47912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59920" y="5083200"/>
            <a:ext cx="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59920" y="537228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5720" y="653724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6200" y="653724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6200" y="653724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653724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2560" y="653724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1960" y="653724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960" y="186228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6200" y="186228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56200" y="186228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3520" y="186228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186228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1960" y="186228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59920" y="59580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9920" y="3335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8440" y="1395360"/>
            <a:ext cx="8004240" cy="5214960"/>
            <a:chOff x="568440" y="1395360"/>
            <a:chExt cx="8004240" cy="52149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866" r="0" b="1391"/>
            <a:stretch/>
          </p:blipFill>
          <p:spPr>
            <a:xfrm>
              <a:off x="568440" y="1395360"/>
              <a:ext cx="800424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11960" y="537228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62560" y="537228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3520" y="537228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537228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6200" y="537228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55720" y="537228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15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1960" y="5958000"/>
              <a:ext cx="10479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62560" y="5958000"/>
              <a:ext cx="1049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3520" y="5958000"/>
              <a:ext cx="10490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6200" y="5958000"/>
              <a:ext cx="1057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86200" y="5958000"/>
              <a:ext cx="1170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5720" y="5958000"/>
              <a:ext cx="1230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1960" y="5664240"/>
              <a:ext cx="104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560" y="5664240"/>
              <a:ext cx="1049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3520" y="5664240"/>
              <a:ext cx="1049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6200" y="5664240"/>
              <a:ext cx="1057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6200" y="5664240"/>
              <a:ext cx="1170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5720" y="5664240"/>
              <a:ext cx="1230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20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1960" y="62467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2560" y="62467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13520" y="62467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6200" y="62467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86200" y="62467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55720" y="62467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itching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1960" y="5083200"/>
              <a:ext cx="104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5083200"/>
              <a:ext cx="1049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3520" y="5083200"/>
              <a:ext cx="10490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6200" y="5083200"/>
              <a:ext cx="1057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6200" y="5083200"/>
              <a:ext cx="1170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5720" y="5083200"/>
              <a:ext cx="12304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8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1960" y="47912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62560" y="47912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13520" y="47912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7912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6200" y="47912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5720" y="47912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65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1960" y="449892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62560" y="449892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13520" y="449892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449892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6200" y="449892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5720" y="449892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 3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960" y="4498920"/>
              <a:ext cx="97776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i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1960" y="4208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62560" y="4208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3520" y="4208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6200" y="4208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6200" y="4208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5720" y="4208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1960" y="39164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2560" y="39164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13520" y="39164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6200" y="39164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86200" y="39164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5720" y="39164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11960" y="36259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2560" y="36259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13520" y="36259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56200" y="36259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6200" y="36259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720" y="36259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1960" y="3335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62560" y="3335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3520" y="3335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56200" y="3335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86200" y="3335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5720" y="3335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960" y="3335400"/>
              <a:ext cx="97776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ower CMOS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11960" y="304488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2560" y="304488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3520" y="304488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6200" y="304488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6200" y="304488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5720" y="304488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1960" y="275256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2560" y="275256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3520" y="275256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6200" y="275256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86200" y="275256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55720" y="275256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1960" y="2427120"/>
              <a:ext cx="104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2560" y="2427120"/>
              <a:ext cx="1049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3520" y="2427120"/>
              <a:ext cx="104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56200" y="2427120"/>
              <a:ext cx="10573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86200" y="2427120"/>
              <a:ext cx="1170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427120"/>
              <a:ext cx="1230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.5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1960" y="213516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2560" y="213516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3520" y="213516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6200" y="213516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6200" y="213516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5720" y="213516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.3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11960" y="1862280"/>
              <a:ext cx="10479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2560" y="1862280"/>
              <a:ext cx="1049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3520" y="1862280"/>
              <a:ext cx="10490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6200" y="1862280"/>
              <a:ext cx="1057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6200" y="1862280"/>
              <a:ext cx="11700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5720" y="1862280"/>
              <a:ext cx="1230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5.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960" y="1862280"/>
              <a:ext cx="977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nalog / RF 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960" y="333540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960" y="449892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5720" y="21351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5720" y="24271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5720" y="27525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5720" y="30448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5720" y="36259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5720" y="39164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55720" y="42084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5720" y="4791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5720" y="50832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5720" y="53722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5720" y="59580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5720" y="5664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5720" y="62467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575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756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756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7560" y="487368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97560" y="4583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4520" y="516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54520" y="21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4520" y="251460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2948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2948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29480" y="28195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34160" y="516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34160" y="57420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34160" y="399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65920" y="190656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768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65920" y="573408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39600" y="1487520"/>
              <a:ext cx="95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Now 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1200" y="1487520"/>
              <a:ext cx="1035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In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240" y="155880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27080" y="1554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7520" y="34164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7520" y="3705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57520" y="3990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57520" y="4287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9480" y="3422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564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75640" y="31100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63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32720" y="428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54520" y="39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5164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34160" y="545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32720" y="6018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48640" y="51674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6600" y="34243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87120" y="61056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960" y="595476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7760" y="60372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59560" y="6342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5320" y="63198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" y="47952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52440" y="6141960"/>
              <a:ext cx="66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SiGe for High Performance, Low Noise, Low Powe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96040" y="1644480"/>
            <a:ext cx="7358040" cy="3982320"/>
            <a:chOff x="896040" y="1644480"/>
            <a:chExt cx="7358040" cy="3982320"/>
          </a:xfrm>
        </p:grpSpPr>
        <p:sp>
          <p:nvSpPr>
            <p:cNvPr id="326" name=""/>
            <p:cNvSpPr/>
            <p:nvPr/>
          </p:nvSpPr>
          <p:spPr>
            <a:xfrm>
              <a:off x="1951200" y="1647720"/>
              <a:ext cx="5000400" cy="339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57320" y="1776240"/>
              <a:ext cx="3702240" cy="3051360"/>
            </a:xfrm>
            <a:custGeom>
              <a:avLst/>
              <a:gdLst/>
              <a:ahLst/>
              <a:rect l="l" t="t" r="r" b="b"/>
              <a:pathLst>
                <a:path w="2332" h="1922">
                  <a:moveTo>
                    <a:pt x="2332" y="219"/>
                  </a:moveTo>
                  <a:cubicBezTo>
                    <a:pt x="2309" y="190"/>
                    <a:pt x="2239" y="72"/>
                    <a:pt x="2189" y="44"/>
                  </a:cubicBezTo>
                  <a:cubicBezTo>
                    <a:pt x="2139" y="16"/>
                    <a:pt x="2111" y="0"/>
                    <a:pt x="2033" y="50"/>
                  </a:cubicBezTo>
                  <a:cubicBezTo>
                    <a:pt x="1954" y="100"/>
                    <a:pt x="1881" y="149"/>
                    <a:pt x="1718" y="344"/>
                  </a:cubicBezTo>
                  <a:cubicBezTo>
                    <a:pt x="1555" y="539"/>
                    <a:pt x="1220" y="1016"/>
                    <a:pt x="1057" y="1219"/>
                  </a:cubicBezTo>
                  <a:cubicBezTo>
                    <a:pt x="894" y="1422"/>
                    <a:pt x="826" y="1478"/>
                    <a:pt x="737" y="1563"/>
                  </a:cubicBezTo>
                  <a:cubicBezTo>
                    <a:pt x="647" y="1648"/>
                    <a:pt x="588" y="1685"/>
                    <a:pt x="518" y="1730"/>
                  </a:cubicBezTo>
                  <a:cubicBezTo>
                    <a:pt x="447" y="1775"/>
                    <a:pt x="380" y="1803"/>
                    <a:pt x="318" y="1830"/>
                  </a:cubicBezTo>
                  <a:cubicBezTo>
                    <a:pt x="256" y="1857"/>
                    <a:pt x="196" y="1879"/>
                    <a:pt x="143" y="1894"/>
                  </a:cubicBezTo>
                  <a:cubicBezTo>
                    <a:pt x="90" y="1909"/>
                    <a:pt x="45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2640" y="1644480"/>
              <a:ext cx="5000760" cy="339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59120" y="4502160"/>
              <a:ext cx="3402000" cy="426960"/>
            </a:xfrm>
            <a:custGeom>
              <a:avLst/>
              <a:gdLst/>
              <a:ahLst/>
              <a:rect l="l" t="t" r="r" b="b"/>
              <a:pathLst>
                <a:path w="2143" h="269">
                  <a:moveTo>
                    <a:pt x="0" y="269"/>
                  </a:moveTo>
                  <a:cubicBezTo>
                    <a:pt x="133" y="256"/>
                    <a:pt x="269" y="230"/>
                    <a:pt x="456" y="193"/>
                  </a:cubicBezTo>
                  <a:cubicBezTo>
                    <a:pt x="643" y="156"/>
                    <a:pt x="943" y="77"/>
                    <a:pt x="1120" y="45"/>
                  </a:cubicBezTo>
                  <a:cubicBezTo>
                    <a:pt x="1297" y="13"/>
                    <a:pt x="1401" y="2"/>
                    <a:pt x="1516" y="1"/>
                  </a:cubicBezTo>
                  <a:cubicBezTo>
                    <a:pt x="1631" y="0"/>
                    <a:pt x="1727" y="21"/>
                    <a:pt x="1812" y="41"/>
                  </a:cubicBezTo>
                  <a:cubicBezTo>
                    <a:pt x="1897" y="61"/>
                    <a:pt x="1969" y="98"/>
                    <a:pt x="2024" y="121"/>
                  </a:cubicBezTo>
                  <a:cubicBezTo>
                    <a:pt x="2079" y="144"/>
                    <a:pt x="2118" y="166"/>
                    <a:pt x="2143" y="1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9120" y="1770120"/>
              <a:ext cx="3687480" cy="3051000"/>
            </a:xfrm>
            <a:custGeom>
              <a:avLst/>
              <a:gdLst/>
              <a:ahLst/>
              <a:rect l="l" t="t" r="r" b="b"/>
              <a:pathLst>
                <a:path w="2323" h="1922">
                  <a:moveTo>
                    <a:pt x="2323" y="247"/>
                  </a:moveTo>
                  <a:cubicBezTo>
                    <a:pt x="2295" y="213"/>
                    <a:pt x="2203" y="77"/>
                    <a:pt x="2148" y="44"/>
                  </a:cubicBezTo>
                  <a:cubicBezTo>
                    <a:pt x="2093" y="11"/>
                    <a:pt x="2072" y="0"/>
                    <a:pt x="1995" y="50"/>
                  </a:cubicBezTo>
                  <a:cubicBezTo>
                    <a:pt x="1918" y="100"/>
                    <a:pt x="1846" y="149"/>
                    <a:pt x="1686" y="344"/>
                  </a:cubicBezTo>
                  <a:cubicBezTo>
                    <a:pt x="1526" y="539"/>
                    <a:pt x="1197" y="1016"/>
                    <a:pt x="1037" y="1219"/>
                  </a:cubicBezTo>
                  <a:cubicBezTo>
                    <a:pt x="877" y="1422"/>
                    <a:pt x="811" y="1478"/>
                    <a:pt x="723" y="1563"/>
                  </a:cubicBezTo>
                  <a:cubicBezTo>
                    <a:pt x="635" y="1648"/>
                    <a:pt x="577" y="1685"/>
                    <a:pt x="508" y="1730"/>
                  </a:cubicBezTo>
                  <a:cubicBezTo>
                    <a:pt x="439" y="1775"/>
                    <a:pt x="373" y="1803"/>
                    <a:pt x="312" y="1830"/>
                  </a:cubicBezTo>
                  <a:cubicBezTo>
                    <a:pt x="251" y="1857"/>
                    <a:pt x="192" y="1879"/>
                    <a:pt x="140" y="1894"/>
                  </a:cubicBezTo>
                  <a:cubicBezTo>
                    <a:pt x="88" y="1909"/>
                    <a:pt x="44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9120" y="2496960"/>
              <a:ext cx="3713040" cy="2332080"/>
            </a:xfrm>
            <a:custGeom>
              <a:avLst/>
              <a:gdLst/>
              <a:ahLst/>
              <a:rect l="l" t="t" r="r" b="b"/>
              <a:pathLst>
                <a:path w="2339" h="1469">
                  <a:moveTo>
                    <a:pt x="2339" y="161"/>
                  </a:moveTo>
                  <a:cubicBezTo>
                    <a:pt x="2315" y="138"/>
                    <a:pt x="2254" y="45"/>
                    <a:pt x="2195" y="25"/>
                  </a:cubicBezTo>
                  <a:cubicBezTo>
                    <a:pt x="2136" y="5"/>
                    <a:pt x="2076" y="0"/>
                    <a:pt x="1984" y="40"/>
                  </a:cubicBezTo>
                  <a:cubicBezTo>
                    <a:pt x="1892" y="80"/>
                    <a:pt x="1808" y="117"/>
                    <a:pt x="1644" y="264"/>
                  </a:cubicBezTo>
                  <a:cubicBezTo>
                    <a:pt x="1480" y="411"/>
                    <a:pt x="1153" y="771"/>
                    <a:pt x="1000" y="920"/>
                  </a:cubicBezTo>
                  <a:cubicBezTo>
                    <a:pt x="847" y="1069"/>
                    <a:pt x="806" y="1092"/>
                    <a:pt x="724" y="1157"/>
                  </a:cubicBezTo>
                  <a:cubicBezTo>
                    <a:pt x="642" y="1221"/>
                    <a:pt x="577" y="1266"/>
                    <a:pt x="508" y="1304"/>
                  </a:cubicBezTo>
                  <a:cubicBezTo>
                    <a:pt x="439" y="1343"/>
                    <a:pt x="373" y="1367"/>
                    <a:pt x="312" y="1390"/>
                  </a:cubicBezTo>
                  <a:cubicBezTo>
                    <a:pt x="251" y="1413"/>
                    <a:pt x="192" y="1432"/>
                    <a:pt x="140" y="1445"/>
                  </a:cubicBezTo>
                  <a:cubicBezTo>
                    <a:pt x="88" y="1458"/>
                    <a:pt x="44" y="1463"/>
                    <a:pt x="0" y="146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5240" y="4044960"/>
              <a:ext cx="3357720" cy="878040"/>
            </a:xfrm>
            <a:custGeom>
              <a:avLst/>
              <a:gdLst/>
              <a:ahLst/>
              <a:rect l="l" t="t" r="r" b="b"/>
              <a:pathLst>
                <a:path w="2115" h="553">
                  <a:moveTo>
                    <a:pt x="0" y="553"/>
                  </a:moveTo>
                  <a:cubicBezTo>
                    <a:pt x="62" y="542"/>
                    <a:pt x="223" y="524"/>
                    <a:pt x="375" y="486"/>
                  </a:cubicBezTo>
                  <a:cubicBezTo>
                    <a:pt x="527" y="448"/>
                    <a:pt x="764" y="375"/>
                    <a:pt x="911" y="326"/>
                  </a:cubicBezTo>
                  <a:cubicBezTo>
                    <a:pt x="1058" y="277"/>
                    <a:pt x="1131" y="241"/>
                    <a:pt x="1259" y="194"/>
                  </a:cubicBezTo>
                  <a:cubicBezTo>
                    <a:pt x="1387" y="147"/>
                    <a:pt x="1564" y="78"/>
                    <a:pt x="1679" y="46"/>
                  </a:cubicBezTo>
                  <a:cubicBezTo>
                    <a:pt x="1794" y="14"/>
                    <a:pt x="1878" y="0"/>
                    <a:pt x="1951" y="2"/>
                  </a:cubicBezTo>
                  <a:cubicBezTo>
                    <a:pt x="2024" y="4"/>
                    <a:pt x="2081" y="46"/>
                    <a:pt x="2115" y="58"/>
                  </a:cubicBezTo>
                </a:path>
              </a:pathLst>
            </a:custGeom>
            <a:noFill/>
            <a:ln w="3816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9160" y="4898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4560" y="45007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4560" y="4103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54560" y="37051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57360" y="330660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7360" y="289548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7360" y="249696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57360" y="210024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57360" y="170172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98920" y="5110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5204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26760" y="51102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4920" y="51102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84320" y="5383080"/>
              <a:ext cx="301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Ic (mA) for Minimum We and Le = 1</a:t>
              </a:r>
              <a:r>
                <a:rPr b="1" lang="el-GR" sz="1600" spc="-1" strike="noStrike">
                  <a:solidFill>
                    <a:srgbClr val="800000"/>
                  </a:solidFill>
                  <a:latin typeface="Arial Narrow"/>
                </a:rPr>
                <a:t>μ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6040" y="3209760"/>
              <a:ext cx="444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(G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62000" y="1820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62000" y="22114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6179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2000" y="30243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56724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17212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62000" y="34304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2000" y="38242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2000" y="42242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62000" y="46306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3240" y="1811160"/>
              <a:ext cx="10234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2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C13H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4800" y="2478240"/>
              <a:ext cx="8236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8µm</a:t>
              </a:r>
              <a:br>
                <a:rPr sz="1800"/>
              </a:b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3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2080" y="1757520"/>
              <a:ext cx="323640" cy="22809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59400 h 2280960"/>
                <a:gd name="textAreaBottom" fmla="*/ 222156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8168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3280" y="4290840"/>
              <a:ext cx="9108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35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/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2080" y="4075200"/>
              <a:ext cx="323640" cy="9633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47160 h 963360"/>
                <a:gd name="textAreaBottom" fmla="*/ 916200 h 9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1"/>
                    <a:pt x="10800" y="3381"/>
                  </a:cubicBezTo>
                  <a:lnTo>
                    <a:pt x="10800" y="7434"/>
                  </a:lnTo>
                  <a:cubicBezTo>
                    <a:pt x="10800" y="9125"/>
                    <a:pt x="16200" y="10815"/>
                    <a:pt x="21600" y="10815"/>
                  </a:cubicBezTo>
                  <a:cubicBezTo>
                    <a:pt x="16200" y="10815"/>
                    <a:pt x="10800" y="12506"/>
                    <a:pt x="10800" y="14196"/>
                  </a:cubicBezTo>
                  <a:lnTo>
                    <a:pt x="10800" y="18219"/>
                  </a:lnTo>
                  <a:cubicBezTo>
                    <a:pt x="10800" y="1991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2880" y="2558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58600" y="398088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S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3800" y="3614760"/>
              <a:ext cx="3568680" cy="1284120"/>
            </a:xfrm>
            <a:custGeom>
              <a:avLst/>
              <a:gdLst/>
              <a:ahLst/>
              <a:rect l="l" t="t" r="r" b="b"/>
              <a:pathLst>
                <a:path w="2248" h="809">
                  <a:moveTo>
                    <a:pt x="2248" y="113"/>
                  </a:moveTo>
                  <a:cubicBezTo>
                    <a:pt x="2225" y="96"/>
                    <a:pt x="2171" y="32"/>
                    <a:pt x="2108" y="17"/>
                  </a:cubicBezTo>
                  <a:cubicBezTo>
                    <a:pt x="2045" y="2"/>
                    <a:pt x="1959" y="0"/>
                    <a:pt x="1868" y="21"/>
                  </a:cubicBezTo>
                  <a:cubicBezTo>
                    <a:pt x="1777" y="42"/>
                    <a:pt x="1661" y="94"/>
                    <a:pt x="1560" y="141"/>
                  </a:cubicBezTo>
                  <a:cubicBezTo>
                    <a:pt x="1459" y="188"/>
                    <a:pt x="1388" y="236"/>
                    <a:pt x="1264" y="305"/>
                  </a:cubicBezTo>
                  <a:cubicBezTo>
                    <a:pt x="1140" y="374"/>
                    <a:pt x="946" y="487"/>
                    <a:pt x="816" y="553"/>
                  </a:cubicBezTo>
                  <a:cubicBezTo>
                    <a:pt x="686" y="619"/>
                    <a:pt x="573" y="666"/>
                    <a:pt x="484" y="701"/>
                  </a:cubicBezTo>
                  <a:cubicBezTo>
                    <a:pt x="395" y="736"/>
                    <a:pt x="344" y="746"/>
                    <a:pt x="284" y="761"/>
                  </a:cubicBezTo>
                  <a:cubicBezTo>
                    <a:pt x="224" y="776"/>
                    <a:pt x="171" y="785"/>
                    <a:pt x="124" y="793"/>
                  </a:cubicBezTo>
                  <a:cubicBezTo>
                    <a:pt x="77" y="801"/>
                    <a:pt x="26" y="806"/>
                    <a:pt x="0" y="80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7040" y="46094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 Narrow"/>
                </a:rPr>
                <a:t>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87560" y="36075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L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62080" y="1279440"/>
            <a:ext cx="8648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2200" y="564840"/>
            <a:ext cx="676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35µm SiGe (SBC35: 62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522360" y="1557360"/>
            <a:ext cx="808992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35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35µm CMOS with High Performance S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27320" y="3125880"/>
            <a:ext cx="4578480" cy="276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086360" y="3602160"/>
          <a:ext cx="2760480" cy="90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3602160"/>
                    <a:ext cx="27604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4668120" y="31734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2360" y="6100920"/>
            <a:ext cx="8669520" cy="495000"/>
            <a:chOff x="252360" y="6100920"/>
            <a:chExt cx="8669520" cy="495000"/>
          </a:xfrm>
        </p:grpSpPr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252360" y="6100920"/>
              <a:ext cx="866952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348920" y="6140520"/>
              <a:ext cx="65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0.35µm Cost Effective, High Performance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1480" y="3125880"/>
            <a:ext cx="3470400" cy="276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33240" y="3598920"/>
          <a:ext cx="3159360" cy="205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240" y="3598920"/>
                    <a:ext cx="3159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963720" y="31496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71440" y="1241280"/>
            <a:ext cx="8659800" cy="533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596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8µm SiGe (SBC18: 155 and 200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393920"/>
            <a:ext cx="805320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8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8µm CMOS with High Performance SiGe (155GHz and 200GHz 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7040" y="2852640"/>
            <a:ext cx="4495680" cy="316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184640" y="3457440"/>
          <a:ext cx="4267080" cy="12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4640" y="3457440"/>
                    <a:ext cx="42670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404600" y="30258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66760" y="6100920"/>
            <a:ext cx="8669160" cy="495000"/>
            <a:chOff x="266760" y="6100920"/>
            <a:chExt cx="8669160" cy="4950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266760" y="6100920"/>
              <a:ext cx="866916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80160" y="6140520"/>
              <a:ext cx="832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(155 and 200GHz), Feature Rich, 0.18µm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65120" y="2860560"/>
            <a:ext cx="3506760" cy="316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93720" y="3441600"/>
          <a:ext cx="3032280" cy="2210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720" y="3441600"/>
                    <a:ext cx="3032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955800" y="300348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L13: 90GH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527840" y="6141960"/>
              <a:ext cx="612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Cost Effective 0.13µm SiGe BiCMOS for RF and Analog S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84280" y="1379520"/>
            <a:ext cx="7978680" cy="4406760"/>
            <a:chOff x="584280" y="1379520"/>
            <a:chExt cx="7978680" cy="4406760"/>
          </a:xfrm>
        </p:grpSpPr>
        <p:sp>
          <p:nvSpPr>
            <p:cNvPr id="406" name=""/>
            <p:cNvSpPr/>
            <p:nvPr/>
          </p:nvSpPr>
          <p:spPr>
            <a:xfrm>
              <a:off x="584280" y="1379520"/>
              <a:ext cx="7978680" cy="1656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0.13µm SiGe BiCMOS with same layer count as Cu-based 0.13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m RF C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0.13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 CMOS front-end with a low-cost Aluminum back-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00+ GHz Fmax NPN transistors (High Speed and Standar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igh Voltage (6V BVceo) NPN transistor available with 1 mask ad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sign Kit avail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97440" y="3154320"/>
              <a:ext cx="4562280" cy="1352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8" name=""/>
            <p:cNvGraphicFramePr/>
            <p:nvPr/>
          </p:nvGraphicFramePr>
          <p:xfrm>
            <a:off x="4076640" y="3530520"/>
            <a:ext cx="4407120" cy="887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76640" y="3530520"/>
                      <a:ext cx="440712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0" name=""/>
            <p:cNvSpPr/>
            <p:nvPr/>
          </p:nvSpPr>
          <p:spPr>
            <a:xfrm>
              <a:off x="4774680" y="3154320"/>
              <a:ext cx="30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SiGe NPN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2200" y="3154320"/>
              <a:ext cx="3206520" cy="2631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7520" y="3162240"/>
              <a:ext cx="31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RF CMOS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52000" y="3551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A13H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20" y="3772080"/>
              <a:ext cx="25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d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14280" y="3772080"/>
              <a:ext cx="41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1.2/3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14560" y="37720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480" y="399096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Native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8000" y="397188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480" y="4211640"/>
              <a:ext cx="72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Deep Nw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0920" y="4211640"/>
              <a:ext cx="54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vailab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8840" y="4430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000" y="441180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14560" y="44308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20" y="4651200"/>
              <a:ext cx="55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IM Ca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200" y="4651200"/>
              <a:ext cx="18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5.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25000" y="46512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fF/µm</a:t>
              </a:r>
              <a:r>
                <a:rPr b="1" lang="en-US" sz="13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480" y="487188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4640" y="4871880"/>
              <a:ext cx="22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14560" y="4871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840" y="5091120"/>
              <a:ext cx="473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8000" y="507204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4560" y="509112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120" y="5311800"/>
              <a:ext cx="81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etal Lay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240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1456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#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120" y="5530680"/>
              <a:ext cx="63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op Me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2400" y="553068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20680" y="5521320"/>
              <a:ext cx="2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µ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9960" y="353844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9960" y="353844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960" y="37591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9960" y="37591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960" y="397836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960" y="39783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9960" y="41990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960" y="419904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960" y="44179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9960" y="44179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9960" y="463860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9960" y="46386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9960" y="48578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9960" y="4857840"/>
              <a:ext cx="303192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60" y="507852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9960" y="507852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9960" y="529920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9960" y="52992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9960" y="551808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60" y="551808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960" y="573876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9960" y="57387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996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996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428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428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7640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7640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0188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0188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1640" y="1539720"/>
            <a:ext cx="793764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3µm SiGe BiCMOS: High Performanc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3µm CMOS front-end with a low-cost Aluminum 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0GHz Ft/Fmax NPN tran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Kit Availability Q1 ‘0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3309840"/>
            <a:ext cx="3083040" cy="260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706320" y="3693960"/>
          <a:ext cx="3044880" cy="22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693960"/>
                    <a:ext cx="304488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96600" y="33177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 RF CMO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81320" y="3308400"/>
            <a:ext cx="4562640" cy="14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478400" y="3741840"/>
          <a:ext cx="3733560" cy="88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8400" y="3741840"/>
                    <a:ext cx="373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4591800" y="33400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H2 SiGe NP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C13: 200GHz F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83" name="" descr=""/>
            <p:cNvPicPr/>
            <p:nvPr/>
          </p:nvPicPr>
          <p:blipFill>
            <a:blip r:embed="rId5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498040" y="6141960"/>
              <a:ext cx="41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0.13µm SiGe BiC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6:40:24Z</dcterms:created>
  <dc:creator>Jessica McNaughton</dc:creator>
  <dc:description/>
  <dc:language>en-US</dc:language>
  <cp:lastModifiedBy>tabberc</cp:lastModifiedBy>
  <dcterms:modified xsi:type="dcterms:W3CDTF">2007-01-30T13:33:45Z</dcterms:modified>
  <cp:revision>423</cp:revision>
  <dc:subject/>
  <dc:title>Jazz NDA Allslides</dc:title>
</cp:coreProperties>
</file>