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B79-43A5-4AD8-AB9E-3693ACB6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5FC-1533-4A45-A72F-29FCD7BE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B95-5BF3-4480-8E95-B6FE0DE9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DA4-F60B-432F-B3A5-D74F0BD6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9FA7-7BBA-4AB8-90C6-B749AC78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C90C-7FBB-4BED-A7D9-709E7B68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D1BB-59D8-4077-BCE0-EB60FBB8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C692-6D92-4E60-BF94-BBD0A64B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0CF8-0376-4462-AD9B-AF142234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BCBC-0657-48F2-987C-5EF4344E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D9CA-D6A9-4756-A9AE-A0035082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CE6-313C-4501-8106-CF25DA37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3F0F-B8DE-403F-B1E6-77D4539A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CAD8-80D3-48FB-A1DE-2BACA13C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9255-DFCA-44D8-89C6-D3870802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7C8D-0C91-42EE-BCFD-820E01A7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818B-CAC0-4193-80FD-7B24B4F7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236-830D-48CF-A867-7A9696D9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FD3-7FD0-4944-9B0A-D2B1E212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CFA-A88C-49B4-8FEB-62C276E9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250-49C0-4E4F-9349-AC8C7B91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E4D-7C19-44EB-BD25-BC5C7CF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C7A-70A2-442E-B973-4D0F3450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7CB-1BD3-4FEB-8DC9-FCFB8021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86DD3F-3746-4792-8B79-C5E9DB3991F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4B2EB0-52F2-4CB5-AD83-56A8C09DC0D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xer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db compression point,gain 15db and NF 16.4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76216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ombined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00280" y="1542960"/>
            <a:ext cx="5743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704960" y="1528920"/>
            <a:ext cx="5733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695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7621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57909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09480" y="1585440"/>
            <a:ext cx="56862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686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-Vce cur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57200" y="1052280"/>
            <a:ext cx="5695560" cy="31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724000" cy="37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096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733400" y="1533600"/>
            <a:ext cx="5676480" cy="37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728720" y="1467000"/>
            <a:ext cx="5686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676520" y="1977120"/>
            <a:ext cx="57909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704960" y="1991520"/>
            <a:ext cx="573372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695600" y="1523880"/>
            <a:ext cx="575280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noise:there are two type of noise:low frequency no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frequency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describe High frequncy noise sour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757520" y="590400"/>
            <a:ext cx="5628960" cy="56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NF=17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76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6862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8291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is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876560" cy="440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819320" cy="41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% decrease in switch base resistance,34% decrease in RF input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4819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800600" y="76320"/>
            <a:ext cx="4037040" cy="19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4857480" cy="45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ter at switch  in 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46861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07620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-52560" y="685800"/>
            <a:ext cx="4695480" cy="4352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609800" cy="4428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1675800" y="5118480"/>
            <a:ext cx="11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6029640" y="5105520"/>
            <a:ext cx="144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676520" y="1557360"/>
            <a:ext cx="579096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Gain=6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581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 ac 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738440" y="1562040"/>
            <a:ext cx="566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43000" cy="3876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4622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3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3962520" y="218160"/>
            <a:ext cx="5038200" cy="3857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60746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6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181480" y="1157760"/>
            <a:ext cx="4857480" cy="4114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28600" y="1168920"/>
            <a:ext cx="4819320" cy="41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19320" y="1590120"/>
            <a:ext cx="56764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2520" y="304920"/>
            <a:ext cx="7372080" cy="368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7210080" cy="3295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4962600" y="762120"/>
            <a:ext cx="5562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85840" y="76320"/>
            <a:ext cx="885780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 94G V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4308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695600" y="1566720"/>
            <a:ext cx="57528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890720" y="1938240"/>
            <a:ext cx="536220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4828680" cy="46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-correlated,NF=18.9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667120" cy="36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2320" y="-15480"/>
            <a:ext cx="51051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put 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57812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output of bj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75280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on 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647720" y="1400040"/>
            <a:ext cx="58478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713600" y="2133720"/>
            <a:ext cx="57337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tage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62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81200" y="1752480"/>
            <a:ext cx="578124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cur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660680" y="1828800"/>
            <a:ext cx="5771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G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45040" cy="2371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952880" y="1613160"/>
            <a:ext cx="3981240" cy="24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488840" cy="27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90720" y="1604880"/>
            <a:ext cx="57146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1120" y="1504800"/>
            <a:ext cx="90925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560" cy="54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1403280"/>
            <a:ext cx="7257600" cy="43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001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00040" y="1095480"/>
            <a:ext cx="6343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24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28600" y="1645920"/>
            <a:ext cx="86101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33360" y="990720"/>
            <a:ext cx="84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66720" y="1181160"/>
            <a:ext cx="7810200" cy="44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523800" y="743040"/>
            <a:ext cx="8096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correlated,N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3880" y="1590840"/>
            <a:ext cx="573372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52320" y="1200240"/>
            <a:ext cx="7838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171840" cy="37008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755720" y="2133720"/>
            <a:ext cx="59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5862600" y="5024880"/>
            <a:ext cx="559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972000" y="3631680"/>
            <a:ext cx="629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6321600" y="3267360"/>
            <a:ext cx="78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F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imp 50/3,transconductor noise are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557360"/>
            <a:ext cx="568620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ransconductor only,Zin=50,NF=20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7052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28</TotalTime>
  <Application>LibreOffice/7.4.7.2$Linux_X86_64 LibreOffice_project/40$Build-2</Application>
  <AppVersion>15.0000</AppVersion>
  <Words>185</Words>
  <Paragraphs>5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1:34Z</dcterms:created>
  <dc:creator>wml11</dc:creator>
  <dc:description/>
  <dc:language>en-US</dc:language>
  <cp:lastModifiedBy>wml11</cp:lastModifiedBy>
  <dcterms:modified xsi:type="dcterms:W3CDTF">2013-05-27T16:15:21Z</dcterms:modified>
  <cp:revision>70</cp:revision>
  <dc:subject/>
  <dc:title>Mixer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1</vt:r8>
  </property>
</Properties>
</file>