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5F6-5141-41A7-871C-B8725029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B71-8E96-4100-B944-F72C0D75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A4E-0069-4BC0-B149-AB79806E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486-8EAB-4BBE-96C3-D29B34EB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4F7-E3F5-410F-BABE-6E2CF294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3BD8-445C-42BD-8F72-B64E92D9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36CB-BBE3-4BA9-8FC0-030BF7A7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C00D-C43C-4B52-BBD4-A4139AB7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39F1-044F-4CD5-A21C-913D9B41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2DD2-AB3C-4682-AC68-563CBF8F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3AE0-1152-4C6E-924E-372CA1E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5B6-E98E-414B-81DC-C095185F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963F-5DCE-4230-A9ED-E04D4B83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AFA7-16A1-4514-A193-364558C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FBCF-B23F-460B-B4F3-0483AD58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B9FF-EEEA-44D0-8B73-A157AFFD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7BF-8F3E-4278-8811-87BCF863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B89-B114-44FC-A348-1E7FD970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A46-F236-466D-A646-D7A1D89B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6EF-E6BA-4433-9D68-89501DDB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FCF-6F1A-4BE3-B098-8B8B06C8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671-A149-4D83-A07A-C49DAD1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C19-F3F2-4A49-AE08-72F52E82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DFF-F733-4DC4-931C-68C0358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95CDD3-7B66-4195-A75E-E8887C4086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35BA7A-E48D-424E-A314-F9383E1CEE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er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db compression point,gain 15db and NF 16.4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76216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ombined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00280" y="1542960"/>
            <a:ext cx="5743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04960" y="1528920"/>
            <a:ext cx="5733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695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7621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90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09480" y="1585440"/>
            <a:ext cx="56862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686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-Vce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57200" y="1052280"/>
            <a:ext cx="5695560" cy="31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72400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096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33400" y="1533600"/>
            <a:ext cx="567648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28720" y="1467000"/>
            <a:ext cx="5686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76520" y="1977120"/>
            <a:ext cx="57909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704960" y="1991520"/>
            <a:ext cx="573372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95600" y="1523880"/>
            <a:ext cx="575280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noise:there are two type of noise:low frequency no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frequency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describe High frequncy noise sour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57520" y="590400"/>
            <a:ext cx="5628960" cy="56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NF=17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86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829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876560" cy="44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819320" cy="41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% decrease in switch base resistance,34% decrease in RF input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4819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76320"/>
            <a:ext cx="4037040" cy="19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857480" cy="45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 at switch  in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6861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076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52560" y="685800"/>
            <a:ext cx="4695480" cy="43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609800" cy="4428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675800" y="511848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029640" y="5105520"/>
            <a:ext cx="144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557360"/>
            <a:ext cx="5790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Gain=6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58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 ac 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738440" y="1562040"/>
            <a:ext cx="566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4300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4622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3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962520" y="218160"/>
            <a:ext cx="5038200" cy="3857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60746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6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181480" y="1157760"/>
            <a:ext cx="4857480" cy="4114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" y="1168920"/>
            <a:ext cx="48193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9320" y="1590120"/>
            <a:ext cx="56764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2520" y="304920"/>
            <a:ext cx="7372080" cy="368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210080" cy="329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962600" y="762120"/>
            <a:ext cx="5562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76320"/>
            <a:ext cx="88578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 94G V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4308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695600" y="1566720"/>
            <a:ext cx="57528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90720" y="1938240"/>
            <a:ext cx="53622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4828680" cy="46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-correlated,NF=18.9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66712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320" y="-15480"/>
            <a:ext cx="5105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7812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utput of bj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5280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on 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47720" y="1400040"/>
            <a:ext cx="58478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713600" y="2133720"/>
            <a:ext cx="5733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ge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62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78124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60680" y="1828800"/>
            <a:ext cx="5771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G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45040" cy="23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952880" y="1613160"/>
            <a:ext cx="3981240" cy="24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88840" cy="27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604880"/>
            <a:ext cx="5714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1120" y="1504800"/>
            <a:ext cx="90925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560" cy="54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1403280"/>
            <a:ext cx="725760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001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00040" y="1095480"/>
            <a:ext cx="6343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24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8600" y="1645920"/>
            <a:ext cx="8610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3360" y="990720"/>
            <a:ext cx="84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6720" y="1181160"/>
            <a:ext cx="781020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23800" y="743040"/>
            <a:ext cx="809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correlated,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590840"/>
            <a:ext cx="57337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7838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171840" cy="37008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755720" y="2133720"/>
            <a:ext cx="59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5862600" y="5024880"/>
            <a:ext cx="559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972000" y="3631680"/>
            <a:ext cx="629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6321600" y="3267360"/>
            <a:ext cx="78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F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imp 50/3,transconductor noise are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568620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ransconductor only,Zin=50,NF=20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705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8</TotalTime>
  <Application>LibreOffice/7.4.7.2$Linux_X86_64 LibreOffice_project/40$Build-2</Application>
  <AppVersion>15.0000</AppVersion>
  <Words>185</Words>
  <Paragraphs>5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1:34Z</dcterms:created>
  <dc:creator>wml11</dc:creator>
  <dc:description/>
  <dc:language>en-US</dc:language>
  <cp:lastModifiedBy>wml11</cp:lastModifiedBy>
  <dcterms:modified xsi:type="dcterms:W3CDTF">2013-05-27T16:15:21Z</dcterms:modified>
  <cp:revision>70</cp:revision>
  <dc:subject/>
  <dc:title>Mixer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1</vt:r8>
  </property>
</Properties>
</file>