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389-BA7D-4524-BF33-FE559D9D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DCA-DF15-4811-8BDB-4437242E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D2B-EDDD-440D-BC1B-E6054D71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0DB-AED8-49ED-B468-32FEFAC9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47C-E583-4734-9D71-5FCEF685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608D-D1AC-478B-8340-20A3569E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AA5-F392-4A69-865C-980EA7AC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F677-95AB-4A50-AF82-6269468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89B-6B18-4A3B-9B2E-7D0E12A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B75A-AA45-461F-B9EE-22AC998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99F-EB06-49B7-A2A0-DFACF30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C41-4FAF-43E8-AF87-A5338F77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599-F0DE-494E-BF36-DCB9033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BA75-0198-4931-B777-BA447D6D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5959-D334-4C40-B392-75466296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A708-F143-49C9-A426-9EE995F6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F87E-5D98-435B-9898-CEAECE6D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9C8-9376-4597-ADD5-CAAC9D24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51C-2B7C-4C8D-8E20-E6E25BC6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C53-4E71-4B85-B465-3EB75E3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C43-C823-4434-9E8B-4EFD137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434-D8DA-42B0-BE3D-656084F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74A-8F4F-4A21-965B-98A4DB4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E7B-3F27-4C1B-9F59-5439BCD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47D5C8-77AD-4FDC-B2A3-D1EE34471C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D35701-6976-4A47-ACDF-3E798CED3E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8</TotalTime>
  <Application>LibreOffice/7.4.7.2$Linux_X86_64 LibreOffice_project/40$Build-2</Application>
  <AppVersion>15.0000</AppVersion>
  <Words>18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5:35:27Z</dcterms:modified>
  <cp:revision>68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0</vt:r8>
  </property>
</Properties>
</file>