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1FF-6521-4FC8-888B-3CDD4715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E56-1A9D-4262-A9CD-2CC7E22D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D02-5EFD-4B92-A110-B29494C1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EA8-E9B7-4CDB-B993-D3211DD0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251-034D-403A-8BE9-39ACFBBB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F6A2-6CD8-40CC-B646-449BBD92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AFA9-F70F-4206-94A4-5B9A5138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C12F-9D92-47DA-BA68-4ABFDA41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F846-96D9-46DC-B2EF-C0D9ED5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52A8-B193-4871-9E2E-E6E7ADB5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4D17-B118-46EC-8881-82086E7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158-80C4-4BA1-8EAA-7F3B97A4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7C68-4736-41B4-976D-577B4D19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02E7-A396-4EF1-A71A-CD4BD18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5002-C7BB-449F-BC60-35343BFE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A493-D9BB-4E3F-898C-511A448A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38DC-DA7E-499F-A1B6-B839E8FD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DB2-214A-4814-B0F6-2AFE1779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ED1-D01E-48EA-9E9B-C88AE155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AE9-D8BE-4D83-A4EE-9FC017C8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91A-E583-4E83-A50E-809829A3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46E-404F-4B5B-8A19-72E9D57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C8C-B0E8-4E84-A035-A67C99B7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ECC-B8FF-487A-8F2C-C927492F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D7A1F2-B2C4-4092-A8EB-8F2D47F3C65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D39C5F-E86C-46EF-9330-5B736C464A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er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db compression point,gain 15db and NF 16.4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76216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ombined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00280" y="1542960"/>
            <a:ext cx="5743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04960" y="1528920"/>
            <a:ext cx="5733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695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7621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90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09480" y="1585440"/>
            <a:ext cx="56862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686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-Vce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57200" y="1052280"/>
            <a:ext cx="5695560" cy="31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72400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096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33400" y="1533600"/>
            <a:ext cx="567648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28720" y="1467000"/>
            <a:ext cx="5686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76520" y="1977120"/>
            <a:ext cx="57909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704960" y="1991520"/>
            <a:ext cx="573372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95600" y="1523880"/>
            <a:ext cx="575280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noise:there are two type of noise:low frequency no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frequency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describe High frequncy noise sour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57520" y="590400"/>
            <a:ext cx="5628960" cy="56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NF=17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86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829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876560" cy="44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819320" cy="41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% decrease in switch base resistance,34% decrease in RF input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4819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76320"/>
            <a:ext cx="4037040" cy="19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857480" cy="45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 at switch  in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6861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076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52560" y="685800"/>
            <a:ext cx="4695480" cy="43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609800" cy="4428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675800" y="511848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029640" y="5105520"/>
            <a:ext cx="144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557360"/>
            <a:ext cx="5790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Gain=6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58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 ac 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738440" y="1562040"/>
            <a:ext cx="566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4300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4622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3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962520" y="218160"/>
            <a:ext cx="5038200" cy="3857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60746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6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181480" y="1157760"/>
            <a:ext cx="4857480" cy="4114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" y="1168920"/>
            <a:ext cx="48193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9320" y="1590120"/>
            <a:ext cx="56764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2520" y="304920"/>
            <a:ext cx="7372080" cy="368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210080" cy="329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962600" y="762120"/>
            <a:ext cx="5562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76320"/>
            <a:ext cx="88578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 94G V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4308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695600" y="1566720"/>
            <a:ext cx="57528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90720" y="1938240"/>
            <a:ext cx="53622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4828680" cy="46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-correlated,NF=18.9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66712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320" y="-15480"/>
            <a:ext cx="5105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7812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utput of bj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5280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on 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47720" y="1400040"/>
            <a:ext cx="58478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713600" y="2133720"/>
            <a:ext cx="5733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ge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62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78124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60680" y="1828800"/>
            <a:ext cx="5771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G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45040" cy="23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952880" y="1613160"/>
            <a:ext cx="3981240" cy="24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88840" cy="27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604880"/>
            <a:ext cx="5714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1120" y="1504800"/>
            <a:ext cx="90925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560" cy="54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1403280"/>
            <a:ext cx="725760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001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00040" y="1095480"/>
            <a:ext cx="6343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24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8600" y="1645920"/>
            <a:ext cx="8610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3360" y="990720"/>
            <a:ext cx="84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6720" y="1181160"/>
            <a:ext cx="781020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23800" y="743040"/>
            <a:ext cx="809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correlated,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590840"/>
            <a:ext cx="57337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7838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imp 50/3,transconductor noise are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568620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ransconductor only,Zin=50,NF=20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705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88</TotalTime>
  <Application>LibreOffice/7.4.7.2$Linux_X86_64 LibreOffice_project/40$Build-2</Application>
  <AppVersion>15.0000</AppVersion>
  <Words>181</Words>
  <Paragraphs>4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1:34Z</dcterms:created>
  <dc:creator>wml11</dc:creator>
  <dc:description/>
  <dc:language>en-US</dc:language>
  <cp:lastModifiedBy>wml11</cp:lastModifiedBy>
  <dcterms:modified xsi:type="dcterms:W3CDTF">2013-05-27T15:35:27Z</dcterms:modified>
  <cp:revision>68</cp:revision>
  <dc:subject/>
  <dc:title>Mixer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0</vt:r8>
  </property>
</Properties>
</file>